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21C-53D2-4805-ADC2-BBE0BC2A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9280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000" y="3407400"/>
            <a:ext cx="89280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1AB-1A1D-43CE-B682-795BB634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00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288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ED3-EF3E-4F20-AF5C-A12EBD49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6600" y="105228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5560" y="105228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000" y="340740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6600" y="340740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5560" y="340740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0E2-1A56-42E1-BDD0-5FB2426D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000" y="1052280"/>
            <a:ext cx="892800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CF3-BB34-41F9-A0BD-64579B98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9280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AB4-9B0E-471F-9A03-ACCA8A1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C65-A978-472B-97D3-AB910C59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065-2164-4D91-837D-CFECDC76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22960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609-5771-4648-8B6E-CCDD968C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00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BFB-350E-4F62-9467-6AD8D8AE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288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C85-55E6-4C02-A816-E6699CBC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000" y="3407400"/>
            <a:ext cx="89280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DCC-DDC6-4EEC-8622-8BC36CB9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1052280"/>
            <a:ext cx="89280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01B6-3953-4D5A-A861-8ED5D49047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2349360"/>
            <a:ext cx="7632720" cy="6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三单元知识归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76160" y="776160"/>
            <a:ext cx="75916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55280" y="1701720"/>
            <a:ext cx="777708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阴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阴沉昏暗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萧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荒凉、冷落的意思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聚族而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族各家聚在一处居住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愕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吃惊的样子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鄙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不起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嗤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讥笑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瑟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即瑟缩，身体因寒冷而蜷缩、发抖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寒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受冷或受惊而身体颤抖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905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26920" y="765000"/>
            <a:ext cx="7777440" cy="56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惘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心里好像失去了什么的样子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恣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放纵，放任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隔膜：彼此思想感情不相通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底：家里长期积累起来的财产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落千丈：形容地位、景况、声誉等下降得很厉害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置之不理：放在一边儿不理不睬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嬉闹：嬉笑打闹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撩逗：挑逗，招惹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000" y="765000"/>
            <a:ext cx="7777080" cy="56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胆怯：胆小，畏缩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歇斯底里：形容情绪异常激动，举止失常。文中是指暴风雨来势猛烈，超乎平常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仓皇：匆忙而慌张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驱除：赶走；除掉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拮据：手头紧，经济状况不好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日俱增：随着时间的推移而不断增长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十拿九稳：形容很有把握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褴褛：形容衣服破烂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4000" y="836640"/>
            <a:ext cx="77770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雅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言谈、举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温和有礼，不粗俗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煞白：面色极白，没有血色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张皇：惊慌，慌张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狼狈：形容困苦或受窘的样子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诧异：觉得十分奇怪、十分惊讶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郑重其事：形容对待事情非常严肃认真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栈桥：码头上延伸到海里的桥，供旅客上下船和装卸货物用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00000" y="620280"/>
            <a:ext cx="77774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莫名其妙：没有人能说明白它的奥妙，表示事情很奇怪，使人不明白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迟疑不决：形容拿不定主意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呵斥：大声斥责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斩钉截铁：形容处理事情或说话果断坚决，毫不犹豫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恍惚：神志不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神不集中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窘：感到为难；表现出窘态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妒忌：对才能、名誉、地位或境遇等比自己好的人心怀怨恨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55280" y="1701720"/>
            <a:ext cx="777708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容不迫：非常镇静、不慌不忙的样子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窸窸窣窣：拟声词，形容细小的摩擦声音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噎：抽搭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沙哑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嗓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音困难，声音低沉而不圆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39640" y="1449000"/>
            <a:ext cx="77774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鲁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881-1936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原名周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寿，后改为周树人，字豫才，浙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绍兴人。我国现代伟大的文学家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思想家、革命家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，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次以“鲁迅”为笔名发表了中国文学史上第一篇白话小说《狂人日记》。作品有小说集《呐喊》《彷徨》《故事新编》，散文集《朝花夕拾》，散文诗集《野草》，杂文集《热风》《坟》《二心集》《华盖集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777960"/>
            <a:ext cx="2743200" cy="819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56360" y="692280"/>
            <a:ext cx="24480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55280" y="1701360"/>
            <a:ext cx="7777080" cy="38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曹文轩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生于江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盐城农村。当代作家、儿童文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。著有长篇小说《山羊不吃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堂草》《草房子》《红瓦》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术性著作《中国八十年代文学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象研究》《面对微妙》《曹文轩文学论集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56360" y="1125360"/>
            <a:ext cx="24289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55280" y="1309680"/>
            <a:ext cx="777708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莫泊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850-189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纪后半期法国著名的批判现实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义作家，和俄国的契诃夫、美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亨利并称为世界三大短篇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巨匠。代表作有短篇小说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羊脂球》，长篇小说《一生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漂亮朋友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84720" y="1382760"/>
            <a:ext cx="2514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55280" y="1484280"/>
            <a:ext cx="777708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阴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huì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瓦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ɡ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ī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祭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sì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装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jiàng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bǐ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鹁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bógū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bì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间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è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鄙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yí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笑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sè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wǎng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寒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jìn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深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dà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chá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恣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zìsuī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脚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huá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zhā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潮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xùn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kē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chóu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伶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língdī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8573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55280" y="836640"/>
            <a:ext cx="77770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黄蓓佳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5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生于江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皋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开始文学创作，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表处女作《补考》，著有长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说《夜夜狂欢》，中篇儿童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《唱给妈妈的歌》，短篇小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在水边》等。已出版的作品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小船，小船》《芦花飘飞的时候》《请和我同行》《遥远的地方有一片海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84720" y="981000"/>
            <a:ext cx="2514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360" y="981000"/>
            <a:ext cx="820872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ì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liáo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胆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qiè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ū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仓皇逃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ｃ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ｃｈ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ō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狗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fè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juē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xī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闹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咀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jǔjué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tiào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肥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shuò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旧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chá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纯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cuì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zhà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桥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糟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à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牡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lì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阔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ｃｈ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shà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嘟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dūnɑng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chà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难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拮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jiéjū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褴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lánlǚ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55280" y="1413000"/>
            <a:ext cx="806436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流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máng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别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shù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狼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bèi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倒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mé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ē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契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ē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夫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huǎng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窸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xīsū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ｎ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zā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ɡ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jiǒnɡ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妒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dù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ì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dǎo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ē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毛毛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là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沙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yǎ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过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yǐn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tuò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quá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léng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角分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280" y="1701360"/>
            <a:ext cx="7777080" cy="647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2828880" cy="78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5640" y="1700280"/>
            <a:ext cx="72579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2440" y="1916280"/>
            <a:ext cx="8791560" cy="2076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6800" y="4148280"/>
            <a:ext cx="65055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020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55280" y="836280"/>
            <a:ext cx="777708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巧记提示：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蛋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ké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贝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ké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口语，书面语中读地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qiào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语义巧记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栅栏围个圆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quā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做成羊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juà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把羊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juā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起来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语境巧记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⑪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悄悄”叠用读作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qiāo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其余情况读作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qiǎo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语义巧记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⑫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观”指“道教的庙宇”及姓氏时读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uàn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除此之外都读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uān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语义巧记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353360" cy="4467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27050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03:14:41Z</dcterms:created>
  <dc:creator>微软用户</dc:creator>
  <dc:description/>
  <dc:language>en-US</dc:language>
  <cp:lastModifiedBy>Windows 用户</cp:lastModifiedBy>
  <dcterms:modified xsi:type="dcterms:W3CDTF">2018-02-08T06:34:59Z</dcterms:modified>
  <cp:revision>474</cp:revision>
  <dc:subject/>
  <dc:title>幻灯片 1</dc:title>
</cp:coreProperties>
</file>