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FE1-682E-4DEC-82B6-72FCAA13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CBA-41E0-4006-8B80-E0EEF0D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773-D87B-443F-8594-97282EAE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B5B-6D97-42F1-9514-9D07ECF4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510-1A64-4455-A5B5-1C2F942E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06C-D20D-4891-A8DA-173BEC96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C12-C0B5-4A2D-A62B-E1032F5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6B3-B075-4EE8-B33B-382B88D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1BC-B774-4DF6-82BB-7141A38F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BF9-EE04-411A-BF74-3F850A8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E98-32DA-4474-8ED4-520AA9C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47E-06C7-4ADC-8DEF-D1EBE0C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A477-298B-4B69-9791-15375F136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957240" y="3463920"/>
            <a:ext cx="72295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604800" y="1897200"/>
            <a:ext cx="7932600" cy="15332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"/>
          <p:cNvPicPr/>
          <p:nvPr/>
        </p:nvPicPr>
        <p:blipFill>
          <a:blip r:embed="rId3"/>
          <a:stretch/>
        </p:blipFill>
        <p:spPr>
          <a:xfrm>
            <a:off x="3089160" y="3522600"/>
            <a:ext cx="2629080" cy="1990800"/>
          </a:xfrm>
          <a:prstGeom prst="rect">
            <a:avLst/>
          </a:prstGeom>
          <a:ln w="0">
            <a:noFill/>
          </a:ln>
        </p:spPr>
      </p:pic>
      <p:sp>
        <p:nvSpPr>
          <p:cNvPr id="75" name="矩形 6"/>
          <p:cNvSpPr/>
          <p:nvPr/>
        </p:nvSpPr>
        <p:spPr>
          <a:xfrm>
            <a:off x="7174080" y="2914560"/>
            <a:ext cx="4428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768240" y="825480"/>
            <a:ext cx="7250400" cy="1282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"/>
          <p:cNvPicPr/>
          <p:nvPr/>
        </p:nvPicPr>
        <p:blipFill>
          <a:blip r:embed="rId3"/>
          <a:stretch/>
        </p:blipFill>
        <p:spPr>
          <a:xfrm>
            <a:off x="4000680" y="4037040"/>
            <a:ext cx="2303280" cy="22114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"/>
          <p:cNvPicPr/>
          <p:nvPr/>
        </p:nvPicPr>
        <p:blipFill>
          <a:blip r:embed="rId4"/>
          <a:stretch/>
        </p:blipFill>
        <p:spPr>
          <a:xfrm>
            <a:off x="1174680" y="2217600"/>
            <a:ext cx="6759720" cy="183204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4000680" y="3568680"/>
            <a:ext cx="7538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2"/>
          <a:stretch/>
        </p:blipFill>
        <p:spPr>
          <a:xfrm>
            <a:off x="2962440" y="770040"/>
            <a:ext cx="2304720" cy="221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" descr=""/>
          <p:cNvPicPr/>
          <p:nvPr/>
        </p:nvPicPr>
        <p:blipFill>
          <a:blip r:embed="rId3"/>
          <a:stretch/>
        </p:blipFill>
        <p:spPr>
          <a:xfrm>
            <a:off x="814320" y="3117960"/>
            <a:ext cx="7515360" cy="25416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814320" y="3117960"/>
            <a:ext cx="7515360" cy="29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2"/>
          <a:srcRect l="0" t="1723" r="0" b="0"/>
          <a:stretch/>
        </p:blipFill>
        <p:spPr>
          <a:xfrm>
            <a:off x="1344600" y="725400"/>
            <a:ext cx="6392880" cy="5583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3"/>
          <a:stretch/>
        </p:blipFill>
        <p:spPr>
          <a:xfrm>
            <a:off x="4921200" y="154476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1611360" y="4530600"/>
            <a:ext cx="630396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983280" y="3763800"/>
            <a:ext cx="4431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743040" y="839880"/>
            <a:ext cx="7942320" cy="3181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3"/>
          <a:stretch/>
        </p:blipFill>
        <p:spPr>
          <a:xfrm>
            <a:off x="3367080" y="4189320"/>
            <a:ext cx="240984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矩形 6"/>
          <p:cNvSpPr/>
          <p:nvPr/>
        </p:nvSpPr>
        <p:spPr>
          <a:xfrm>
            <a:off x="1806480" y="3479760"/>
            <a:ext cx="10000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tretch/>
        </p:blipFill>
        <p:spPr>
          <a:xfrm>
            <a:off x="625320" y="912960"/>
            <a:ext cx="789480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3"/>
          <a:stretch/>
        </p:blipFill>
        <p:spPr>
          <a:xfrm>
            <a:off x="2508120" y="3498840"/>
            <a:ext cx="4361040" cy="2009880"/>
          </a:xfrm>
          <a:prstGeom prst="rect">
            <a:avLst/>
          </a:prstGeom>
          <a:ln w="0">
            <a:noFill/>
          </a:ln>
        </p:spPr>
      </p:pic>
      <p:sp>
        <p:nvSpPr>
          <p:cNvPr id="92" name="矩形 6"/>
          <p:cNvSpPr/>
          <p:nvPr/>
        </p:nvSpPr>
        <p:spPr>
          <a:xfrm>
            <a:off x="6578640" y="2417760"/>
            <a:ext cx="7398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730080" y="884160"/>
            <a:ext cx="7434360" cy="2903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"/>
          <p:cNvPicPr/>
          <p:nvPr/>
        </p:nvPicPr>
        <p:blipFill>
          <a:blip r:embed="rId3"/>
          <a:stretch/>
        </p:blipFill>
        <p:spPr>
          <a:xfrm>
            <a:off x="1214280" y="3956040"/>
            <a:ext cx="1667160" cy="371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4"/>
          <a:stretch/>
        </p:blipFill>
        <p:spPr>
          <a:xfrm>
            <a:off x="2987640" y="4124160"/>
            <a:ext cx="33433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rcRect l="0" t="10078" r="0" b="0"/>
          <a:stretch/>
        </p:blipFill>
        <p:spPr>
          <a:xfrm>
            <a:off x="968400" y="1585800"/>
            <a:ext cx="7254720" cy="393696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68400" y="1585800"/>
            <a:ext cx="33084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1390680" y="2158920"/>
            <a:ext cx="11826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2573280" y="2158920"/>
            <a:ext cx="170352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1390680" y="2824200"/>
            <a:ext cx="280332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1390680" y="3998880"/>
            <a:ext cx="14922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882880" y="3998880"/>
            <a:ext cx="1843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4726080" y="3998880"/>
            <a:ext cx="161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6337440" y="3998880"/>
            <a:ext cx="18032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1390680" y="4711680"/>
            <a:ext cx="49467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0"/>
          <p:cNvSpPr/>
          <p:nvPr/>
        </p:nvSpPr>
        <p:spPr>
          <a:xfrm>
            <a:off x="1390680" y="5230800"/>
            <a:ext cx="37368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"/>
          <p:cNvPicPr/>
          <p:nvPr/>
        </p:nvPicPr>
        <p:blipFill>
          <a:blip r:embed="rId2"/>
          <a:stretch/>
        </p:blipFill>
        <p:spPr>
          <a:xfrm>
            <a:off x="495360" y="1833480"/>
            <a:ext cx="8153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2"/>
          <a:stretch/>
        </p:blipFill>
        <p:spPr>
          <a:xfrm>
            <a:off x="1063800" y="768240"/>
            <a:ext cx="6813360" cy="3799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"/>
          <p:cNvPicPr/>
          <p:nvPr/>
        </p:nvPicPr>
        <p:blipFill>
          <a:blip r:embed="rId3"/>
          <a:stretch/>
        </p:blipFill>
        <p:spPr>
          <a:xfrm>
            <a:off x="2338560" y="4424400"/>
            <a:ext cx="4670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614520" y="1600200"/>
            <a:ext cx="791352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矩形 6"/>
          <p:cNvSpPr/>
          <p:nvPr/>
        </p:nvSpPr>
        <p:spPr>
          <a:xfrm>
            <a:off x="7819920" y="4375080"/>
            <a:ext cx="5479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2"/>
          <a:stretch/>
        </p:blipFill>
        <p:spPr>
          <a:xfrm>
            <a:off x="1023840" y="781200"/>
            <a:ext cx="7175520" cy="33764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" descr=""/>
          <p:cNvPicPr/>
          <p:nvPr/>
        </p:nvPicPr>
        <p:blipFill>
          <a:blip r:embed="rId3"/>
          <a:stretch/>
        </p:blipFill>
        <p:spPr>
          <a:xfrm>
            <a:off x="2306520" y="4302000"/>
            <a:ext cx="455472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2"/>
          <a:stretch/>
        </p:blipFill>
        <p:spPr>
          <a:xfrm>
            <a:off x="2174760" y="625320"/>
            <a:ext cx="463896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3"/>
          <a:stretch/>
        </p:blipFill>
        <p:spPr>
          <a:xfrm>
            <a:off x="930240" y="2631960"/>
            <a:ext cx="7439040" cy="3579840"/>
          </a:xfrm>
          <a:prstGeom prst="rect">
            <a:avLst/>
          </a:prstGeom>
          <a:ln w="0">
            <a:noFill/>
          </a:ln>
        </p:spPr>
      </p:pic>
      <p:sp>
        <p:nvSpPr>
          <p:cNvPr id="114" name="矩形 6"/>
          <p:cNvSpPr/>
          <p:nvPr/>
        </p:nvSpPr>
        <p:spPr>
          <a:xfrm>
            <a:off x="930240" y="2631960"/>
            <a:ext cx="757404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378080" y="3701880"/>
            <a:ext cx="57322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1468440" y="4119480"/>
            <a:ext cx="36846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5153040" y="4121280"/>
            <a:ext cx="3216240" cy="7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468440" y="4959360"/>
            <a:ext cx="128412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2752560" y="5073480"/>
            <a:ext cx="210204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378080" y="5819760"/>
            <a:ext cx="4760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1054080" y="747720"/>
            <a:ext cx="6867720" cy="5535720"/>
          </a:xfrm>
          <a:prstGeom prst="rect">
            <a:avLst/>
          </a:prstGeom>
          <a:ln w="0">
            <a:noFill/>
          </a:ln>
        </p:spPr>
      </p:pic>
      <p:sp>
        <p:nvSpPr>
          <p:cNvPr id="46" name="矩形 6"/>
          <p:cNvSpPr/>
          <p:nvPr/>
        </p:nvSpPr>
        <p:spPr>
          <a:xfrm>
            <a:off x="7159680" y="1704960"/>
            <a:ext cx="444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360520" y="5826240"/>
            <a:ext cx="5479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542880" y="1633680"/>
            <a:ext cx="8058240" cy="11523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"/>
          <p:cNvPicPr/>
          <p:nvPr/>
        </p:nvPicPr>
        <p:blipFill>
          <a:blip r:embed="rId3"/>
          <a:stretch/>
        </p:blipFill>
        <p:spPr>
          <a:xfrm>
            <a:off x="3111480" y="3079800"/>
            <a:ext cx="2714760" cy="194292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6135840" y="2171880"/>
            <a:ext cx="4428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743040" y="852480"/>
            <a:ext cx="7657920" cy="31813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3165480" y="4033800"/>
            <a:ext cx="3151080" cy="22384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4800600" y="3517920"/>
            <a:ext cx="10778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2"/>
          <a:stretch/>
        </p:blipFill>
        <p:spPr>
          <a:xfrm>
            <a:off x="2814480" y="714240"/>
            <a:ext cx="3151440" cy="22384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"/>
          <p:cNvPicPr/>
          <p:nvPr/>
        </p:nvPicPr>
        <p:blipFill>
          <a:blip r:embed="rId3"/>
          <a:stretch/>
        </p:blipFill>
        <p:spPr>
          <a:xfrm>
            <a:off x="949320" y="2952720"/>
            <a:ext cx="7504200" cy="2638440"/>
          </a:xfrm>
          <a:prstGeom prst="rect">
            <a:avLst/>
          </a:prstGeom>
          <a:ln w="0">
            <a:noFill/>
          </a:ln>
        </p:spPr>
      </p:pic>
      <p:sp>
        <p:nvSpPr>
          <p:cNvPr id="56" name="矩形 6"/>
          <p:cNvSpPr/>
          <p:nvPr/>
        </p:nvSpPr>
        <p:spPr>
          <a:xfrm>
            <a:off x="846000" y="2952720"/>
            <a:ext cx="7607520" cy="26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851040" y="736560"/>
            <a:ext cx="6943680" cy="12556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" descr=""/>
          <p:cNvPicPr/>
          <p:nvPr/>
        </p:nvPicPr>
        <p:blipFill>
          <a:blip r:embed="rId3"/>
          <a:stretch/>
        </p:blipFill>
        <p:spPr>
          <a:xfrm>
            <a:off x="1184400" y="2057400"/>
            <a:ext cx="654984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"/>
          <p:cNvPicPr/>
          <p:nvPr/>
        </p:nvPicPr>
        <p:blipFill>
          <a:blip r:embed="rId4"/>
          <a:stretch/>
        </p:blipFill>
        <p:spPr>
          <a:xfrm>
            <a:off x="2622600" y="4299120"/>
            <a:ext cx="4226040" cy="1946160"/>
          </a:xfrm>
          <a:prstGeom prst="rect">
            <a:avLst/>
          </a:prstGeom>
          <a:ln w="0">
            <a:noFill/>
          </a:ln>
        </p:spPr>
      </p:pic>
      <p:sp>
        <p:nvSpPr>
          <p:cNvPr id="60" name="矩形 6"/>
          <p:cNvSpPr/>
          <p:nvPr/>
        </p:nvSpPr>
        <p:spPr>
          <a:xfrm>
            <a:off x="4514760" y="3790800"/>
            <a:ext cx="64944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619200" y="1243080"/>
            <a:ext cx="7905600" cy="4371840"/>
          </a:xfrm>
          <a:prstGeom prst="rect">
            <a:avLst/>
          </a:prstGeom>
          <a:ln w="0">
            <a:noFill/>
          </a:ln>
        </p:spPr>
      </p:pic>
      <p:sp>
        <p:nvSpPr>
          <p:cNvPr id="62" name="矩形 6"/>
          <p:cNvSpPr/>
          <p:nvPr/>
        </p:nvSpPr>
        <p:spPr>
          <a:xfrm>
            <a:off x="988920" y="2832120"/>
            <a:ext cx="237492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1482840" y="3403440"/>
            <a:ext cx="168732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3170160" y="3403440"/>
            <a:ext cx="18273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1482840" y="4081320"/>
            <a:ext cx="203652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3519360" y="4191120"/>
            <a:ext cx="19735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1365120" y="4719600"/>
            <a:ext cx="21542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19360" y="4719600"/>
            <a:ext cx="21798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1365120" y="5308560"/>
            <a:ext cx="18050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2"/>
          <a:stretch/>
        </p:blipFill>
        <p:spPr>
          <a:xfrm>
            <a:off x="739800" y="803160"/>
            <a:ext cx="7512120" cy="29498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" descr=""/>
          <p:cNvPicPr/>
          <p:nvPr/>
        </p:nvPicPr>
        <p:blipFill>
          <a:blip r:embed="rId3"/>
          <a:stretch/>
        </p:blipFill>
        <p:spPr>
          <a:xfrm>
            <a:off x="3400560" y="3925800"/>
            <a:ext cx="2077920" cy="2132280"/>
          </a:xfrm>
          <a:prstGeom prst="rect">
            <a:avLst/>
          </a:prstGeom>
          <a:ln w="0">
            <a:noFill/>
          </a:ln>
        </p:spPr>
      </p:pic>
      <p:sp>
        <p:nvSpPr>
          <p:cNvPr id="72" name="矩形 6"/>
          <p:cNvSpPr/>
          <p:nvPr/>
        </p:nvSpPr>
        <p:spPr>
          <a:xfrm>
            <a:off x="7510320" y="2846520"/>
            <a:ext cx="44316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5:45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