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142-BDAE-4DFF-9247-B38BADCB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43A-7B5E-466D-90AD-F0CA0FF1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F5E-3D2D-4093-AB61-57D98BC0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DF1-0955-426D-B9D3-6090C1AA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E15-D1A5-4778-B06E-37F9FE05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9B3-54B4-4B16-B18D-01B2AF42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81E-7361-4B92-8196-55F9C586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2D3-5EA8-484E-9AA0-1DE84E35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FEA-9854-4440-8E63-A7C37921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CB1-981E-44D6-9587-527BCFF8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9A8-976C-48F8-AE7C-3F164BA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B57-AC1B-40F9-B175-A89D851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A5DF-D13C-48CB-AA94-DD5C33D6B9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44440" y="3763800"/>
            <a:ext cx="8655120" cy="497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2514600" y="2806560"/>
            <a:ext cx="4114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2"/>
          <a:stretch/>
        </p:blipFill>
        <p:spPr>
          <a:xfrm>
            <a:off x="479520" y="830160"/>
            <a:ext cx="8342280" cy="20383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"/>
          <p:cNvPicPr/>
          <p:nvPr/>
        </p:nvPicPr>
        <p:blipFill>
          <a:blip r:embed="rId3"/>
          <a:stretch/>
        </p:blipFill>
        <p:spPr>
          <a:xfrm>
            <a:off x="5854680" y="2868480"/>
            <a:ext cx="2857680" cy="30657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" descr=""/>
          <p:cNvPicPr/>
          <p:nvPr/>
        </p:nvPicPr>
        <p:blipFill>
          <a:blip r:embed="rId4"/>
          <a:stretch/>
        </p:blipFill>
        <p:spPr>
          <a:xfrm>
            <a:off x="711360" y="2987640"/>
            <a:ext cx="4876560" cy="3189240"/>
          </a:xfrm>
          <a:prstGeom prst="rect">
            <a:avLst/>
          </a:prstGeom>
          <a:ln w="0">
            <a:noFill/>
          </a:ln>
        </p:spPr>
      </p:pic>
      <p:sp>
        <p:nvSpPr>
          <p:cNvPr id="78" name="矩形 1"/>
          <p:cNvSpPr/>
          <p:nvPr/>
        </p:nvSpPr>
        <p:spPr>
          <a:xfrm>
            <a:off x="711360" y="2868480"/>
            <a:ext cx="4997160" cy="102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1147680" y="4087800"/>
            <a:ext cx="4440240" cy="131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1279440" y="5491080"/>
            <a:ext cx="4038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406440" y="795240"/>
            <a:ext cx="8332920" cy="14763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3"/>
          <a:stretch/>
        </p:blipFill>
        <p:spPr>
          <a:xfrm>
            <a:off x="5397480" y="2271600"/>
            <a:ext cx="3008160" cy="32752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"/>
          <p:cNvPicPr/>
          <p:nvPr/>
        </p:nvPicPr>
        <p:blipFill>
          <a:blip r:embed="rId4"/>
          <a:stretch/>
        </p:blipFill>
        <p:spPr>
          <a:xfrm>
            <a:off x="622440" y="2347920"/>
            <a:ext cx="4552920" cy="312264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622440" y="2347920"/>
            <a:ext cx="33796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4002120" y="2271600"/>
            <a:ext cx="11732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1174680" y="2790720"/>
            <a:ext cx="4000680" cy="99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174680" y="3925800"/>
            <a:ext cx="4222800" cy="62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1174680" y="4794120"/>
            <a:ext cx="3733920" cy="67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695600" y="779400"/>
            <a:ext cx="6514920" cy="981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358920" y="2077920"/>
            <a:ext cx="8427960" cy="367524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7900920" y="32068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487440" y="1922400"/>
            <a:ext cx="8380440" cy="1457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"/>
          <p:cNvPicPr/>
          <p:nvPr/>
        </p:nvPicPr>
        <p:blipFill>
          <a:blip r:embed="rId3"/>
          <a:stretch/>
        </p:blipFill>
        <p:spPr>
          <a:xfrm>
            <a:off x="2347920" y="3714840"/>
            <a:ext cx="4027320" cy="177156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8032680" y="243036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99960" y="915840"/>
            <a:ext cx="8344080" cy="29718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"/>
          <p:cNvPicPr/>
          <p:nvPr/>
        </p:nvPicPr>
        <p:blipFill>
          <a:blip r:embed="rId3"/>
          <a:stretch/>
        </p:blipFill>
        <p:spPr>
          <a:xfrm>
            <a:off x="2717640" y="3887640"/>
            <a:ext cx="1733760" cy="200988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7940520" y="19908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558720" y="1612800"/>
            <a:ext cx="831528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"/>
          <p:cNvPicPr/>
          <p:nvPr/>
        </p:nvPicPr>
        <p:blipFill>
          <a:blip r:embed="rId3"/>
          <a:stretch/>
        </p:blipFill>
        <p:spPr>
          <a:xfrm>
            <a:off x="2633760" y="3086280"/>
            <a:ext cx="3875040" cy="2104920"/>
          </a:xfrm>
          <a:prstGeom prst="rect">
            <a:avLst/>
          </a:prstGeom>
          <a:ln w="0">
            <a:noFill/>
          </a:ln>
        </p:spPr>
      </p:pic>
      <p:sp>
        <p:nvSpPr>
          <p:cNvPr id="55" name="矩形 1"/>
          <p:cNvSpPr/>
          <p:nvPr/>
        </p:nvSpPr>
        <p:spPr>
          <a:xfrm>
            <a:off x="3871800" y="2057400"/>
            <a:ext cx="865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482760" y="1020600"/>
            <a:ext cx="8389800" cy="21052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3"/>
          <a:stretch/>
        </p:blipFill>
        <p:spPr>
          <a:xfrm>
            <a:off x="2825640" y="3381480"/>
            <a:ext cx="3229200" cy="2333520"/>
          </a:xfrm>
          <a:prstGeom prst="rect">
            <a:avLst/>
          </a:prstGeom>
          <a:ln w="0">
            <a:noFill/>
          </a:ln>
        </p:spPr>
      </p:pic>
      <p:sp>
        <p:nvSpPr>
          <p:cNvPr id="58" name="矩形 1"/>
          <p:cNvSpPr/>
          <p:nvPr/>
        </p:nvSpPr>
        <p:spPr>
          <a:xfrm>
            <a:off x="7940520" y="213660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658800" y="878040"/>
            <a:ext cx="8352000" cy="942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"/>
          <p:cNvPicPr/>
          <p:nvPr/>
        </p:nvPicPr>
        <p:blipFill>
          <a:blip r:embed="rId3"/>
          <a:stretch/>
        </p:blipFill>
        <p:spPr>
          <a:xfrm>
            <a:off x="5754600" y="2033640"/>
            <a:ext cx="3256200" cy="3236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"/>
          <p:cNvPicPr/>
          <p:nvPr/>
        </p:nvPicPr>
        <p:blipFill>
          <a:blip r:embed="rId4"/>
          <a:stretch/>
        </p:blipFill>
        <p:spPr>
          <a:xfrm>
            <a:off x="658800" y="2004840"/>
            <a:ext cx="4524480" cy="3265560"/>
          </a:xfrm>
          <a:prstGeom prst="rect">
            <a:avLst/>
          </a:prstGeom>
          <a:ln w="0">
            <a:noFill/>
          </a:ln>
        </p:spPr>
      </p:pic>
      <p:sp>
        <p:nvSpPr>
          <p:cNvPr id="62" name="矩形 1"/>
          <p:cNvSpPr/>
          <p:nvPr/>
        </p:nvSpPr>
        <p:spPr>
          <a:xfrm>
            <a:off x="658800" y="2004840"/>
            <a:ext cx="4444920" cy="89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990720" y="2895480"/>
            <a:ext cx="17334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2724120" y="2978280"/>
            <a:ext cx="20890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2724120" y="2978280"/>
            <a:ext cx="21938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108080" y="3421080"/>
            <a:ext cx="4075200" cy="13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1108080" y="4827600"/>
            <a:ext cx="40752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2"/>
          <a:stretch/>
        </p:blipFill>
        <p:spPr>
          <a:xfrm>
            <a:off x="1606680" y="809640"/>
            <a:ext cx="645768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"/>
          <p:cNvPicPr/>
          <p:nvPr/>
        </p:nvPicPr>
        <p:blipFill>
          <a:blip r:embed="rId3"/>
          <a:stretch/>
        </p:blipFill>
        <p:spPr>
          <a:xfrm>
            <a:off x="415800" y="2021040"/>
            <a:ext cx="8313840" cy="3741480"/>
          </a:xfrm>
          <a:prstGeom prst="rect">
            <a:avLst/>
          </a:prstGeom>
          <a:ln w="0">
            <a:noFill/>
          </a:ln>
        </p:spPr>
      </p:pic>
      <p:sp>
        <p:nvSpPr>
          <p:cNvPr id="70" name="矩形 1"/>
          <p:cNvSpPr/>
          <p:nvPr/>
        </p:nvSpPr>
        <p:spPr>
          <a:xfrm>
            <a:off x="3951360" y="32068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428760" y="841320"/>
            <a:ext cx="8286480" cy="34099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" descr=""/>
          <p:cNvPicPr/>
          <p:nvPr/>
        </p:nvPicPr>
        <p:blipFill>
          <a:blip r:embed="rId3"/>
          <a:stretch/>
        </p:blipFill>
        <p:spPr>
          <a:xfrm>
            <a:off x="428760" y="4343400"/>
            <a:ext cx="7953120" cy="1828800"/>
          </a:xfrm>
          <a:prstGeom prst="rect">
            <a:avLst/>
          </a:prstGeom>
          <a:ln w="0">
            <a:noFill/>
          </a:ln>
        </p:spPr>
      </p:pic>
      <p:sp>
        <p:nvSpPr>
          <p:cNvPr id="73" name="矩形 1"/>
          <p:cNvSpPr/>
          <p:nvPr/>
        </p:nvSpPr>
        <p:spPr>
          <a:xfrm>
            <a:off x="266760" y="4343400"/>
            <a:ext cx="811512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1673280" y="1846440"/>
            <a:ext cx="17082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5:57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