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E36-5BBB-43F5-A547-4B68526B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A5E-7B06-4B6B-916B-D7E1820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239-643C-4C90-959A-44A6962A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CD4-76FA-4D95-B617-2C99733B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F22-3DF7-4188-A0A2-0C673879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1E3-A6B4-4022-946F-30657F8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7E8-E3EB-4E0C-A1BB-D5ACE9C5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F6F-76FB-4EAD-B21E-515ED464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594-B64A-452B-B0FB-101112CC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E68-782A-4247-80E3-7F3A591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822-3762-4AB0-AE53-8973DE7C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387-2AF5-4EF9-89A6-99775E1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0A4-C79B-4042-8357-464A492D8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438120" y="3917880"/>
            <a:ext cx="7975800" cy="466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295200" y="2668680"/>
            <a:ext cx="8553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2"/>
          <a:stretch/>
        </p:blipFill>
        <p:spPr>
          <a:xfrm>
            <a:off x="620640" y="730080"/>
            <a:ext cx="82854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"/>
          <p:cNvPicPr/>
          <p:nvPr/>
        </p:nvPicPr>
        <p:blipFill>
          <a:blip r:embed="rId3"/>
          <a:stretch/>
        </p:blipFill>
        <p:spPr>
          <a:xfrm>
            <a:off x="6477120" y="2028960"/>
            <a:ext cx="256212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" descr=""/>
          <p:cNvPicPr/>
          <p:nvPr/>
        </p:nvPicPr>
        <p:blipFill>
          <a:blip r:embed="rId4"/>
          <a:srcRect l="0" t="0" r="9572" b="57227"/>
          <a:stretch/>
        </p:blipFill>
        <p:spPr>
          <a:xfrm>
            <a:off x="985680" y="2505240"/>
            <a:ext cx="5064120" cy="166680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6"/>
          <p:cNvGrpSpPr/>
          <p:nvPr/>
        </p:nvGrpSpPr>
        <p:grpSpPr>
          <a:xfrm>
            <a:off x="1403280" y="4172040"/>
            <a:ext cx="5254560" cy="704880"/>
            <a:chOff x="1403280" y="4172040"/>
            <a:chExt cx="5254560" cy="704880"/>
          </a:xfrm>
        </p:grpSpPr>
        <p:pic>
          <p:nvPicPr>
            <p:cNvPr id="79" name="图片 4" descr=""/>
            <p:cNvPicPr/>
            <p:nvPr/>
          </p:nvPicPr>
          <p:blipFill>
            <a:blip r:embed="rId5"/>
            <a:stretch/>
          </p:blipFill>
          <p:spPr>
            <a:xfrm>
              <a:off x="1403280" y="4172040"/>
              <a:ext cx="46465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5" descr=""/>
            <p:cNvPicPr/>
            <p:nvPr/>
          </p:nvPicPr>
          <p:blipFill>
            <a:blip r:embed="rId6"/>
            <a:srcRect l="14869" t="10171" r="0" b="0"/>
            <a:stretch/>
          </p:blipFill>
          <p:spPr>
            <a:xfrm>
              <a:off x="6049800" y="4344480"/>
              <a:ext cx="608040" cy="35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图片 7" descr=""/>
          <p:cNvPicPr/>
          <p:nvPr/>
        </p:nvPicPr>
        <p:blipFill>
          <a:blip r:embed="rId7"/>
          <a:stretch/>
        </p:blipFill>
        <p:spPr>
          <a:xfrm>
            <a:off x="1403280" y="4876920"/>
            <a:ext cx="5132520" cy="83808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985680" y="2558880"/>
            <a:ext cx="5062680" cy="161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1403280" y="4172040"/>
            <a:ext cx="525456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403280" y="4876920"/>
            <a:ext cx="128592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403280" y="5272200"/>
            <a:ext cx="3300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703760" y="5272200"/>
            <a:ext cx="19540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638280" y="1444680"/>
            <a:ext cx="786744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3"/>
          <a:stretch/>
        </p:blipFill>
        <p:spPr>
          <a:xfrm>
            <a:off x="717480" y="2503440"/>
            <a:ext cx="6734160" cy="14954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" descr=""/>
          <p:cNvPicPr/>
          <p:nvPr/>
        </p:nvPicPr>
        <p:blipFill>
          <a:blip r:embed="rId4"/>
          <a:stretch/>
        </p:blipFill>
        <p:spPr>
          <a:xfrm>
            <a:off x="6364440" y="3209760"/>
            <a:ext cx="2562120" cy="242892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638280" y="2503440"/>
            <a:ext cx="6670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638280" y="2946240"/>
            <a:ext cx="1904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543040" y="2946240"/>
            <a:ext cx="1168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638280" y="3390840"/>
            <a:ext cx="5726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1473120" y="711360"/>
            <a:ext cx="6408720" cy="10382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3"/>
          <a:stretch/>
        </p:blipFill>
        <p:spPr>
          <a:xfrm>
            <a:off x="409680" y="1749600"/>
            <a:ext cx="8324640" cy="3238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4"/>
          <a:stretch/>
        </p:blipFill>
        <p:spPr>
          <a:xfrm>
            <a:off x="6800760" y="4119480"/>
            <a:ext cx="1933560" cy="2067120"/>
          </a:xfrm>
          <a:prstGeom prst="rect">
            <a:avLst/>
          </a:prstGeom>
          <a:ln w="0">
            <a:noFill/>
          </a:ln>
        </p:spPr>
      </p:pic>
      <p:sp>
        <p:nvSpPr>
          <p:cNvPr id="97" name="矩形 5"/>
          <p:cNvSpPr/>
          <p:nvPr/>
        </p:nvSpPr>
        <p:spPr>
          <a:xfrm>
            <a:off x="7881840" y="36766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2"/>
          <a:stretch/>
        </p:blipFill>
        <p:spPr>
          <a:xfrm>
            <a:off x="547560" y="1298520"/>
            <a:ext cx="839016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3"/>
          <a:stretch/>
        </p:blipFill>
        <p:spPr>
          <a:xfrm>
            <a:off x="3343320" y="3371760"/>
            <a:ext cx="2247840" cy="2352600"/>
          </a:xfrm>
          <a:prstGeom prst="rect">
            <a:avLst/>
          </a:prstGeom>
          <a:ln w="0">
            <a:noFill/>
          </a:ln>
        </p:spPr>
      </p:pic>
      <p:sp>
        <p:nvSpPr>
          <p:cNvPr id="100" name="矩形 5"/>
          <p:cNvSpPr/>
          <p:nvPr/>
        </p:nvSpPr>
        <p:spPr>
          <a:xfrm>
            <a:off x="6359400" y="2530440"/>
            <a:ext cx="58896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tretch/>
        </p:blipFill>
        <p:spPr>
          <a:xfrm>
            <a:off x="414360" y="882720"/>
            <a:ext cx="8313840" cy="2371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3"/>
          <a:stretch/>
        </p:blipFill>
        <p:spPr>
          <a:xfrm>
            <a:off x="3019320" y="3686040"/>
            <a:ext cx="2400480" cy="2273400"/>
          </a:xfrm>
          <a:prstGeom prst="rect">
            <a:avLst/>
          </a:prstGeom>
          <a:ln w="0">
            <a:noFill/>
          </a:ln>
        </p:spPr>
      </p:pic>
      <p:sp>
        <p:nvSpPr>
          <p:cNvPr id="103" name="矩形 5"/>
          <p:cNvSpPr/>
          <p:nvPr/>
        </p:nvSpPr>
        <p:spPr>
          <a:xfrm>
            <a:off x="5253120" y="26622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2"/>
          <a:stretch/>
        </p:blipFill>
        <p:spPr>
          <a:xfrm>
            <a:off x="595440" y="1219320"/>
            <a:ext cx="7951680" cy="2552760"/>
          </a:xfrm>
          <a:prstGeom prst="rect">
            <a:avLst/>
          </a:prstGeom>
          <a:ln w="0">
            <a:noFill/>
          </a:ln>
        </p:spPr>
      </p:pic>
      <p:sp>
        <p:nvSpPr>
          <p:cNvPr id="105" name="矩形 5"/>
          <p:cNvSpPr/>
          <p:nvPr/>
        </p:nvSpPr>
        <p:spPr>
          <a:xfrm>
            <a:off x="595440" y="1219320"/>
            <a:ext cx="7951680" cy="25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3"/>
          <a:stretch/>
        </p:blipFill>
        <p:spPr>
          <a:xfrm>
            <a:off x="3419640" y="3772080"/>
            <a:ext cx="24001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2"/>
          <a:stretch/>
        </p:blipFill>
        <p:spPr>
          <a:xfrm>
            <a:off x="423720" y="717480"/>
            <a:ext cx="8085240" cy="34639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3"/>
          <a:stretch/>
        </p:blipFill>
        <p:spPr>
          <a:xfrm>
            <a:off x="5381640" y="3854520"/>
            <a:ext cx="2041560" cy="2319120"/>
          </a:xfrm>
          <a:prstGeom prst="rect">
            <a:avLst/>
          </a:prstGeom>
          <a:ln w="0">
            <a:noFill/>
          </a:ln>
        </p:spPr>
      </p:pic>
      <p:sp>
        <p:nvSpPr>
          <p:cNvPr id="109" name="矩形 5"/>
          <p:cNvSpPr/>
          <p:nvPr/>
        </p:nvSpPr>
        <p:spPr>
          <a:xfrm>
            <a:off x="2725560" y="2319480"/>
            <a:ext cx="589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5002200" y="23194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4276800" y="32446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2"/>
          <a:stretch/>
        </p:blipFill>
        <p:spPr>
          <a:xfrm>
            <a:off x="627120" y="752400"/>
            <a:ext cx="77328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3"/>
          <a:stretch/>
        </p:blipFill>
        <p:spPr>
          <a:xfrm>
            <a:off x="1109520" y="1209600"/>
            <a:ext cx="3027600" cy="4381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"/>
          <p:cNvPicPr/>
          <p:nvPr/>
        </p:nvPicPr>
        <p:blipFill>
          <a:blip r:embed="rId4"/>
          <a:stretch/>
        </p:blipFill>
        <p:spPr>
          <a:xfrm>
            <a:off x="6454800" y="1393920"/>
            <a:ext cx="2181240" cy="25048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5"/>
          <a:stretch/>
        </p:blipFill>
        <p:spPr>
          <a:xfrm>
            <a:off x="606600" y="1608120"/>
            <a:ext cx="5202000" cy="264780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7"/>
          <p:cNvGrpSpPr/>
          <p:nvPr/>
        </p:nvGrpSpPr>
        <p:grpSpPr>
          <a:xfrm>
            <a:off x="1003320" y="4255920"/>
            <a:ext cx="7970760" cy="1895400"/>
            <a:chOff x="1003320" y="4255920"/>
            <a:chExt cx="7970760" cy="1895400"/>
          </a:xfrm>
        </p:grpSpPr>
        <p:pic>
          <p:nvPicPr>
            <p:cNvPr id="117" name="图片 5" descr=""/>
            <p:cNvPicPr/>
            <p:nvPr/>
          </p:nvPicPr>
          <p:blipFill>
            <a:blip r:embed="rId6"/>
            <a:srcRect l="0" t="0" r="0" b="35800"/>
            <a:stretch/>
          </p:blipFill>
          <p:spPr>
            <a:xfrm>
              <a:off x="1003320" y="4255920"/>
              <a:ext cx="7275600" cy="17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6" descr=""/>
            <p:cNvPicPr/>
            <p:nvPr/>
          </p:nvPicPr>
          <p:blipFill>
            <a:blip r:embed="rId7"/>
            <a:stretch/>
          </p:blipFill>
          <p:spPr>
            <a:xfrm>
              <a:off x="5182920" y="5193720"/>
              <a:ext cx="3791160" cy="9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矩形 5"/>
          <p:cNvSpPr/>
          <p:nvPr/>
        </p:nvSpPr>
        <p:spPr>
          <a:xfrm>
            <a:off x="606600" y="1608120"/>
            <a:ext cx="520200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003320" y="2486160"/>
            <a:ext cx="219384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857160" y="3308400"/>
            <a:ext cx="2340000" cy="9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1003320" y="4162320"/>
            <a:ext cx="7169040" cy="103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1003320" y="5194440"/>
            <a:ext cx="41814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5183280" y="5194440"/>
            <a:ext cx="37926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2"/>
          <a:stretch/>
        </p:blipFill>
        <p:spPr>
          <a:xfrm>
            <a:off x="1849320" y="596880"/>
            <a:ext cx="6313680" cy="10573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"/>
          <p:cNvPicPr/>
          <p:nvPr/>
        </p:nvPicPr>
        <p:blipFill>
          <a:blip r:embed="rId3"/>
          <a:srcRect l="0" t="0" r="0" b="14821"/>
          <a:stretch/>
        </p:blipFill>
        <p:spPr>
          <a:xfrm>
            <a:off x="558720" y="1654200"/>
            <a:ext cx="8342280" cy="27669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" descr=""/>
          <p:cNvPicPr/>
          <p:nvPr/>
        </p:nvPicPr>
        <p:blipFill>
          <a:blip r:embed="rId4"/>
          <a:stretch/>
        </p:blipFill>
        <p:spPr>
          <a:xfrm>
            <a:off x="4599000" y="3954600"/>
            <a:ext cx="29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2"/>
          <a:stretch/>
        </p:blipFill>
        <p:spPr>
          <a:xfrm>
            <a:off x="892080" y="1085760"/>
            <a:ext cx="6886800" cy="4478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"/>
          <p:cNvPicPr/>
          <p:nvPr/>
        </p:nvPicPr>
        <p:blipFill>
          <a:blip r:embed="rId3"/>
          <a:stretch/>
        </p:blipFill>
        <p:spPr>
          <a:xfrm>
            <a:off x="681120" y="1657440"/>
            <a:ext cx="7780320" cy="354312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681120" y="1657440"/>
            <a:ext cx="3182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1146240" y="2100240"/>
            <a:ext cx="394632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1146240" y="3135240"/>
            <a:ext cx="378756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1146240" y="4464000"/>
            <a:ext cx="66326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913040" y="561960"/>
            <a:ext cx="6334200" cy="10857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592200" y="1690560"/>
            <a:ext cx="8142120" cy="524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411120" y="2133720"/>
            <a:ext cx="8323200" cy="2276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5"/>
          <a:stretch/>
        </p:blipFill>
        <p:spPr>
          <a:xfrm>
            <a:off x="3386160" y="4344840"/>
            <a:ext cx="194148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7872480" y="35434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711360" y="746280"/>
            <a:ext cx="7723080" cy="6285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3"/>
          <a:stretch/>
        </p:blipFill>
        <p:spPr>
          <a:xfrm>
            <a:off x="692280" y="1262160"/>
            <a:ext cx="7742160" cy="4991040"/>
          </a:xfrm>
          <a:prstGeom prst="rect">
            <a:avLst/>
          </a:prstGeom>
          <a:ln w="0">
            <a:noFill/>
          </a:ln>
        </p:spPr>
      </p:pic>
      <p:sp>
        <p:nvSpPr>
          <p:cNvPr id="136" name="矩形 5"/>
          <p:cNvSpPr/>
          <p:nvPr/>
        </p:nvSpPr>
        <p:spPr>
          <a:xfrm>
            <a:off x="692280" y="1262160"/>
            <a:ext cx="7092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1158840" y="2077920"/>
            <a:ext cx="6750000" cy="73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1158840" y="2813040"/>
            <a:ext cx="7277040" cy="124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158840" y="4162320"/>
            <a:ext cx="33400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158840" y="4689360"/>
            <a:ext cx="639432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1158840" y="5530680"/>
            <a:ext cx="5854680" cy="6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2"/>
          <a:stretch/>
        </p:blipFill>
        <p:spPr>
          <a:xfrm>
            <a:off x="561960" y="1060560"/>
            <a:ext cx="8020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414360" y="1496880"/>
            <a:ext cx="831384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" descr=""/>
          <p:cNvPicPr/>
          <p:nvPr/>
        </p:nvPicPr>
        <p:blipFill>
          <a:blip r:embed="rId3"/>
          <a:stretch/>
        </p:blipFill>
        <p:spPr>
          <a:xfrm>
            <a:off x="3138480" y="3773520"/>
            <a:ext cx="2209680" cy="225756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7924680" y="28465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685800" y="1741320"/>
            <a:ext cx="8086680" cy="2295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749160" y="760320"/>
            <a:ext cx="79614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686480" y="3841920"/>
            <a:ext cx="2143080" cy="230472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1698480" y="34750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463680" y="665280"/>
            <a:ext cx="8427960" cy="1895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4987800" y="2130480"/>
            <a:ext cx="2190960" cy="2095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4"/>
          <a:stretch/>
        </p:blipFill>
        <p:spPr>
          <a:xfrm>
            <a:off x="619200" y="4226040"/>
            <a:ext cx="7905600" cy="174312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619200" y="4226040"/>
            <a:ext cx="7905600" cy="174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2685960" y="20160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404640" y="1224000"/>
            <a:ext cx="8332920" cy="1552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3"/>
          <a:stretch/>
        </p:blipFill>
        <p:spPr>
          <a:xfrm>
            <a:off x="452520" y="2992320"/>
            <a:ext cx="828504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4"/>
          <a:stretch/>
        </p:blipFill>
        <p:spPr>
          <a:xfrm>
            <a:off x="1219320" y="4513320"/>
            <a:ext cx="6753240" cy="780840"/>
          </a:xfrm>
          <a:prstGeom prst="rect">
            <a:avLst/>
          </a:prstGeom>
          <a:ln w="0">
            <a:noFill/>
          </a:ln>
        </p:spPr>
      </p:pic>
      <p:sp>
        <p:nvSpPr>
          <p:cNvPr id="64" name="矩形 5"/>
          <p:cNvSpPr/>
          <p:nvPr/>
        </p:nvSpPr>
        <p:spPr>
          <a:xfrm>
            <a:off x="7754760" y="3854520"/>
            <a:ext cx="589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485640" y="763560"/>
            <a:ext cx="828684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357120" y="2316240"/>
            <a:ext cx="8427960" cy="388440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8004240" y="11872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7842240" y="37227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2"/>
          <a:srcRect l="0" t="2437" r="0" b="0"/>
          <a:stretch/>
        </p:blipFill>
        <p:spPr>
          <a:xfrm>
            <a:off x="380880" y="2325600"/>
            <a:ext cx="8382240" cy="1830600"/>
          </a:xfrm>
          <a:prstGeom prst="rect">
            <a:avLst/>
          </a:prstGeom>
          <a:ln w="0">
            <a:noFill/>
          </a:ln>
        </p:spPr>
      </p:pic>
      <p:sp>
        <p:nvSpPr>
          <p:cNvPr id="70" name="矩形 5"/>
          <p:cNvSpPr/>
          <p:nvPr/>
        </p:nvSpPr>
        <p:spPr>
          <a:xfrm>
            <a:off x="7924680" y="32068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396720" y="750960"/>
            <a:ext cx="835200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"/>
          <p:cNvPicPr/>
          <p:nvPr/>
        </p:nvPicPr>
        <p:blipFill>
          <a:blip r:embed="rId3"/>
          <a:stretch/>
        </p:blipFill>
        <p:spPr>
          <a:xfrm>
            <a:off x="512640" y="3684600"/>
            <a:ext cx="7932960" cy="2371680"/>
          </a:xfrm>
          <a:prstGeom prst="rect">
            <a:avLst/>
          </a:prstGeom>
          <a:ln w="0">
            <a:noFill/>
          </a:ln>
        </p:spPr>
      </p:pic>
      <p:sp>
        <p:nvSpPr>
          <p:cNvPr id="73" name="矩形 5"/>
          <p:cNvSpPr/>
          <p:nvPr/>
        </p:nvSpPr>
        <p:spPr>
          <a:xfrm>
            <a:off x="512640" y="3684600"/>
            <a:ext cx="7932960" cy="23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4857840" y="3143160"/>
            <a:ext cx="9316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3:4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