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1DC-E077-47D8-997A-57972EED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EB1-F179-4BF5-88FD-2FCE9673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32A-30F0-4B8A-A065-9768CD79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C7D-5F54-4EA1-9538-B55401A3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433-8F96-4AAE-BEFF-6B45D8A5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D5B-8C65-47D2-80F3-D552349F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6E1-D4C8-47A7-AB1E-59F0B6F0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0C8-9ADD-47F5-BB56-B10DBDB8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C59-CD3B-414F-9BE7-5D909F2F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7B6-F7B8-40F1-B33E-AC4332B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3BA-AF60-4449-8DF7-3EC5D185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2FA-D51F-4BF0-9319-F4787E8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6FFE-0FDF-4804-B28C-8607E9F619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1562040" y="2762280"/>
            <a:ext cx="6019920" cy="13334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2147760" y="4219560"/>
            <a:ext cx="5075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2"/>
          <a:stretch/>
        </p:blipFill>
        <p:spPr>
          <a:xfrm>
            <a:off x="509760" y="1828800"/>
            <a:ext cx="8123040" cy="320040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1027080" y="2814480"/>
            <a:ext cx="497052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1630440" y="3798720"/>
            <a:ext cx="28303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"/>
          <p:cNvSpPr/>
          <p:nvPr/>
        </p:nvSpPr>
        <p:spPr>
          <a:xfrm>
            <a:off x="4462560" y="3921120"/>
            <a:ext cx="153504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1630440" y="4551480"/>
            <a:ext cx="1587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"/>
          <p:cNvPicPr/>
          <p:nvPr/>
        </p:nvPicPr>
        <p:blipFill>
          <a:blip r:embed="rId2"/>
          <a:stretch/>
        </p:blipFill>
        <p:spPr>
          <a:xfrm>
            <a:off x="533520" y="1590840"/>
            <a:ext cx="8076960" cy="36763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" descr=""/>
          <p:cNvPicPr/>
          <p:nvPr/>
        </p:nvPicPr>
        <p:blipFill>
          <a:blip r:embed="rId3"/>
          <a:srcRect l="47912" t="0" r="0" b="18174"/>
          <a:stretch/>
        </p:blipFill>
        <p:spPr>
          <a:xfrm>
            <a:off x="4691160" y="2558880"/>
            <a:ext cx="2747880" cy="210348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1027080" y="4662360"/>
            <a:ext cx="240336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552600" y="1386000"/>
            <a:ext cx="8038800" cy="4086000"/>
          </a:xfrm>
          <a:prstGeom prst="rect">
            <a:avLst/>
          </a:prstGeom>
          <a:ln w="0">
            <a:noFill/>
          </a:ln>
        </p:spPr>
      </p:pic>
      <p:sp>
        <p:nvSpPr>
          <p:cNvPr id="45" name="矩形 2"/>
          <p:cNvSpPr/>
          <p:nvPr/>
        </p:nvSpPr>
        <p:spPr>
          <a:xfrm>
            <a:off x="7639200" y="3178080"/>
            <a:ext cx="5364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2"/>
          <a:stretch/>
        </p:blipFill>
        <p:spPr>
          <a:xfrm>
            <a:off x="590400" y="2190600"/>
            <a:ext cx="7963200" cy="2476800"/>
          </a:xfrm>
          <a:prstGeom prst="rect">
            <a:avLst/>
          </a:prstGeom>
          <a:ln w="0">
            <a:noFill/>
          </a:ln>
        </p:spPr>
      </p:pic>
      <p:sp>
        <p:nvSpPr>
          <p:cNvPr id="47" name="矩形 2"/>
          <p:cNvSpPr/>
          <p:nvPr/>
        </p:nvSpPr>
        <p:spPr>
          <a:xfrm>
            <a:off x="7677000" y="2190600"/>
            <a:ext cx="53676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600120" y="1195560"/>
            <a:ext cx="7943760" cy="446688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7716960" y="1711440"/>
            <a:ext cx="5364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4589640" y="4638600"/>
            <a:ext cx="5364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533520" y="1886040"/>
            <a:ext cx="8076960" cy="308592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884160" y="2852640"/>
            <a:ext cx="452916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5413320" y="2852640"/>
            <a:ext cx="307656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1195560" y="3487680"/>
            <a:ext cx="5364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1731960" y="3487680"/>
            <a:ext cx="434808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6097680" y="3487680"/>
            <a:ext cx="157320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7670880" y="3487680"/>
            <a:ext cx="8208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285920" y="4394160"/>
            <a:ext cx="22734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3483000" y="4238640"/>
            <a:ext cx="1593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5076720" y="4417920"/>
            <a:ext cx="194940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547560" y="1476360"/>
            <a:ext cx="8047080" cy="3905280"/>
          </a:xfrm>
          <a:prstGeom prst="rect">
            <a:avLst/>
          </a:prstGeom>
          <a:ln w="0">
            <a:noFill/>
          </a:ln>
        </p:spPr>
      </p:pic>
      <p:sp>
        <p:nvSpPr>
          <p:cNvPr id="62" name="矩形 2"/>
          <p:cNvSpPr/>
          <p:nvPr/>
        </p:nvSpPr>
        <p:spPr>
          <a:xfrm>
            <a:off x="7626240" y="2552760"/>
            <a:ext cx="5367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7626240" y="3914640"/>
            <a:ext cx="53676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604800" y="2071800"/>
            <a:ext cx="7932600" cy="271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1351080" y="2558880"/>
            <a:ext cx="54900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2"/>
          <a:stretch/>
        </p:blipFill>
        <p:spPr>
          <a:xfrm>
            <a:off x="542880" y="1376280"/>
            <a:ext cx="8058240" cy="4105440"/>
          </a:xfrm>
          <a:prstGeom prst="rect">
            <a:avLst/>
          </a:prstGeom>
          <a:ln w="0">
            <a:noFill/>
          </a:ln>
        </p:spPr>
      </p:pic>
      <p:sp>
        <p:nvSpPr>
          <p:cNvPr id="67" name="矩形 2"/>
          <p:cNvSpPr/>
          <p:nvPr/>
        </p:nvSpPr>
        <p:spPr>
          <a:xfrm>
            <a:off x="7754760" y="3876840"/>
            <a:ext cx="536760" cy="60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2"/>
          <a:stretch/>
        </p:blipFill>
        <p:spPr>
          <a:xfrm>
            <a:off x="533520" y="1866960"/>
            <a:ext cx="8076960" cy="3124080"/>
          </a:xfrm>
          <a:prstGeom prst="rect">
            <a:avLst/>
          </a:prstGeom>
          <a:ln w="0">
            <a:noFill/>
          </a:ln>
        </p:spPr>
      </p:pic>
      <p:sp>
        <p:nvSpPr>
          <p:cNvPr id="69" name="矩形 2"/>
          <p:cNvSpPr/>
          <p:nvPr/>
        </p:nvSpPr>
        <p:spPr>
          <a:xfrm>
            <a:off x="5369040" y="2806560"/>
            <a:ext cx="5364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3375000" y="4406760"/>
            <a:ext cx="19940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33:09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