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832-ADAA-4718-8861-02E23632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7FD-05F9-4CC6-A85A-803BB36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54E-AFC9-4E0D-9629-AF3805C8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660-A30E-4992-AAA8-010C3077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C56-8517-434C-BE5E-329E485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98D-DBC1-4E25-B136-A592ED3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31F-CBDB-461C-92B6-A1D3E7A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34D-4E54-4EC3-91BD-F73466C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D15-B0CE-4BC8-AC57-20D624B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E58-EF44-4851-9EC0-C3A8439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E11-6F77-4C19-B63B-3463155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E40-56E0-4BD3-9124-2E65817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A26-6BCB-4F57-8C98-61C0911A4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44280" y="2039760"/>
            <a:ext cx="8791920" cy="1171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533600" y="3483000"/>
            <a:ext cx="6076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"/>
          <p:cNvPicPr/>
          <p:nvPr/>
        </p:nvPicPr>
        <p:blipFill>
          <a:blip r:embed="rId4"/>
          <a:stretch/>
        </p:blipFill>
        <p:spPr>
          <a:xfrm>
            <a:off x="2162160" y="4462560"/>
            <a:ext cx="48196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"/>
          <p:cNvGrpSpPr/>
          <p:nvPr/>
        </p:nvGrpSpPr>
        <p:grpSpPr>
          <a:xfrm>
            <a:off x="466560" y="1197000"/>
            <a:ext cx="8305920" cy="2685960"/>
            <a:chOff x="466560" y="1197000"/>
            <a:chExt cx="8305920" cy="2685960"/>
          </a:xfrm>
        </p:grpSpPr>
        <p:pic>
          <p:nvPicPr>
            <p:cNvPr id="87" name="图片 2" descr=""/>
            <p:cNvPicPr/>
            <p:nvPr/>
          </p:nvPicPr>
          <p:blipFill>
            <a:blip r:embed="rId2"/>
            <a:stretch/>
          </p:blipFill>
          <p:spPr>
            <a:xfrm>
              <a:off x="532440" y="1235520"/>
              <a:ext cx="8240040" cy="26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1"/>
            <p:cNvSpPr/>
            <p:nvPr/>
          </p:nvSpPr>
          <p:spPr>
            <a:xfrm>
              <a:off x="466560" y="1197000"/>
              <a:ext cx="935640" cy="43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图片 4" descr=""/>
          <p:cNvPicPr/>
          <p:nvPr/>
        </p:nvPicPr>
        <p:blipFill>
          <a:blip r:embed="rId3"/>
          <a:stretch/>
        </p:blipFill>
        <p:spPr>
          <a:xfrm>
            <a:off x="3519360" y="3200400"/>
            <a:ext cx="2266920" cy="2247840"/>
          </a:xfrm>
          <a:prstGeom prst="rect">
            <a:avLst/>
          </a:prstGeom>
          <a:ln w="0">
            <a:noFill/>
          </a:ln>
        </p:spPr>
      </p:pic>
      <p:sp>
        <p:nvSpPr>
          <p:cNvPr id="90" name="矩形 3"/>
          <p:cNvSpPr/>
          <p:nvPr/>
        </p:nvSpPr>
        <p:spPr>
          <a:xfrm>
            <a:off x="814320" y="1197000"/>
            <a:ext cx="8118720" cy="447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3" descr=""/>
          <p:cNvPicPr/>
          <p:nvPr/>
        </p:nvPicPr>
        <p:blipFill>
          <a:blip r:embed="rId2"/>
          <a:stretch/>
        </p:blipFill>
        <p:spPr>
          <a:xfrm>
            <a:off x="6372360" y="3495600"/>
            <a:ext cx="2504880" cy="2028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" descr=""/>
          <p:cNvPicPr/>
          <p:nvPr/>
        </p:nvPicPr>
        <p:blipFill>
          <a:blip r:embed="rId3"/>
          <a:stretch/>
        </p:blipFill>
        <p:spPr>
          <a:xfrm>
            <a:off x="477720" y="901800"/>
            <a:ext cx="8399520" cy="223812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2"/>
          <p:cNvGrpSpPr/>
          <p:nvPr/>
        </p:nvGrpSpPr>
        <p:grpSpPr>
          <a:xfrm>
            <a:off x="563400" y="3495600"/>
            <a:ext cx="8313840" cy="2524320"/>
            <a:chOff x="563400" y="3495600"/>
            <a:chExt cx="8313840" cy="2524320"/>
          </a:xfrm>
        </p:grpSpPr>
        <p:pic>
          <p:nvPicPr>
            <p:cNvPr id="94" name="图片 2" descr=""/>
            <p:cNvPicPr/>
            <p:nvPr/>
          </p:nvPicPr>
          <p:blipFill>
            <a:blip r:embed="rId4"/>
            <a:stretch/>
          </p:blipFill>
          <p:spPr>
            <a:xfrm>
              <a:off x="563400" y="3495600"/>
              <a:ext cx="83138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1"/>
            <p:cNvSpPr/>
            <p:nvPr/>
          </p:nvSpPr>
          <p:spPr>
            <a:xfrm>
              <a:off x="611640" y="3500640"/>
              <a:ext cx="935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5"/>
          <p:cNvSpPr/>
          <p:nvPr/>
        </p:nvSpPr>
        <p:spPr>
          <a:xfrm>
            <a:off x="611280" y="3459240"/>
            <a:ext cx="5618160" cy="25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7958160" y="18064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2"/>
          <a:stretch/>
        </p:blipFill>
        <p:spPr>
          <a:xfrm>
            <a:off x="657360" y="846000"/>
            <a:ext cx="7829280" cy="2770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3"/>
          <a:stretch/>
        </p:blipFill>
        <p:spPr>
          <a:xfrm>
            <a:off x="7026120" y="2562120"/>
            <a:ext cx="1905120" cy="1733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"/>
          <p:cNvPicPr/>
          <p:nvPr/>
        </p:nvPicPr>
        <p:blipFill>
          <a:blip r:embed="rId4"/>
          <a:srcRect l="0" t="74633" r="72864" b="-1733"/>
          <a:stretch/>
        </p:blipFill>
        <p:spPr>
          <a:xfrm>
            <a:off x="7026120" y="5273640"/>
            <a:ext cx="1791000" cy="99864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2"/>
          <p:cNvGrpSpPr/>
          <p:nvPr/>
        </p:nvGrpSpPr>
        <p:grpSpPr>
          <a:xfrm>
            <a:off x="395280" y="3695760"/>
            <a:ext cx="6630480" cy="2576520"/>
            <a:chOff x="395280" y="3695760"/>
            <a:chExt cx="6630480" cy="2576520"/>
          </a:xfrm>
        </p:grpSpPr>
        <p:pic>
          <p:nvPicPr>
            <p:cNvPr id="102" name="图片 3" descr=""/>
            <p:cNvPicPr/>
            <p:nvPr/>
          </p:nvPicPr>
          <p:blipFill>
            <a:blip r:embed="rId5"/>
            <a:srcRect l="0" t="0" r="0" b="30017"/>
            <a:stretch/>
          </p:blipFill>
          <p:spPr>
            <a:xfrm>
              <a:off x="431280" y="3695760"/>
              <a:ext cx="6594480" cy="25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1"/>
            <p:cNvSpPr/>
            <p:nvPr/>
          </p:nvSpPr>
          <p:spPr>
            <a:xfrm>
              <a:off x="395280" y="3716640"/>
              <a:ext cx="1512000" cy="43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5"/>
          <p:cNvSpPr/>
          <p:nvPr/>
        </p:nvSpPr>
        <p:spPr>
          <a:xfrm>
            <a:off x="395280" y="3695760"/>
            <a:ext cx="6630840" cy="18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431640" y="5273640"/>
            <a:ext cx="8385480" cy="99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1192320" y="2575080"/>
            <a:ext cx="588960" cy="96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2"/>
          <a:stretch/>
        </p:blipFill>
        <p:spPr>
          <a:xfrm>
            <a:off x="396720" y="2322360"/>
            <a:ext cx="8352000" cy="89568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7050240" y="2698920"/>
            <a:ext cx="9442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2"/>
          <a:stretch/>
        </p:blipFill>
        <p:spPr>
          <a:xfrm>
            <a:off x="343080" y="790560"/>
            <a:ext cx="8458200" cy="2276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3"/>
          <a:stretch/>
        </p:blipFill>
        <p:spPr>
          <a:xfrm>
            <a:off x="6033960" y="2338560"/>
            <a:ext cx="2867040" cy="2180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" descr=""/>
          <p:cNvPicPr/>
          <p:nvPr/>
        </p:nvPicPr>
        <p:blipFill>
          <a:blip r:embed="rId4"/>
          <a:stretch/>
        </p:blipFill>
        <p:spPr>
          <a:xfrm>
            <a:off x="1050840" y="3067200"/>
            <a:ext cx="4724640" cy="2533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" descr=""/>
          <p:cNvPicPr/>
          <p:nvPr/>
        </p:nvPicPr>
        <p:blipFill>
          <a:blip r:embed="rId5"/>
          <a:stretch/>
        </p:blipFill>
        <p:spPr>
          <a:xfrm>
            <a:off x="6110280" y="2386080"/>
            <a:ext cx="2714760" cy="21333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" descr=""/>
          <p:cNvPicPr/>
          <p:nvPr/>
        </p:nvPicPr>
        <p:blipFill>
          <a:blip r:embed="rId6"/>
          <a:stretch/>
        </p:blipFill>
        <p:spPr>
          <a:xfrm>
            <a:off x="1617840" y="5684760"/>
            <a:ext cx="5038560" cy="40968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>
            <a:off x="942840" y="3067200"/>
            <a:ext cx="3524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349280" y="3510000"/>
            <a:ext cx="4426200" cy="79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1362240" y="4308480"/>
            <a:ext cx="1904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3267000" y="4308480"/>
            <a:ext cx="24163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362240" y="4753080"/>
            <a:ext cx="3430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362240" y="5195880"/>
            <a:ext cx="3430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349280" y="5600880"/>
            <a:ext cx="53071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560520" y="1133640"/>
            <a:ext cx="72849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tretch/>
        </p:blipFill>
        <p:spPr>
          <a:xfrm>
            <a:off x="2635200" y="2820960"/>
            <a:ext cx="271476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矩形 2"/>
          <p:cNvSpPr/>
          <p:nvPr/>
        </p:nvSpPr>
        <p:spPr>
          <a:xfrm>
            <a:off x="652320" y="1031760"/>
            <a:ext cx="29577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3619440" y="1031760"/>
            <a:ext cx="45752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560520" y="1536840"/>
            <a:ext cx="20746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2635200" y="1474920"/>
            <a:ext cx="2311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60520" y="1917720"/>
            <a:ext cx="18129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2478240" y="1979640"/>
            <a:ext cx="28717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2"/>
          <a:stretch/>
        </p:blipFill>
        <p:spPr>
          <a:xfrm>
            <a:off x="585720" y="835200"/>
            <a:ext cx="7656480" cy="4474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3"/>
          <a:stretch/>
        </p:blipFill>
        <p:spPr>
          <a:xfrm>
            <a:off x="619200" y="1184400"/>
            <a:ext cx="790560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"/>
          <p:cNvPicPr/>
          <p:nvPr/>
        </p:nvPicPr>
        <p:blipFill>
          <a:blip r:embed="rId4"/>
          <a:stretch/>
        </p:blipFill>
        <p:spPr>
          <a:xfrm>
            <a:off x="1150920" y="1565280"/>
            <a:ext cx="4237200" cy="17431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"/>
          <p:cNvPicPr/>
          <p:nvPr/>
        </p:nvPicPr>
        <p:blipFill>
          <a:blip r:embed="rId5"/>
          <a:stretch/>
        </p:blipFill>
        <p:spPr>
          <a:xfrm>
            <a:off x="1150920" y="3476520"/>
            <a:ext cx="36180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" descr=""/>
          <p:cNvPicPr/>
          <p:nvPr/>
        </p:nvPicPr>
        <p:blipFill>
          <a:blip r:embed="rId6"/>
          <a:stretch/>
        </p:blipFill>
        <p:spPr>
          <a:xfrm>
            <a:off x="1057320" y="3921120"/>
            <a:ext cx="6248520" cy="1609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"/>
          <p:cNvPicPr/>
          <p:nvPr/>
        </p:nvPicPr>
        <p:blipFill>
          <a:blip r:embed="rId7"/>
          <a:stretch/>
        </p:blipFill>
        <p:spPr>
          <a:xfrm>
            <a:off x="5810400" y="1787400"/>
            <a:ext cx="2714400" cy="2133720"/>
          </a:xfrm>
          <a:prstGeom prst="rect">
            <a:avLst/>
          </a:prstGeom>
          <a:ln w="0">
            <a:noFill/>
          </a:ln>
        </p:spPr>
      </p:pic>
      <p:sp>
        <p:nvSpPr>
          <p:cNvPr id="135" name="矩形 3"/>
          <p:cNvSpPr/>
          <p:nvPr/>
        </p:nvSpPr>
        <p:spPr>
          <a:xfrm>
            <a:off x="619200" y="1184400"/>
            <a:ext cx="7905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654120" y="1565280"/>
            <a:ext cx="473400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654120" y="2054160"/>
            <a:ext cx="473400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654120" y="2514600"/>
            <a:ext cx="4734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654120" y="2927520"/>
            <a:ext cx="4734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54120" y="3476520"/>
            <a:ext cx="4734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654120" y="3921120"/>
            <a:ext cx="64180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/>
          <p:cNvSpPr/>
          <p:nvPr/>
        </p:nvSpPr>
        <p:spPr>
          <a:xfrm>
            <a:off x="654120" y="4302000"/>
            <a:ext cx="310176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3755880" y="4276800"/>
            <a:ext cx="47340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654120" y="4944960"/>
            <a:ext cx="310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3790800" y="4683240"/>
            <a:ext cx="3515040" cy="84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2"/>
          <a:stretch/>
        </p:blipFill>
        <p:spPr>
          <a:xfrm>
            <a:off x="500040" y="793800"/>
            <a:ext cx="8380440" cy="17431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3"/>
          <a:stretch/>
        </p:blipFill>
        <p:spPr>
          <a:xfrm>
            <a:off x="1069920" y="2536920"/>
            <a:ext cx="36082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"/>
          <p:cNvPicPr/>
          <p:nvPr/>
        </p:nvPicPr>
        <p:blipFill>
          <a:blip r:embed="rId4"/>
          <a:stretch/>
        </p:blipFill>
        <p:spPr>
          <a:xfrm>
            <a:off x="1069920" y="3035160"/>
            <a:ext cx="4094280" cy="13147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"/>
          <p:cNvPicPr/>
          <p:nvPr/>
        </p:nvPicPr>
        <p:blipFill>
          <a:blip r:embed="rId5"/>
          <a:stretch/>
        </p:blipFill>
        <p:spPr>
          <a:xfrm>
            <a:off x="1552680" y="4452840"/>
            <a:ext cx="5275080" cy="743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"/>
          <p:cNvPicPr/>
          <p:nvPr/>
        </p:nvPicPr>
        <p:blipFill>
          <a:blip r:embed="rId6"/>
          <a:stretch/>
        </p:blipFill>
        <p:spPr>
          <a:xfrm>
            <a:off x="5689440" y="2225520"/>
            <a:ext cx="3057840" cy="19335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507960" y="3035160"/>
            <a:ext cx="473400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749160" y="3470400"/>
            <a:ext cx="4734000" cy="8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0960" y="4452840"/>
            <a:ext cx="6405480" cy="7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5" descr=""/>
          <p:cNvPicPr/>
          <p:nvPr/>
        </p:nvPicPr>
        <p:blipFill>
          <a:blip r:embed="rId2"/>
          <a:stretch/>
        </p:blipFill>
        <p:spPr>
          <a:xfrm>
            <a:off x="5931000" y="612720"/>
            <a:ext cx="3055680" cy="1933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" descr=""/>
          <p:cNvPicPr/>
          <p:nvPr/>
        </p:nvPicPr>
        <p:blipFill>
          <a:blip r:embed="rId3"/>
          <a:stretch/>
        </p:blipFill>
        <p:spPr>
          <a:xfrm>
            <a:off x="611280" y="1044720"/>
            <a:ext cx="4770360" cy="13237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"/>
          <p:cNvPicPr/>
          <p:nvPr/>
        </p:nvPicPr>
        <p:blipFill>
          <a:blip r:embed="rId4"/>
          <a:stretch/>
        </p:blipFill>
        <p:spPr>
          <a:xfrm>
            <a:off x="585720" y="714240"/>
            <a:ext cx="262728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" descr=""/>
          <p:cNvPicPr/>
          <p:nvPr/>
        </p:nvPicPr>
        <p:blipFill>
          <a:blip r:embed="rId5"/>
          <a:stretch/>
        </p:blipFill>
        <p:spPr>
          <a:xfrm>
            <a:off x="585720" y="2368440"/>
            <a:ext cx="5523120" cy="2457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" descr=""/>
          <p:cNvPicPr/>
          <p:nvPr/>
        </p:nvPicPr>
        <p:blipFill>
          <a:blip r:embed="rId6"/>
          <a:stretch/>
        </p:blipFill>
        <p:spPr>
          <a:xfrm>
            <a:off x="5940360" y="689040"/>
            <a:ext cx="3046320" cy="18572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7"/>
          <a:stretch/>
        </p:blipFill>
        <p:spPr>
          <a:xfrm>
            <a:off x="585720" y="4813200"/>
            <a:ext cx="4446720" cy="8384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7" descr=""/>
          <p:cNvPicPr/>
          <p:nvPr/>
        </p:nvPicPr>
        <p:blipFill>
          <a:blip r:embed="rId8"/>
          <a:stretch/>
        </p:blipFill>
        <p:spPr>
          <a:xfrm>
            <a:off x="5032440" y="5267160"/>
            <a:ext cx="2876400" cy="371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9"/>
          <a:stretch/>
        </p:blipFill>
        <p:spPr>
          <a:xfrm>
            <a:off x="585720" y="5765760"/>
            <a:ext cx="3970440" cy="438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" descr=""/>
          <p:cNvPicPr/>
          <p:nvPr/>
        </p:nvPicPr>
        <p:blipFill>
          <a:blip r:embed="rId10"/>
          <a:stretch/>
        </p:blipFill>
        <p:spPr>
          <a:xfrm>
            <a:off x="4556160" y="5584680"/>
            <a:ext cx="4019400" cy="695520"/>
          </a:xfrm>
          <a:prstGeom prst="rect">
            <a:avLst/>
          </a:prstGeom>
          <a:ln w="0">
            <a:noFill/>
          </a:ln>
        </p:spPr>
      </p:pic>
      <p:sp>
        <p:nvSpPr>
          <p:cNvPr id="163" name="矩形 1"/>
          <p:cNvSpPr/>
          <p:nvPr/>
        </p:nvSpPr>
        <p:spPr>
          <a:xfrm>
            <a:off x="706320" y="1108080"/>
            <a:ext cx="12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2058840" y="1171440"/>
            <a:ext cx="23259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706320" y="1552680"/>
            <a:ext cx="2708280" cy="38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642960" y="1935000"/>
            <a:ext cx="467532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585720" y="2316240"/>
            <a:ext cx="232560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461880" y="2698920"/>
            <a:ext cx="1970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2432160" y="2698920"/>
            <a:ext cx="18255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/>
          <p:cNvSpPr/>
          <p:nvPr/>
        </p:nvSpPr>
        <p:spPr>
          <a:xfrm>
            <a:off x="585720" y="3187800"/>
            <a:ext cx="3470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9"/>
          <p:cNvSpPr/>
          <p:nvPr/>
        </p:nvSpPr>
        <p:spPr>
          <a:xfrm>
            <a:off x="461880" y="3568680"/>
            <a:ext cx="4194360" cy="12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585720" y="4813200"/>
            <a:ext cx="40705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1"/>
          <p:cNvSpPr/>
          <p:nvPr/>
        </p:nvSpPr>
        <p:spPr>
          <a:xfrm>
            <a:off x="611280" y="5232240"/>
            <a:ext cx="72975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461880" y="5823000"/>
            <a:ext cx="4094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4556160" y="5613480"/>
            <a:ext cx="211464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4282920" y="2698920"/>
            <a:ext cx="1825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6670800" y="5537160"/>
            <a:ext cx="2114280" cy="7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"/>
          <p:cNvPicPr/>
          <p:nvPr/>
        </p:nvPicPr>
        <p:blipFill>
          <a:blip r:embed="rId2"/>
          <a:srcRect l="0" t="0" r="0" b="1693"/>
          <a:stretch/>
        </p:blipFill>
        <p:spPr>
          <a:xfrm>
            <a:off x="733320" y="800280"/>
            <a:ext cx="76773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1795320" y="1093680"/>
            <a:ext cx="6553440" cy="1038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3"/>
          <a:stretch/>
        </p:blipFill>
        <p:spPr>
          <a:xfrm>
            <a:off x="517680" y="2724120"/>
            <a:ext cx="8370720" cy="256212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8035920" y="37828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2"/>
          <a:srcRect l="0" t="0" r="0" b="50115"/>
          <a:stretch/>
        </p:blipFill>
        <p:spPr>
          <a:xfrm>
            <a:off x="542880" y="757080"/>
            <a:ext cx="8372520" cy="1401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" descr=""/>
          <p:cNvPicPr/>
          <p:nvPr/>
        </p:nvPicPr>
        <p:blipFill>
          <a:blip r:embed="rId3"/>
          <a:stretch/>
        </p:blipFill>
        <p:spPr>
          <a:xfrm>
            <a:off x="390600" y="3435480"/>
            <a:ext cx="8362800" cy="1819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4"/>
          <a:stretch/>
        </p:blipFill>
        <p:spPr>
          <a:xfrm>
            <a:off x="7272360" y="4491000"/>
            <a:ext cx="1838160" cy="16938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5"/>
          <a:stretch/>
        </p:blipFill>
        <p:spPr>
          <a:xfrm>
            <a:off x="905040" y="1778040"/>
            <a:ext cx="3017520" cy="12477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"/>
          <p:cNvPicPr/>
          <p:nvPr/>
        </p:nvPicPr>
        <p:blipFill>
          <a:blip r:embed="rId6"/>
          <a:stretch/>
        </p:blipFill>
        <p:spPr>
          <a:xfrm>
            <a:off x="4106880" y="1835280"/>
            <a:ext cx="3429000" cy="11905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8002440" y="17780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7896240" y="39574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" descr=""/>
          <p:cNvPicPr/>
          <p:nvPr/>
        </p:nvPicPr>
        <p:blipFill>
          <a:blip r:embed="rId2"/>
          <a:stretch/>
        </p:blipFill>
        <p:spPr>
          <a:xfrm>
            <a:off x="366840" y="966960"/>
            <a:ext cx="8408880" cy="4924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3"/>
          <a:stretch/>
        </p:blipFill>
        <p:spPr>
          <a:xfrm>
            <a:off x="6831000" y="2597040"/>
            <a:ext cx="2273400" cy="1663920"/>
          </a:xfrm>
          <a:prstGeom prst="rect">
            <a:avLst/>
          </a:prstGeom>
          <a:ln w="0">
            <a:noFill/>
          </a:ln>
        </p:spPr>
      </p:pic>
      <p:sp>
        <p:nvSpPr>
          <p:cNvPr id="57" name="矩形 5"/>
          <p:cNvSpPr/>
          <p:nvPr/>
        </p:nvSpPr>
        <p:spPr>
          <a:xfrm>
            <a:off x="7878600" y="1944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2021040" y="4867200"/>
            <a:ext cx="58896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2"/>
          <a:stretch/>
        </p:blipFill>
        <p:spPr>
          <a:xfrm>
            <a:off x="390600" y="817560"/>
            <a:ext cx="8362800" cy="9050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" descr=""/>
          <p:cNvPicPr/>
          <p:nvPr/>
        </p:nvPicPr>
        <p:blipFill>
          <a:blip r:embed="rId3"/>
          <a:stretch/>
        </p:blipFill>
        <p:spPr>
          <a:xfrm>
            <a:off x="723960" y="1722600"/>
            <a:ext cx="8029440" cy="3389040"/>
          </a:xfrm>
          <a:prstGeom prst="rect">
            <a:avLst/>
          </a:prstGeom>
          <a:ln w="0">
            <a:noFill/>
          </a:ln>
        </p:spPr>
      </p:pic>
      <p:sp>
        <p:nvSpPr>
          <p:cNvPr id="61" name="矩形 5"/>
          <p:cNvSpPr/>
          <p:nvPr/>
        </p:nvSpPr>
        <p:spPr>
          <a:xfrm>
            <a:off x="573120" y="1852560"/>
            <a:ext cx="3392280" cy="7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177920" y="2637000"/>
            <a:ext cx="199692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177920" y="3510000"/>
            <a:ext cx="2787480" cy="7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1270080" y="4394160"/>
            <a:ext cx="1576440" cy="7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" descr=""/>
          <p:cNvPicPr/>
          <p:nvPr/>
        </p:nvPicPr>
        <p:blipFill>
          <a:blip r:embed="rId2"/>
          <a:stretch/>
        </p:blipFill>
        <p:spPr>
          <a:xfrm>
            <a:off x="7693200" y="4299120"/>
            <a:ext cx="1225440" cy="19270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352440" y="1662120"/>
            <a:ext cx="805320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" descr=""/>
          <p:cNvPicPr/>
          <p:nvPr/>
        </p:nvPicPr>
        <p:blipFill>
          <a:blip r:embed="rId4"/>
          <a:srcRect l="0" t="0" r="0" b="67927"/>
          <a:stretch/>
        </p:blipFill>
        <p:spPr>
          <a:xfrm>
            <a:off x="409680" y="744480"/>
            <a:ext cx="8496360" cy="954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"/>
          <p:cNvPicPr/>
          <p:nvPr/>
        </p:nvPicPr>
        <p:blipFill>
          <a:blip r:embed="rId5"/>
          <a:stretch/>
        </p:blipFill>
        <p:spPr>
          <a:xfrm>
            <a:off x="409680" y="3487680"/>
            <a:ext cx="783108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矩形 5"/>
          <p:cNvSpPr/>
          <p:nvPr/>
        </p:nvSpPr>
        <p:spPr>
          <a:xfrm>
            <a:off x="7550280" y="25495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7473960" y="42991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358920" y="679320"/>
            <a:ext cx="8427960" cy="3629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3"/>
          <a:stretch/>
        </p:blipFill>
        <p:spPr>
          <a:xfrm>
            <a:off x="1959120" y="4308480"/>
            <a:ext cx="4219560" cy="1854360"/>
          </a:xfrm>
          <a:prstGeom prst="rect">
            <a:avLst/>
          </a:prstGeom>
          <a:ln w="0">
            <a:noFill/>
          </a:ln>
        </p:spPr>
      </p:pic>
      <p:sp>
        <p:nvSpPr>
          <p:cNvPr id="73" name="矩形 5"/>
          <p:cNvSpPr/>
          <p:nvPr/>
        </p:nvSpPr>
        <p:spPr>
          <a:xfrm>
            <a:off x="1127160" y="24321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6931080" y="36813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2"/>
          <a:srcRect l="0" t="1955" r="0" b="2416"/>
          <a:stretch/>
        </p:blipFill>
        <p:spPr>
          <a:xfrm>
            <a:off x="216000" y="722160"/>
            <a:ext cx="8713800" cy="5529240"/>
          </a:xfrm>
          <a:prstGeom prst="rect">
            <a:avLst/>
          </a:prstGeom>
          <a:ln w="0">
            <a:noFill/>
          </a:ln>
        </p:spPr>
      </p:pic>
      <p:sp>
        <p:nvSpPr>
          <p:cNvPr id="76" name="矩形 5"/>
          <p:cNvSpPr/>
          <p:nvPr/>
        </p:nvSpPr>
        <p:spPr>
          <a:xfrm>
            <a:off x="625320" y="2155680"/>
            <a:ext cx="2484720" cy="62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3110040" y="2155680"/>
            <a:ext cx="1800000" cy="62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1152360" y="2905200"/>
            <a:ext cx="36291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1152360" y="3524400"/>
            <a:ext cx="3629160" cy="10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309680" y="4638600"/>
            <a:ext cx="405144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1309680" y="5624640"/>
            <a:ext cx="6051600" cy="62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838160" y="658800"/>
            <a:ext cx="6494760" cy="1038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612720" y="1697040"/>
            <a:ext cx="8286840" cy="2162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3241800" y="3859200"/>
            <a:ext cx="2266920" cy="224784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8142120" y="25574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40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