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ACC-6FBB-47D8-BB5B-D504E476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4CB-EC32-49B6-8DE4-274D74EF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8BE-5B4C-43B2-ADBA-B4EBF1AA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57F-99B0-406D-91FD-28FF15A6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7E6-9766-4B0F-B0F2-3C250DA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D29-82FF-4D7E-AA6D-328AB25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394-47EE-43A4-8675-1D1B724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E13-4341-4D59-BD45-9005EDD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926-24F7-43B2-AFA0-B6566800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6BA-17F8-4B49-B3B4-0DCC6F9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01B-DEE7-4528-96DB-7A7D247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85E-DADD-48FF-9EB0-7B508428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8C73-0EB0-44C4-98D5-521CB98E8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84320" y="2046240"/>
            <a:ext cx="8038800" cy="1238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462040" y="3525840"/>
            <a:ext cx="4219920" cy="7812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"/>
          <p:cNvPicPr/>
          <p:nvPr/>
        </p:nvPicPr>
        <p:blipFill>
          <a:blip r:embed="rId4"/>
          <a:stretch/>
        </p:blipFill>
        <p:spPr>
          <a:xfrm>
            <a:off x="814320" y="4641840"/>
            <a:ext cx="7515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4"/>
          <p:cNvGrpSpPr/>
          <p:nvPr/>
        </p:nvGrpSpPr>
        <p:grpSpPr>
          <a:xfrm>
            <a:off x="1009800" y="843120"/>
            <a:ext cx="7623000" cy="866520"/>
            <a:chOff x="1009800" y="843120"/>
            <a:chExt cx="7623000" cy="866520"/>
          </a:xfrm>
        </p:grpSpPr>
        <p:pic>
          <p:nvPicPr>
            <p:cNvPr id="80" name="图片 1" descr=""/>
            <p:cNvPicPr/>
            <p:nvPr/>
          </p:nvPicPr>
          <p:blipFill>
            <a:blip r:embed="rId2"/>
            <a:stretch/>
          </p:blipFill>
          <p:spPr>
            <a:xfrm>
              <a:off x="1009800" y="843120"/>
              <a:ext cx="28854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图片 3" descr=""/>
            <p:cNvPicPr/>
            <p:nvPr/>
          </p:nvPicPr>
          <p:blipFill>
            <a:blip r:embed="rId3"/>
            <a:stretch/>
          </p:blipFill>
          <p:spPr>
            <a:xfrm>
              <a:off x="3823200" y="881280"/>
              <a:ext cx="48096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4" descr=""/>
            <p:cNvPicPr/>
            <p:nvPr/>
          </p:nvPicPr>
          <p:blipFill>
            <a:blip r:embed="rId4"/>
            <a:stretch/>
          </p:blipFill>
          <p:spPr>
            <a:xfrm>
              <a:off x="1130760" y="1281240"/>
              <a:ext cx="166680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15"/>
          <p:cNvGrpSpPr/>
          <p:nvPr/>
        </p:nvGrpSpPr>
        <p:grpSpPr>
          <a:xfrm>
            <a:off x="1106640" y="1722600"/>
            <a:ext cx="6659280" cy="545760"/>
            <a:chOff x="1106640" y="1722600"/>
            <a:chExt cx="6659280" cy="545760"/>
          </a:xfrm>
        </p:grpSpPr>
        <p:pic>
          <p:nvPicPr>
            <p:cNvPr id="84" name="图片 5" descr=""/>
            <p:cNvPicPr/>
            <p:nvPr/>
          </p:nvPicPr>
          <p:blipFill>
            <a:blip r:embed="rId5"/>
            <a:stretch/>
          </p:blipFill>
          <p:spPr>
            <a:xfrm>
              <a:off x="1106640" y="1722600"/>
              <a:ext cx="732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6" descr=""/>
            <p:cNvPicPr/>
            <p:nvPr/>
          </p:nvPicPr>
          <p:blipFill>
            <a:blip r:embed="rId6"/>
            <a:stretch/>
          </p:blipFill>
          <p:spPr>
            <a:xfrm>
              <a:off x="1814400" y="1773360"/>
              <a:ext cx="5951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组合 13"/>
          <p:cNvGrpSpPr/>
          <p:nvPr/>
        </p:nvGrpSpPr>
        <p:grpSpPr>
          <a:xfrm>
            <a:off x="1092240" y="2171880"/>
            <a:ext cx="3917880" cy="718920"/>
            <a:chOff x="1092240" y="2171880"/>
            <a:chExt cx="3917880" cy="718920"/>
          </a:xfrm>
        </p:grpSpPr>
        <p:pic>
          <p:nvPicPr>
            <p:cNvPr id="87" name="图片 7" descr=""/>
            <p:cNvPicPr/>
            <p:nvPr/>
          </p:nvPicPr>
          <p:blipFill>
            <a:blip r:embed="rId7"/>
            <a:stretch/>
          </p:blipFill>
          <p:spPr>
            <a:xfrm>
              <a:off x="1092240" y="2171880"/>
              <a:ext cx="1228680" cy="6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8" descr=""/>
            <p:cNvPicPr/>
            <p:nvPr/>
          </p:nvPicPr>
          <p:blipFill>
            <a:blip r:embed="rId8"/>
            <a:stretch/>
          </p:blipFill>
          <p:spPr>
            <a:xfrm>
              <a:off x="2257560" y="2281680"/>
              <a:ext cx="2752560" cy="60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组合 12"/>
          <p:cNvGrpSpPr/>
          <p:nvPr/>
        </p:nvGrpSpPr>
        <p:grpSpPr>
          <a:xfrm>
            <a:off x="1068480" y="2924280"/>
            <a:ext cx="5309640" cy="399960"/>
            <a:chOff x="1068480" y="2924280"/>
            <a:chExt cx="5309640" cy="399960"/>
          </a:xfrm>
        </p:grpSpPr>
        <p:pic>
          <p:nvPicPr>
            <p:cNvPr id="90" name="图片 9" descr=""/>
            <p:cNvPicPr/>
            <p:nvPr/>
          </p:nvPicPr>
          <p:blipFill>
            <a:blip r:embed="rId9"/>
            <a:stretch/>
          </p:blipFill>
          <p:spPr>
            <a:xfrm>
              <a:off x="1068480" y="2924280"/>
              <a:ext cx="4570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10" descr=""/>
            <p:cNvPicPr/>
            <p:nvPr/>
          </p:nvPicPr>
          <p:blipFill>
            <a:blip r:embed="rId10"/>
            <a:stretch/>
          </p:blipFill>
          <p:spPr>
            <a:xfrm>
              <a:off x="5587920" y="2958840"/>
              <a:ext cx="790200" cy="3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11" descr=""/>
          <p:cNvPicPr/>
          <p:nvPr/>
        </p:nvPicPr>
        <p:blipFill>
          <a:blip r:embed="rId11"/>
          <a:stretch/>
        </p:blipFill>
        <p:spPr>
          <a:xfrm>
            <a:off x="1060560" y="3362400"/>
            <a:ext cx="6229080" cy="638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6" descr=""/>
          <p:cNvPicPr/>
          <p:nvPr/>
        </p:nvPicPr>
        <p:blipFill>
          <a:blip r:embed="rId12"/>
          <a:stretch/>
        </p:blipFill>
        <p:spPr>
          <a:xfrm>
            <a:off x="2798640" y="4149720"/>
            <a:ext cx="3517920" cy="194004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1009800" y="809640"/>
            <a:ext cx="7623000" cy="90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060560" y="1735200"/>
            <a:ext cx="66592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1060560" y="2178000"/>
            <a:ext cx="3949560" cy="6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1009800" y="2833560"/>
            <a:ext cx="56163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1009800" y="3324240"/>
            <a:ext cx="6538680" cy="67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1755720" y="1128600"/>
            <a:ext cx="6448320" cy="1019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3"/>
          <a:srcRect l="0" t="0" r="0" b="50141"/>
          <a:stretch/>
        </p:blipFill>
        <p:spPr>
          <a:xfrm>
            <a:off x="434880" y="2784600"/>
            <a:ext cx="827568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7937640" y="33256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527040" y="3786120"/>
            <a:ext cx="8353440" cy="1495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"/>
          <p:cNvPicPr/>
          <p:nvPr/>
        </p:nvPicPr>
        <p:blipFill>
          <a:blip r:embed="rId3"/>
          <a:srcRect l="0" t="50457" r="0" b="-205"/>
          <a:stretch/>
        </p:blipFill>
        <p:spPr>
          <a:xfrm>
            <a:off x="527040" y="1371600"/>
            <a:ext cx="8277120" cy="20988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8055000" y="1371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8055000" y="43117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2"/>
          <a:stretch/>
        </p:blipFill>
        <p:spPr>
          <a:xfrm>
            <a:off x="969840" y="1490760"/>
            <a:ext cx="7020000" cy="33224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"/>
          <p:cNvPicPr/>
          <p:nvPr/>
        </p:nvPicPr>
        <p:blipFill>
          <a:blip r:embed="rId3"/>
          <a:stretch/>
        </p:blipFill>
        <p:spPr>
          <a:xfrm>
            <a:off x="3011400" y="2243160"/>
            <a:ext cx="4437000" cy="25700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" descr=""/>
          <p:cNvPicPr/>
          <p:nvPr/>
        </p:nvPicPr>
        <p:blipFill>
          <a:blip r:embed="rId4"/>
          <a:stretch/>
        </p:blipFill>
        <p:spPr>
          <a:xfrm>
            <a:off x="460440" y="4944960"/>
            <a:ext cx="80391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460440" y="4944960"/>
            <a:ext cx="13906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1851120" y="4944960"/>
            <a:ext cx="67881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860400" y="5388120"/>
            <a:ext cx="252432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2"/>
          <a:stretch/>
        </p:blipFill>
        <p:spPr>
          <a:xfrm>
            <a:off x="506520" y="998640"/>
            <a:ext cx="8342280" cy="512424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7950240" y="14828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7950240" y="36291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477720" y="981000"/>
            <a:ext cx="839952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3"/>
          <a:stretch/>
        </p:blipFill>
        <p:spPr>
          <a:xfrm>
            <a:off x="1509840" y="2554200"/>
            <a:ext cx="6124320" cy="28288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4"/>
          <a:stretch/>
        </p:blipFill>
        <p:spPr>
          <a:xfrm>
            <a:off x="1395360" y="2297160"/>
            <a:ext cx="602928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5"/>
          <a:stretch/>
        </p:blipFill>
        <p:spPr>
          <a:xfrm>
            <a:off x="1171440" y="5487840"/>
            <a:ext cx="2086200" cy="50508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1171440" y="5487840"/>
            <a:ext cx="20908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1743120" y="654120"/>
            <a:ext cx="65530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" descr=""/>
          <p:cNvPicPr/>
          <p:nvPr/>
        </p:nvPicPr>
        <p:blipFill>
          <a:blip r:embed="rId3"/>
          <a:stretch/>
        </p:blipFill>
        <p:spPr>
          <a:xfrm>
            <a:off x="385920" y="1873080"/>
            <a:ext cx="8370720" cy="4200840"/>
          </a:xfrm>
          <a:prstGeom prst="rect">
            <a:avLst/>
          </a:prstGeom>
          <a:ln w="0">
            <a:noFill/>
          </a:ln>
        </p:spPr>
      </p:pic>
      <p:sp>
        <p:nvSpPr>
          <p:cNvPr id="68" name="矩形 5"/>
          <p:cNvSpPr/>
          <p:nvPr/>
        </p:nvSpPr>
        <p:spPr>
          <a:xfrm>
            <a:off x="7989840" y="234936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2"/>
          <a:stretch/>
        </p:blipFill>
        <p:spPr>
          <a:xfrm>
            <a:off x="488880" y="747720"/>
            <a:ext cx="8325000" cy="5362560"/>
          </a:xfrm>
          <a:prstGeom prst="rect">
            <a:avLst/>
          </a:prstGeom>
          <a:ln w="0">
            <a:noFill/>
          </a:ln>
        </p:spPr>
      </p:pic>
      <p:sp>
        <p:nvSpPr>
          <p:cNvPr id="70" name="矩形 5"/>
          <p:cNvSpPr/>
          <p:nvPr/>
        </p:nvSpPr>
        <p:spPr>
          <a:xfrm>
            <a:off x="5211720" y="669960"/>
            <a:ext cx="12333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1157400" y="1193760"/>
            <a:ext cx="1128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>
            <a:off x="380880" y="738360"/>
            <a:ext cx="8382240" cy="3541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3"/>
          <a:stretch/>
        </p:blipFill>
        <p:spPr>
          <a:xfrm>
            <a:off x="5122800" y="4281480"/>
            <a:ext cx="3517920" cy="1940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" descr=""/>
          <p:cNvPicPr/>
          <p:nvPr/>
        </p:nvPicPr>
        <p:blipFill>
          <a:blip r:embed="rId4"/>
          <a:stretch/>
        </p:blipFill>
        <p:spPr>
          <a:xfrm>
            <a:off x="1022400" y="4235400"/>
            <a:ext cx="3217680" cy="203364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1022400" y="4281480"/>
            <a:ext cx="3327480" cy="58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1552680" y="5029200"/>
            <a:ext cx="65556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233440" y="5029200"/>
            <a:ext cx="194472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619280" y="5778360"/>
            <a:ext cx="26208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6:1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