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6818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D89-8055-423C-BF1F-96544DB1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376-2593-4CD7-AB95-BDAC9EF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63A-A653-4E07-96B7-10787783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768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36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64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768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36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1AC-C0FA-48DA-9406-325DA4E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4BC4-F03B-451A-8CFC-657391BA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31D-98BA-4E23-B40F-DE2C535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1C0E-DC74-42BA-9B23-C8FCAF8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0E8-0FD1-46BB-9917-5DE0C422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2F8C-BFE3-4438-A8F5-680E0B3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6640" y="322200"/>
            <a:ext cx="110347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250-BEDA-4361-8FFE-0233458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825-241D-4A01-9B43-455450D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5B8-F626-4965-A78D-0B0D2D7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4FC-F553-40CB-AAA8-38F7B95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75A0-9AC7-4F2F-92AF-DB0A054B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6FBA-431C-44B7-83F2-93735E4F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A7E7-8B8F-483E-BAAE-147C252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768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836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64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768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836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C4A-F2E4-440C-A855-455AD88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52DB-D7F5-4148-8246-FC30AE5A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613F-06D5-446F-A789-0DCBE223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4140-F2CE-4F7C-9CE8-FE34CCA6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2763-12BD-442D-9CBD-49D2AFD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6411-578F-4750-9878-34160C0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0C5-C1E5-4303-8F0B-392A8DC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6640" y="322200"/>
            <a:ext cx="110347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0044-5106-4DCB-A7E0-3689EDD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1D90-5953-4956-A645-DAF7BCB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6A77-2324-4D22-844C-43DD4F8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9BBD-AD0D-4BEB-96ED-C553E35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F9E4-E86B-4F51-B96B-2CE8E5F2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B68E-9A40-4E76-A430-0667F721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768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2836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64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768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2836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920D-116F-4062-BE9C-A77EC33C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C96B-4941-47CC-9972-E5B06248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22EE-DBB6-430F-B22F-397FB66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65B6-D446-4480-889B-ABC877F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0CC-CD43-4E40-ADCA-EF63480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C116-65DE-4621-8E27-D2D81D38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2B98-2177-4B57-83DA-E7E917B9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66640" y="322200"/>
            <a:ext cx="110347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2F52-D015-46A0-8673-E158366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C16E-079D-40F9-A6EB-5F7B126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9524-2A2E-425F-B7BC-4A01AF4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409C-FAB9-4E14-ADC4-D4E3050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D9B49-9541-4258-9A60-3F2CF41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E2DCF-E34E-424A-8B30-46C0F871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9768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028360" y="118728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6664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29768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028360" y="3692520"/>
            <a:ext cx="35528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D226-B288-46A9-835B-F1014355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3B8-6B9A-4D61-B7BC-61217534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640" y="322200"/>
            <a:ext cx="110347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9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9FE-F854-4363-AD76-5AFAA1DE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632-0BFD-4908-AC05-5B41317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1160" y="369252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D86-A116-44ED-8EF1-0DED023A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64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1160" y="1187280"/>
            <a:ext cx="538488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640" y="3692520"/>
            <a:ext cx="11034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E06-A1A8-4FFF-9C67-74CB771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95c36b"/>
              </a:buClr>
              <a:buSzPct val="25000"/>
              <a:buFont typeface="Wingdings" charset="2"/>
              <a:buChar char="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76"/>
              </a:spcBef>
              <a:buClr>
                <a:srgbClr val="95c36b"/>
              </a:buClr>
              <a:buSzPct val="25000"/>
              <a:buFont typeface="Arial"/>
              <a:buChar char="–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76"/>
              </a:spcBef>
              <a:buClr>
                <a:srgbClr val="95c36b"/>
              </a:buClr>
              <a:buSzPct val="25000"/>
              <a:buFont typeface="Arial"/>
              <a:buChar char="•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76"/>
              </a:spcBef>
              <a:buClr>
                <a:srgbClr val="95c36b"/>
              </a:buClr>
              <a:buSzPct val="25000"/>
              <a:buFont typeface="Arial"/>
              <a:buChar char="–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8840" indent="-228600">
              <a:spcBef>
                <a:spcPts val="476"/>
              </a:spcBef>
              <a:buClr>
                <a:srgbClr val="95c36b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8840" indent="-2286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8840" indent="-2286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7680" y="6338880"/>
            <a:ext cx="28400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436-1FA2-4F58-AF69-AE2F1752EBE9}" type="datetime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57640" y="6338880"/>
            <a:ext cx="3852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9920" y="6338880"/>
            <a:ext cx="28400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F07-71DC-48FD-B88B-8CB098602480}" type="slidenum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884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884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884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7680" y="622944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57640" y="6229440"/>
            <a:ext cx="3852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19920" y="622944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E57-D751-4A84-829A-7F1AE5AD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0"/>
            <a:ext cx="12168360" cy="6838920"/>
          </a:xfrm>
          <a:prstGeom prst="rect">
            <a:avLst/>
          </a:prstGeom>
          <a:solidFill>
            <a:srgbClr val="19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322200"/>
            <a:ext cx="1103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836280" y="6338880"/>
            <a:ext cx="27385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4030560" y="6338880"/>
            <a:ext cx="41068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8592840" y="6338880"/>
            <a:ext cx="27385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4062-99E6-46CD-9E79-998E4C449E2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566640" y="1187280"/>
            <a:ext cx="110347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1"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5dd4ff"/>
              </a:buClr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2" marL="644400" indent="-1299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3" marL="901800" indent="-13032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4" marL="1158840" indent="-1299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5" marL="1158840" indent="-1299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lvl="6" marL="1158840" indent="-1299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矩形标注 7"/>
          <p:cNvSpPr/>
          <p:nvPr/>
        </p:nvSpPr>
        <p:spPr>
          <a:xfrm>
            <a:off x="244440" y="246240"/>
            <a:ext cx="11652120" cy="6484680"/>
          </a:xfrm>
          <a:custGeom>
            <a:avLst/>
            <a:gdLst/>
            <a:ahLst/>
            <a:rect l="l" t="t" r="r" b="b"/>
            <a:pathLst>
              <a:path w="4385007" h="3897467">
                <a:moveTo>
                  <a:pt x="0" y="0"/>
                </a:moveTo>
                <a:lnTo>
                  <a:pt x="730835" y="0"/>
                </a:lnTo>
                <a:lnTo>
                  <a:pt x="730835" y="0"/>
                </a:lnTo>
                <a:lnTo>
                  <a:pt x="1827086" y="0"/>
                </a:lnTo>
                <a:lnTo>
                  <a:pt x="4385007" y="0"/>
                </a:lnTo>
                <a:lnTo>
                  <a:pt x="4385007" y="2113571"/>
                </a:lnTo>
                <a:lnTo>
                  <a:pt x="4385007" y="2113571"/>
                </a:lnTo>
                <a:lnTo>
                  <a:pt x="4385007" y="3019388"/>
                </a:lnTo>
                <a:lnTo>
                  <a:pt x="4385007" y="3623265"/>
                </a:lnTo>
                <a:lnTo>
                  <a:pt x="1058442" y="3629270"/>
                </a:lnTo>
                <a:lnTo>
                  <a:pt x="853407" y="3897467"/>
                </a:lnTo>
                <a:lnTo>
                  <a:pt x="730835" y="3623265"/>
                </a:lnTo>
                <a:lnTo>
                  <a:pt x="0" y="3623265"/>
                </a:lnTo>
                <a:lnTo>
                  <a:pt x="0" y="3019388"/>
                </a:lnTo>
                <a:lnTo>
                  <a:pt x="0" y="2113571"/>
                </a:lnTo>
                <a:lnTo>
                  <a:pt x="0" y="2113571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9"/>
          <p:cNvSpPr/>
          <p:nvPr/>
        </p:nvSpPr>
        <p:spPr>
          <a:xfrm>
            <a:off x="0" y="0"/>
            <a:ext cx="12168360" cy="6838920"/>
          </a:xfrm>
          <a:prstGeom prst="rect">
            <a:avLst/>
          </a:prstGeom>
          <a:solidFill>
            <a:srgbClr val="19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0"/>
          <p:cNvGrpSpPr/>
          <p:nvPr/>
        </p:nvGrpSpPr>
        <p:grpSpPr>
          <a:xfrm>
            <a:off x="2324880" y="1512000"/>
            <a:ext cx="7975440" cy="3782160"/>
            <a:chOff x="2324880" y="1512000"/>
            <a:chExt cx="7975440" cy="3782160"/>
          </a:xfrm>
        </p:grpSpPr>
        <p:sp>
          <p:nvSpPr>
            <p:cNvPr id="127" name="矩形标注 7"/>
            <p:cNvSpPr/>
            <p:nvPr/>
          </p:nvSpPr>
          <p:spPr>
            <a:xfrm>
              <a:off x="3636360" y="1620720"/>
              <a:ext cx="5185440" cy="3673440"/>
            </a:xfrm>
            <a:custGeom>
              <a:avLst/>
              <a:gdLst/>
              <a:ahLst/>
              <a:rect l="l" t="t" r="r" b="b"/>
              <a:pathLst>
                <a:path w="4385007" h="4108257">
                  <a:moveTo>
                    <a:pt x="0" y="0"/>
                  </a:moveTo>
                  <a:lnTo>
                    <a:pt x="730835" y="0"/>
                  </a:lnTo>
                  <a:lnTo>
                    <a:pt x="730835" y="0"/>
                  </a:lnTo>
                  <a:lnTo>
                    <a:pt x="1827086" y="0"/>
                  </a:lnTo>
                  <a:lnTo>
                    <a:pt x="4385007" y="0"/>
                  </a:lnTo>
                  <a:lnTo>
                    <a:pt x="4385007" y="2113571"/>
                  </a:lnTo>
                  <a:lnTo>
                    <a:pt x="4385007" y="2113571"/>
                  </a:lnTo>
                  <a:lnTo>
                    <a:pt x="4385007" y="3019388"/>
                  </a:lnTo>
                  <a:lnTo>
                    <a:pt x="4385007" y="3623265"/>
                  </a:lnTo>
                  <a:lnTo>
                    <a:pt x="1426033" y="3639307"/>
                  </a:lnTo>
                  <a:lnTo>
                    <a:pt x="1118554" y="4108257"/>
                  </a:lnTo>
                  <a:lnTo>
                    <a:pt x="730835" y="3623265"/>
                  </a:lnTo>
                  <a:lnTo>
                    <a:pt x="0" y="3623265"/>
                  </a:lnTo>
                  <a:lnTo>
                    <a:pt x="0" y="3019388"/>
                  </a:lnTo>
                  <a:lnTo>
                    <a:pt x="0" y="2113571"/>
                  </a:lnTo>
                  <a:lnTo>
                    <a:pt x="0" y="211357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同心圆 12"/>
            <p:cNvSpPr/>
            <p:nvPr/>
          </p:nvSpPr>
          <p:spPr>
            <a:xfrm>
              <a:off x="9203040" y="4401360"/>
              <a:ext cx="552240" cy="417600"/>
            </a:xfrm>
            <a:custGeom>
              <a:avLst/>
              <a:gdLst/>
              <a:ahLst/>
              <a:rect l="l" t="t" r="r" b="b"/>
              <a:pathLst>
                <a:path w="350409" h="467212">
                  <a:moveTo>
                    <a:pt x="0" y="233606"/>
                  </a:moveTo>
                  <a:cubicBezTo>
                    <a:pt x="0" y="104589"/>
                    <a:pt x="78442" y="0"/>
                    <a:pt x="175205" y="0"/>
                  </a:cubicBezTo>
                  <a:cubicBezTo>
                    <a:pt x="271968" y="0"/>
                    <a:pt x="350410" y="104589"/>
                    <a:pt x="350410" y="233606"/>
                  </a:cubicBezTo>
                  <a:cubicBezTo>
                    <a:pt x="350410" y="362623"/>
                    <a:pt x="271968" y="467212"/>
                    <a:pt x="175205" y="467212"/>
                  </a:cubicBezTo>
                  <a:cubicBezTo>
                    <a:pt x="78442" y="467212"/>
                    <a:pt x="0" y="362623"/>
                    <a:pt x="0" y="233606"/>
                  </a:cubicBezTo>
                  <a:close/>
                  <a:moveTo>
                    <a:pt x="87602" y="233606"/>
                  </a:moveTo>
                  <a:cubicBezTo>
                    <a:pt x="87602" y="314242"/>
                    <a:pt x="126823" y="379610"/>
                    <a:pt x="175204" y="379610"/>
                  </a:cubicBezTo>
                  <a:cubicBezTo>
                    <a:pt x="223585" y="379610"/>
                    <a:pt x="262806" y="314242"/>
                    <a:pt x="262806" y="233606"/>
                  </a:cubicBezTo>
                  <a:cubicBezTo>
                    <a:pt x="262806" y="152970"/>
                    <a:pt x="223585" y="87602"/>
                    <a:pt x="175204" y="87602"/>
                  </a:cubicBezTo>
                  <a:cubicBezTo>
                    <a:pt x="126823" y="87602"/>
                    <a:pt x="87602" y="152970"/>
                    <a:pt x="87602" y="2336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空心弧 13"/>
            <p:cNvSpPr/>
            <p:nvPr/>
          </p:nvSpPr>
          <p:spPr>
            <a:xfrm rot="1929600">
              <a:off x="3189600" y="2980800"/>
              <a:ext cx="540360" cy="397800"/>
            </a:xfrm>
            <a:custGeom>
              <a:avLst/>
              <a:gdLst/>
              <a:ahLst/>
              <a:rect l="l" t="t" r="r" b="b"/>
              <a:pathLst>
                <a:path w="342900" h="445168">
                  <a:moveTo>
                    <a:pt x="0" y="222584"/>
                  </a:moveTo>
                  <a:cubicBezTo>
                    <a:pt x="0" y="99654"/>
                    <a:pt x="76761" y="0"/>
                    <a:pt x="171450" y="0"/>
                  </a:cubicBezTo>
                  <a:cubicBezTo>
                    <a:pt x="266139" y="0"/>
                    <a:pt x="342900" y="99654"/>
                    <a:pt x="342900" y="222584"/>
                  </a:cubicBezTo>
                  <a:lnTo>
                    <a:pt x="257175" y="222584"/>
                  </a:lnTo>
                  <a:cubicBezTo>
                    <a:pt x="257175" y="146999"/>
                    <a:pt x="218795" y="85725"/>
                    <a:pt x="171450" y="85725"/>
                  </a:cubicBezTo>
                  <a:cubicBezTo>
                    <a:pt x="124105" y="85725"/>
                    <a:pt x="85725" y="146999"/>
                    <a:pt x="85725" y="222584"/>
                  </a:cubicBezTo>
                  <a:lnTo>
                    <a:pt x="0" y="222584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1949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斜纹 14"/>
            <p:cNvSpPr/>
            <p:nvPr/>
          </p:nvSpPr>
          <p:spPr>
            <a:xfrm rot="20929200">
              <a:off x="8459280" y="1683360"/>
              <a:ext cx="1814760" cy="447480"/>
            </a:xfrm>
            <a:custGeom>
              <a:avLst/>
              <a:gdLst/>
              <a:ahLst/>
              <a:rect l="l" t="t" r="r" b="b"/>
              <a:pathLst>
                <a:path w="1150973" h="500734">
                  <a:moveTo>
                    <a:pt x="0" y="250367"/>
                  </a:moveTo>
                  <a:lnTo>
                    <a:pt x="575487" y="0"/>
                  </a:lnTo>
                  <a:lnTo>
                    <a:pt x="1150973" y="0"/>
                  </a:lnTo>
                  <a:lnTo>
                    <a:pt x="0" y="500734"/>
                  </a:lnTo>
                  <a:lnTo>
                    <a:pt x="0" y="25036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1949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等腰三角形 15"/>
            <p:cNvSpPr/>
            <p:nvPr/>
          </p:nvSpPr>
          <p:spPr>
            <a:xfrm rot="19878000">
              <a:off x="2377800" y="3991320"/>
              <a:ext cx="474120" cy="3430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燕尾形 16"/>
            <p:cNvSpPr/>
            <p:nvPr/>
          </p:nvSpPr>
          <p:spPr>
            <a:xfrm rot="11479800">
              <a:off x="8605440" y="4037040"/>
              <a:ext cx="736560" cy="2440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283" y="0"/>
                  </a:lnTo>
                  <a:lnTo>
                    <a:pt x="21600" y="10800"/>
                  </a:lnTo>
                  <a:lnTo>
                    <a:pt x="15283" y="21600"/>
                  </a:lnTo>
                  <a:lnTo>
                    <a:pt x="0" y="21600"/>
                  </a:lnTo>
                  <a:lnTo>
                    <a:pt x="6317" y="108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1949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17720" y="1998720"/>
            <a:ext cx="503532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07680" y="622944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4157640" y="6229440"/>
            <a:ext cx="385272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8719920" y="6229440"/>
            <a:ext cx="28400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887-20FF-462B-9937-183DA52A6E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75" name="Picture 1" descr="C:\Users\Administrator\AppData\Roaming\Tencent\Users\292841300\QQ\WinTemp\RichOle\QMAKI5)FTH)~PH${7]MS_$7.jpg"/>
          <p:cNvPicPr/>
          <p:nvPr/>
        </p:nvPicPr>
        <p:blipFill>
          <a:blip r:embed="rId1"/>
          <a:stretch/>
        </p:blipFill>
        <p:spPr>
          <a:xfrm>
            <a:off x="0" y="0"/>
            <a:ext cx="121683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07" name="Picture 1" descr="C:\Users\Administrator\AppData\Roaming\Tencent\Users\292841300\QQ\WinTemp\RichOle\KHQ5FYXTMC%FX{(MZ_9YKSM.png"/>
          <p:cNvPicPr/>
          <p:nvPr/>
        </p:nvPicPr>
        <p:blipFill>
          <a:blip r:embed="rId1"/>
          <a:stretch/>
        </p:blipFill>
        <p:spPr>
          <a:xfrm>
            <a:off x="0" y="0"/>
            <a:ext cx="12168360" cy="68072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327480" y="784080"/>
            <a:ext cx="7129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滑坡 泥石流多发区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11" name="Picture 1" descr="C:\Users\Administrator\AppData\Roaming\Tencent\Users\292841300\QQ\WinTemp\RichOle\CVN@W@U(HR9UNGSJ(LM)XZV.jpg"/>
          <p:cNvPicPr/>
          <p:nvPr/>
        </p:nvPicPr>
        <p:blipFill>
          <a:blip r:embed="rId1"/>
          <a:stretch/>
        </p:blipFill>
        <p:spPr>
          <a:xfrm>
            <a:off x="0" y="0"/>
            <a:ext cx="116316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14" name="Picture 1" descr="C:\Users\Administrator\AppData\Roaming\Tencent\Users\292841300\QQ\WinTemp\RichOle\`6ZDI_PCJGS72TJVMJ$]{~T.jpg"/>
          <p:cNvPicPr/>
          <p:nvPr/>
        </p:nvPicPr>
        <p:blipFill>
          <a:blip r:embed="rId1"/>
          <a:stretch/>
        </p:blipFill>
        <p:spPr>
          <a:xfrm>
            <a:off x="0" y="0"/>
            <a:ext cx="123094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17" name="Picture 1" descr="C:\Users\Administrator\AppData\Roaming\Tencent\Users\292841300\QQ\WinTemp\RichOle\9KIG93P5X}EBJ54~[{7VP`N.jpg"/>
          <p:cNvPicPr/>
          <p:nvPr/>
        </p:nvPicPr>
        <p:blipFill>
          <a:blip r:embed="rId1"/>
          <a:stretch/>
        </p:blipFill>
        <p:spPr>
          <a:xfrm>
            <a:off x="0" y="0"/>
            <a:ext cx="121554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zh-CN" sz="2300" spc="-1" strike="noStrike">
                <a:solidFill>
                  <a:srgbClr val="ff0000"/>
                </a:solidFill>
                <a:latin typeface="微软雅黑"/>
              </a:rPr>
              <a:t>我是读图小能手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300" spc="-1" strike="noStrike">
                <a:solidFill>
                  <a:srgbClr val="0070c0"/>
                </a:solidFill>
                <a:latin typeface="微软雅黑"/>
              </a:rPr>
              <a:t>看课本</a:t>
            </a:r>
            <a:r>
              <a:rPr b="0" lang="en-US" sz="2300" spc="-1" strike="noStrike">
                <a:solidFill>
                  <a:srgbClr val="0070c0"/>
                </a:solidFill>
                <a:latin typeface="微软雅黑"/>
              </a:rPr>
              <a:t>56</a:t>
            </a:r>
            <a:r>
              <a:rPr b="0" lang="zh-CN" sz="2300" spc="-1" strike="noStrike">
                <a:solidFill>
                  <a:srgbClr val="0070c0"/>
                </a:solidFill>
                <a:latin typeface="微软雅黑"/>
              </a:rPr>
              <a:t>页中国主要气象灾害的分布图和课本</a:t>
            </a:r>
            <a:r>
              <a:rPr b="0" lang="en-US" sz="2300" spc="-1" strike="noStrike">
                <a:solidFill>
                  <a:srgbClr val="0070c0"/>
                </a:solidFill>
                <a:latin typeface="微软雅黑"/>
              </a:rPr>
              <a:t>57</a:t>
            </a:r>
            <a:r>
              <a:rPr b="0" lang="zh-CN" sz="2300" spc="-1" strike="noStrike">
                <a:solidFill>
                  <a:srgbClr val="0070c0"/>
                </a:solidFill>
                <a:latin typeface="微软雅黑"/>
              </a:rPr>
              <a:t>页中国主要地质灾害的分布图结合</a:t>
            </a:r>
            <a:r>
              <a:rPr b="0" lang="en-US" sz="2300" spc="-1" strike="noStrike">
                <a:solidFill>
                  <a:srgbClr val="0070c0"/>
                </a:solidFill>
                <a:latin typeface="微软雅黑"/>
              </a:rPr>
              <a:t>58</a:t>
            </a:r>
            <a:r>
              <a:rPr b="0" lang="zh-CN" sz="2300" spc="-1" strike="noStrike">
                <a:solidFill>
                  <a:srgbClr val="0070c0"/>
                </a:solidFill>
                <a:latin typeface="微软雅黑"/>
              </a:rPr>
              <a:t>页活动进行分析，了解我国主要自然灾害的分布及成因。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0"/>
          <p:cNvSpPr/>
          <p:nvPr/>
        </p:nvSpPr>
        <p:spPr>
          <a:xfrm>
            <a:off x="623880" y="619200"/>
            <a:ext cx="4056120" cy="62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262673"/>
                </a:solidFill>
                <a:latin typeface="Arial"/>
                <a:ea typeface="黑体"/>
              </a:rPr>
              <a:t>评价园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27040" y="1552680"/>
            <a:ext cx="1063476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300" spc="-1" strike="noStrike">
                <a:solidFill>
                  <a:srgbClr val="ffffff"/>
                </a:solidFill>
                <a:latin typeface="Times New Roman"/>
              </a:rPr>
              <a:t>）读图归纳，完成下表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31640" y="2355840"/>
          <a:ext cx="11403000" cy="3611520"/>
        </p:xfrm>
        <a:graphic>
          <a:graphicData uri="http://schemas.openxmlformats.org/drawingml/2006/table">
            <a:tbl>
              <a:tblPr/>
              <a:tblGrid>
                <a:gridCol w="2055960"/>
                <a:gridCol w="2709720"/>
                <a:gridCol w="6637320"/>
              </a:tblGrid>
              <a:tr h="4716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自然灾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主要分布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形成原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1368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洪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84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干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193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台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576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19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1" lang="zh-CN" sz="1900" spc="-1" strike="noStrike">
                          <a:solidFill>
                            <a:srgbClr val="7030a0"/>
                          </a:solidFill>
                          <a:latin typeface="Calibri"/>
                          <a:ea typeface="楷体_GB2312"/>
                        </a:rPr>
                        <a:t>泥石流、滑坡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576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d8f95"/>
                      </a:solidFill>
                    </a:lnL>
                    <a:lnR w="13680">
                      <a:solidFill>
                        <a:srgbClr val="3d8f95"/>
                      </a:solidFill>
                    </a:lnR>
                    <a:lnT w="5760">
                      <a:solidFill>
                        <a:srgbClr val="3d8f95"/>
                      </a:solidFill>
                    </a:lnT>
                    <a:lnB w="13680">
                      <a:solidFill>
                        <a:srgbClr val="3d8f95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4" descr="E:\李燃\教师教学用书\2012人教教师用书项目\ppt\地理\dl.png"/>
          <p:cNvPicPr/>
          <p:nvPr/>
        </p:nvPicPr>
        <p:blipFill>
          <a:blip r:embed="rId1"/>
          <a:stretch/>
        </p:blipFill>
        <p:spPr>
          <a:xfrm>
            <a:off x="11069640" y="204840"/>
            <a:ext cx="89532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2"/>
          <p:cNvSpPr/>
          <p:nvPr/>
        </p:nvSpPr>
        <p:spPr>
          <a:xfrm>
            <a:off x="2535120" y="2887560"/>
            <a:ext cx="3346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秦岭淮河以南地区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3"/>
          <p:cNvSpPr/>
          <p:nvPr/>
        </p:nvSpPr>
        <p:spPr>
          <a:xfrm>
            <a:off x="3059280" y="3267000"/>
            <a:ext cx="2415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华北地区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4"/>
          <p:cNvSpPr/>
          <p:nvPr/>
        </p:nvSpPr>
        <p:spPr>
          <a:xfrm>
            <a:off x="3041640" y="3876840"/>
            <a:ext cx="2416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东南沿海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5"/>
          <p:cNvSpPr/>
          <p:nvPr/>
        </p:nvSpPr>
        <p:spPr>
          <a:xfrm>
            <a:off x="2981520" y="4788000"/>
            <a:ext cx="142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地势第二阶梯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6"/>
          <p:cNvSpPr/>
          <p:nvPr/>
        </p:nvSpPr>
        <p:spPr>
          <a:xfrm>
            <a:off x="6591240" y="2862360"/>
            <a:ext cx="5272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该地区降水集中、丰富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7"/>
          <p:cNvSpPr/>
          <p:nvPr/>
        </p:nvSpPr>
        <p:spPr>
          <a:xfrm>
            <a:off x="6083280" y="3241800"/>
            <a:ext cx="608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降水量较少，尤其是春季降水少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5157720" y="3699000"/>
            <a:ext cx="74152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　　从低纬度海洋侵入，登陆后逐渐减弱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至消失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0"/>
          <p:cNvSpPr/>
          <p:nvPr/>
        </p:nvSpPr>
        <p:spPr>
          <a:xfrm>
            <a:off x="5172120" y="4438800"/>
            <a:ext cx="750240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　　地处我国高原、山地与丘陵、平原的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渡地带，坡陡谷深，破碎松散的岩石遇上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天气或冰雪大量融化，就会产生滑坡、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石流等灾害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zh-CN" sz="2300" spc="-1" strike="noStrike">
                <a:solidFill>
                  <a:srgbClr val="ff0000"/>
                </a:solidFill>
                <a:latin typeface="微软雅黑"/>
              </a:rPr>
              <a:t>比一比，谁最棒。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900" spc="-1" strike="noStrike">
                <a:solidFill>
                  <a:srgbClr val="ffffff"/>
                </a:solidFill>
                <a:latin typeface="微软雅黑"/>
              </a:rPr>
              <a:t>我国地震的多发区在哪里？为什么？</a:t>
            </a:r>
            <a:endParaRPr b="0" lang="en-US" sz="39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34" name="Picture 1" descr="C:\Users\Administrator\AppData\Roaming\Tencent\Users\292841300\QQ\WinTemp\RichOle\T9EXA_0O3RN)U4JGASC]]9F.png"/>
          <p:cNvPicPr/>
          <p:nvPr/>
        </p:nvPicPr>
        <p:blipFill>
          <a:blip r:embed="rId1"/>
          <a:stretch/>
        </p:blipFill>
        <p:spPr>
          <a:xfrm>
            <a:off x="0" y="0"/>
            <a:ext cx="121744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37" name="Picture 1" descr="C:\Users\Administrator\AppData\Roaming\Tencent\Users\292841300\QQ\WinTemp\RichOle\BF0AUBVN0OVZIPA8SVPJS4S.jpg"/>
          <p:cNvPicPr/>
          <p:nvPr/>
        </p:nvPicPr>
        <p:blipFill>
          <a:blip r:embed="rId1"/>
          <a:stretch/>
        </p:blipFill>
        <p:spPr>
          <a:xfrm>
            <a:off x="0" y="0"/>
            <a:ext cx="1174752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40" name="Picture 1" descr="C:\Users\Administrator\AppData\Roaming\Tencent\Users\292841300\QQ\WinTemp\RichOle\T87}G_393@2}3LN0CI(1HQE.jpg"/>
          <p:cNvPicPr/>
          <p:nvPr/>
        </p:nvPicPr>
        <p:blipFill>
          <a:blip r:embed="rId1"/>
          <a:stretch/>
        </p:blipFill>
        <p:spPr>
          <a:xfrm>
            <a:off x="0" y="0"/>
            <a:ext cx="122778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78" name="Picture 1" descr="C:\Users\Administrator\AppData\Roaming\Tencent\Users\292841300\QQ\WinTemp\RichOle\_BJZE}6RZG(CBTJ~})0K6ZS.jpg"/>
          <p:cNvPicPr/>
          <p:nvPr/>
        </p:nvPicPr>
        <p:blipFill>
          <a:blip r:embed="rId1"/>
          <a:stretch/>
        </p:blipFill>
        <p:spPr>
          <a:xfrm>
            <a:off x="0" y="0"/>
            <a:ext cx="12547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42" name="内容占位符 3" descr="QQ截图20141027204937.png"/>
          <p:cNvPicPr/>
          <p:nvPr/>
        </p:nvPicPr>
        <p:blipFill>
          <a:blip r:embed="rId1"/>
          <a:stretch/>
        </p:blipFill>
        <p:spPr>
          <a:xfrm>
            <a:off x="0" y="0"/>
            <a:ext cx="121935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80" name="Picture 2" descr="http://www.cnnb.com.cn/pic/0/02/48/27/2482767_634536.jpg"/>
          <p:cNvPicPr/>
          <p:nvPr/>
        </p:nvPicPr>
        <p:blipFill>
          <a:blip r:embed="rId1"/>
          <a:stretch/>
        </p:blipFill>
        <p:spPr>
          <a:xfrm>
            <a:off x="0" y="0"/>
            <a:ext cx="12263400" cy="6838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666720" y="2066760"/>
            <a:ext cx="115016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alibri"/>
              </a:rPr>
              <a:t>第二章  中国的自然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第四节  自然灾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8745480" y="5913360"/>
            <a:ext cx="304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u  Hong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85" name="Picture 1" descr="C:\Users\Administrator\AppData\Roaming\Tencent\Users\292841300\QQ\WinTemp\RichOle\@X]SD[1RHI3N]HXXFB4JF9C.jpg"/>
          <p:cNvPicPr/>
          <p:nvPr/>
        </p:nvPicPr>
        <p:blipFill>
          <a:blip r:embed="rId1"/>
          <a:stretch/>
        </p:blipFill>
        <p:spPr>
          <a:xfrm>
            <a:off x="0" y="0"/>
            <a:ext cx="12168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0" y="0"/>
            <a:ext cx="4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0" y="0"/>
            <a:ext cx="4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0" y="0"/>
            <a:ext cx="4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0" y="0"/>
            <a:ext cx="4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0" y="0"/>
            <a:ext cx="40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10" descr="QQ截图20141027204632.png"/>
          <p:cNvPicPr/>
          <p:nvPr/>
        </p:nvPicPr>
        <p:blipFill>
          <a:blip r:embed="rId1"/>
          <a:stretch/>
        </p:blipFill>
        <p:spPr>
          <a:xfrm>
            <a:off x="0" y="0"/>
            <a:ext cx="12238200" cy="68389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1"/>
          <p:cNvSpPr/>
          <p:nvPr/>
        </p:nvSpPr>
        <p:spPr>
          <a:xfrm>
            <a:off x="1330200" y="5842080"/>
            <a:ext cx="646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活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95" name="内容占位符 3" descr="QQ截图20141027204858.png"/>
          <p:cNvPicPr/>
          <p:nvPr/>
        </p:nvPicPr>
        <p:blipFill>
          <a:blip r:embed="rId1"/>
          <a:stretch/>
        </p:blipFill>
        <p:spPr>
          <a:xfrm>
            <a:off x="0" y="0"/>
            <a:ext cx="121683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66720" y="1353600"/>
            <a:ext cx="1095048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微软雅黑"/>
              </a:rPr>
              <a:t>看书自学</a:t>
            </a:r>
            <a:endParaRPr b="0" lang="en-US" sz="48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</a:rPr>
              <a:t>请同学打开书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54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</a:rPr>
              <a:t>页，自学常见的自然灾害这一框题，回答以下问题。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</a:rPr>
              <a:t>我国常见的自然灾害有哪些种类？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2.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</a:rPr>
              <a:t>气象灾害主要有哪些？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  <a:p>
            <a:pPr marL="200160" indent="-20016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微软雅黑"/>
              </a:rPr>
              <a:t>3. 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</a:rPr>
              <a:t>地质灾害又主要有哪些？</a:t>
            </a: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99" name="Picture 1" descr="C:\Users\Administrator\AppData\Roaming\Tencent\Users\292841300\QQ\WinTemp\RichOle\N8%D29FNO_KHWX8KN564P60.png"/>
          <p:cNvPicPr/>
          <p:nvPr/>
        </p:nvPicPr>
        <p:blipFill>
          <a:blip r:embed="rId1"/>
          <a:stretch/>
        </p:blipFill>
        <p:spPr>
          <a:xfrm>
            <a:off x="0" y="0"/>
            <a:ext cx="12174480" cy="68389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4373640" y="426960"/>
            <a:ext cx="31366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Calibri"/>
              </a:rPr>
              <a:t>台风影响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7680" y="274680"/>
            <a:ext cx="10952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1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7680" y="1595160"/>
            <a:ext cx="10952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 algn="just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3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203" name="Picture 1" descr="C:\Users\Administrator\AppData\Roaming\Tencent\Users\292841300\QQ\WinTemp\RichOle\Q{V9C]2(X2HRSIMY(_4M0GD.jpg"/>
          <p:cNvPicPr/>
          <p:nvPr/>
        </p:nvPicPr>
        <p:blipFill>
          <a:blip r:embed="rId1"/>
          <a:stretch/>
        </p:blipFill>
        <p:spPr>
          <a:xfrm>
            <a:off x="0" y="0"/>
            <a:ext cx="12231720" cy="68389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4753080" y="712800"/>
            <a:ext cx="42782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Calibri"/>
              </a:rPr>
              <a:t>地震多发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12:38:50Z</dcterms:created>
  <dc:creator>great</dc:creator>
  <dc:description/>
  <dc:language>en-US</dc:language>
  <cp:lastModifiedBy/>
  <dcterms:modified xsi:type="dcterms:W3CDTF">2016-11-03T08:38:52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12</vt:lpwstr>
  </property>
</Properties>
</file>