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EAD-FA17-477C-9DB9-BCEC2C8B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11-EB28-44B8-B084-E990BFB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CF3-10B1-4F04-96B9-B9CFF824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751-4BB2-4DAB-AA4D-D3EE3346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3532-4B94-4713-AB67-4F7C3C86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1B2-E4C9-4372-9285-5A984BE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98FA-6428-4440-B40F-A62875C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3A9A-12E5-4921-BFC3-4DD23E6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A578-5621-493C-B9DA-3483F45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26A-DEFF-4845-B995-E424D6A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A1D-3C8C-4EBF-8401-0B58A84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B60-6813-44CB-87A6-7B4907A8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1767-85A0-477E-BD0F-D8F8A01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044-F24B-4638-8B68-DDE09DE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E019-A267-4704-8D9D-677C58A9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236-0743-4FEE-87C7-73DBBF13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541C-1240-4D12-842A-D7333794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B26-3267-4AB8-ADE3-8A091D47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0F8-5BC6-4620-8034-992B010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E34-0811-4248-898E-979C253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D69-B173-4526-A3D3-25255D26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D82-483B-4826-A66A-79D0456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35-C5E4-4AAC-B4E7-D283C8F5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49E-7830-4C93-8002-7EF2E56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DBB-11C3-4E52-9F61-00209DF254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12 初中地理\模板1-4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制作工作\2014\1\PPT模板\样例\12 初中地理\模板1-4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制作工作\2014\1\PPT模板\样例\12 初中地理\模板1-3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1B6-723E-474A-B1F6-8781E18CC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9280" y="162828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南方地区的自然特征与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资料呈现：四大地形区比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内容占位符 1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地形特征；东西地形的差异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内容占位符 1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483400" cy="36608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2"/>
          <p:cNvSpPr/>
          <p:nvPr/>
        </p:nvSpPr>
        <p:spPr>
          <a:xfrm>
            <a:off x="324000" y="4941720"/>
            <a:ext cx="84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南方地区地形复杂多样，东西差异明显。西部以高原和盆地为主；东部有交错分布的平原、低山和丘陵，沿江有面积较大的平原和三角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气候特征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中国干湿状况"/>
          <p:cNvPicPr/>
          <p:nvPr/>
        </p:nvPicPr>
        <p:blipFill>
          <a:blip r:embed="rId1"/>
          <a:stretch/>
        </p:blipFill>
        <p:spPr>
          <a:xfrm>
            <a:off x="4648320" y="1916280"/>
            <a:ext cx="4419360" cy="3722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中国温度带1"/>
          <p:cNvPicPr/>
          <p:nvPr/>
        </p:nvPicPr>
        <p:blipFill>
          <a:blip r:embed="rId2"/>
          <a:stretch/>
        </p:blipFill>
        <p:spPr>
          <a:xfrm>
            <a:off x="28440" y="1932120"/>
            <a:ext cx="47595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气候特征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2640" y="1787400"/>
            <a:ext cx="81741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28720" y="1208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气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2195640" y="27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908000" y="27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052720" y="153180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987640" y="1268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温带、亚热带和热带季风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5842080" y="1965240"/>
            <a:ext cx="2977920" cy="4127400"/>
            <a:chOff x="5842080" y="1965240"/>
            <a:chExt cx="2977920" cy="4127400"/>
          </a:xfrm>
        </p:grpSpPr>
        <p:pic>
          <p:nvPicPr>
            <p:cNvPr id="144" name="Picture 8" descr="未标题-2"/>
            <p:cNvPicPr/>
            <p:nvPr/>
          </p:nvPicPr>
          <p:blipFill>
            <a:blip r:embed="rId1"/>
            <a:stretch/>
          </p:blipFill>
          <p:spPr>
            <a:xfrm>
              <a:off x="5842080" y="2100600"/>
              <a:ext cx="2977920" cy="39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9"/>
            <p:cNvSpPr/>
            <p:nvPr/>
          </p:nvSpPr>
          <p:spPr>
            <a:xfrm>
              <a:off x="5842080" y="196524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气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7786440" y="196524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降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225360" y="2038320"/>
            <a:ext cx="2984040" cy="4127040"/>
            <a:chOff x="225360" y="2038320"/>
            <a:chExt cx="2984040" cy="4127040"/>
          </a:xfrm>
        </p:grpSpPr>
        <p:grpSp>
          <p:nvGrpSpPr>
            <p:cNvPr id="148" name="Group 12"/>
            <p:cNvGrpSpPr/>
            <p:nvPr/>
          </p:nvGrpSpPr>
          <p:grpSpPr>
            <a:xfrm>
              <a:off x="584280" y="2038320"/>
              <a:ext cx="2625120" cy="4127040"/>
              <a:chOff x="584280" y="2038320"/>
              <a:chExt cx="2625120" cy="4127040"/>
            </a:xfrm>
          </p:grpSpPr>
          <p:pic>
            <p:nvPicPr>
              <p:cNvPr id="149" name="Picture 13" descr="未标题-3"/>
              <p:cNvPicPr/>
              <p:nvPr/>
            </p:nvPicPr>
            <p:blipFill>
              <a:blip r:embed="rId2"/>
              <a:stretch/>
            </p:blipFill>
            <p:spPr>
              <a:xfrm>
                <a:off x="801360" y="2443680"/>
                <a:ext cx="2408040" cy="37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4"/>
              <p:cNvSpPr/>
              <p:nvPr/>
            </p:nvSpPr>
            <p:spPr>
              <a:xfrm>
                <a:off x="584280" y="209952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气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5"/>
              <p:cNvSpPr/>
              <p:nvPr/>
            </p:nvSpPr>
            <p:spPr>
              <a:xfrm>
                <a:off x="2241360" y="2038320"/>
                <a:ext cx="79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降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225360" y="38638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512640" y="33224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>
              <a:off x="296640" y="28497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96640" y="2375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3106800" y="1955880"/>
            <a:ext cx="2662200" cy="3991680"/>
            <a:chOff x="3106800" y="1955880"/>
            <a:chExt cx="2662200" cy="3991680"/>
          </a:xfrm>
        </p:grpSpPr>
        <p:sp>
          <p:nvSpPr>
            <p:cNvPr id="157" name="Text Box 21"/>
            <p:cNvSpPr/>
            <p:nvPr/>
          </p:nvSpPr>
          <p:spPr>
            <a:xfrm>
              <a:off x="3106800" y="20242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气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2"/>
            <p:cNvSpPr/>
            <p:nvPr/>
          </p:nvSpPr>
          <p:spPr>
            <a:xfrm>
              <a:off x="4618080" y="19558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降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3"/>
            <p:cNvGrpSpPr/>
            <p:nvPr/>
          </p:nvGrpSpPr>
          <p:grpSpPr>
            <a:xfrm>
              <a:off x="3394080" y="2294280"/>
              <a:ext cx="2374920" cy="3653280"/>
              <a:chOff x="3394080" y="2294280"/>
              <a:chExt cx="2374920" cy="3653280"/>
            </a:xfrm>
          </p:grpSpPr>
          <p:pic>
            <p:nvPicPr>
              <p:cNvPr id="160" name="Picture 2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3394080" y="2361240"/>
                <a:ext cx="2203560" cy="358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Rectangle 25"/>
              <p:cNvSpPr/>
              <p:nvPr/>
            </p:nvSpPr>
            <p:spPr>
              <a:xfrm>
                <a:off x="5410080" y="2294280"/>
                <a:ext cx="358920" cy="3180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 Box 26"/>
          <p:cNvSpPr/>
          <p:nvPr/>
        </p:nvSpPr>
        <p:spPr>
          <a:xfrm>
            <a:off x="3825720" y="566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双版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气候特征；“湿、热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土壤特征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红色土壤；“红土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250920" y="2924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970440" cy="40323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2"/>
          <a:stretch/>
        </p:blipFill>
        <p:spPr>
          <a:xfrm>
            <a:off x="4532400" y="2060640"/>
            <a:ext cx="428148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紫色土壤；四川盆地      “紫色盆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土壤特征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图片 5" descr=""/>
          <p:cNvPicPr/>
          <p:nvPr/>
        </p:nvPicPr>
        <p:blipFill>
          <a:blip r:embed="rId1"/>
          <a:stretch/>
        </p:blipFill>
        <p:spPr>
          <a:xfrm>
            <a:off x="1619280" y="1928880"/>
            <a:ext cx="62658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亚热带热带常绿阔叶林为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植被特征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392720" cy="42861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319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河流、湖泊众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内容占位符 6" descr=""/>
          <p:cNvPicPr/>
          <p:nvPr/>
        </p:nvPicPr>
        <p:blipFill>
          <a:blip r:embed="rId1"/>
          <a:stretch/>
        </p:blipFill>
        <p:spPr>
          <a:xfrm>
            <a:off x="4788000" y="2313000"/>
            <a:ext cx="4208400" cy="4068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344520" y="1247760"/>
            <a:ext cx="5184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华文中宋"/>
              </a:rPr>
              <a:t>河道密布的南方水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江南的基塘"/>
          <p:cNvPicPr/>
          <p:nvPr/>
        </p:nvPicPr>
        <p:blipFill>
          <a:blip r:embed="rId2"/>
          <a:stretch/>
        </p:blipFill>
        <p:spPr>
          <a:xfrm>
            <a:off x="250920" y="2205000"/>
            <a:ext cx="4422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内容占位符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4105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4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2958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情境导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1" descr=""/>
          <p:cNvPicPr/>
          <p:nvPr/>
        </p:nvPicPr>
        <p:blipFill>
          <a:blip r:embed="rId1"/>
          <a:stretch/>
        </p:blipFill>
        <p:spPr>
          <a:xfrm>
            <a:off x="108000" y="1468440"/>
            <a:ext cx="8856720" cy="469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情境导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内容占位符 1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2800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情境导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1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856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情境导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4948200" y="4475160"/>
            <a:ext cx="2401920" cy="1982880"/>
          </a:xfrm>
          <a:prstGeom prst="rect">
            <a:avLst/>
          </a:prstGeom>
          <a:ln w="0">
            <a:noFill/>
          </a:ln>
        </p:spPr>
      </p:pic>
      <p:sp>
        <p:nvSpPr>
          <p:cNvPr id="94" name="云形标注 2"/>
          <p:cNvSpPr/>
          <p:nvPr/>
        </p:nvSpPr>
        <p:spPr>
          <a:xfrm>
            <a:off x="4392720" y="1197000"/>
            <a:ext cx="4535280" cy="2187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5076720" y="1628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描述一下你眼中的南方地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30240" y="4911840"/>
            <a:ext cx="2457360" cy="1571400"/>
          </a:xfrm>
          <a:prstGeom prst="rect">
            <a:avLst/>
          </a:prstGeom>
          <a:ln w="0">
            <a:noFill/>
          </a:ln>
        </p:spPr>
      </p:pic>
      <p:sp>
        <p:nvSpPr>
          <p:cNvPr id="97" name="云形标注 5"/>
          <p:cNvSpPr/>
          <p:nvPr/>
        </p:nvSpPr>
        <p:spPr>
          <a:xfrm>
            <a:off x="684360" y="1512720"/>
            <a:ext cx="3024000" cy="2238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"/>
          <p:cNvSpPr/>
          <p:nvPr/>
        </p:nvSpPr>
        <p:spPr>
          <a:xfrm>
            <a:off x="826920" y="2060640"/>
            <a:ext cx="29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美景描述的是我国的哪个区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2268360" y="2133720"/>
            <a:ext cx="417672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第一节    自然特征与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习导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348000" y="3213000"/>
            <a:ext cx="309708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气候湿热的红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348000" y="4336920"/>
            <a:ext cx="309708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重要的水田农业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南方地区的自然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利用地图说出南方地区的位置、范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内容占位符 2"/>
          <p:cNvSpPr/>
          <p:nvPr/>
        </p:nvSpPr>
        <p:spPr>
          <a:xfrm>
            <a:off x="549360" y="2443320"/>
            <a:ext cx="82296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地图上找出主要地形区，并掌握其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内容占位符 2"/>
          <p:cNvSpPr/>
          <p:nvPr/>
        </p:nvSpPr>
        <p:spPr>
          <a:xfrm>
            <a:off x="590400" y="333684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掌握本区的气候、河流、植被、土壤的特征，并学会分析各要素之间的相互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1116000" y="2773440"/>
            <a:ext cx="5257800" cy="4084560"/>
          </a:xfrm>
          <a:prstGeom prst="rect">
            <a:avLst/>
          </a:prstGeom>
          <a:ln w="0">
            <a:noFill/>
          </a:ln>
        </p:spPr>
      </p:pic>
      <p:sp>
        <p:nvSpPr>
          <p:cNvPr id="108" name="Line 3"/>
          <p:cNvSpPr/>
          <p:nvPr/>
        </p:nvSpPr>
        <p:spPr>
          <a:xfrm flipH="1">
            <a:off x="3238200" y="3894120"/>
            <a:ext cx="468360" cy="145260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6315120" y="3714840"/>
            <a:ext cx="1296720" cy="906120"/>
            <a:chOff x="6315120" y="3714840"/>
            <a:chExt cx="1296720" cy="906120"/>
          </a:xfrm>
        </p:grpSpPr>
        <p:sp>
          <p:nvSpPr>
            <p:cNvPr id="110" name="Rectangle 5"/>
            <p:cNvSpPr/>
            <p:nvPr/>
          </p:nvSpPr>
          <p:spPr>
            <a:xfrm>
              <a:off x="6315120" y="3714840"/>
              <a:ext cx="1296720" cy="9061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6445080" y="380268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秦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7"/>
          <p:cNvSpPr/>
          <p:nvPr/>
        </p:nvSpPr>
        <p:spPr>
          <a:xfrm flipH="1" flipV="1">
            <a:off x="4535280" y="5176440"/>
            <a:ext cx="1871640" cy="15228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6359400" y="4894200"/>
            <a:ext cx="1297080" cy="719280"/>
            <a:chOff x="6359400" y="4894200"/>
            <a:chExt cx="1297080" cy="719280"/>
          </a:xfrm>
        </p:grpSpPr>
        <p:sp>
          <p:nvSpPr>
            <p:cNvPr id="114" name="Rectangle 9"/>
            <p:cNvSpPr/>
            <p:nvPr/>
          </p:nvSpPr>
          <p:spPr>
            <a:xfrm>
              <a:off x="6359400" y="4894200"/>
              <a:ext cx="1297080" cy="719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6372000" y="496260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淮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1"/>
          <p:cNvSpPr/>
          <p:nvPr/>
        </p:nvSpPr>
        <p:spPr>
          <a:xfrm>
            <a:off x="503280" y="1413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方地区至我国秦淮线以南、青藏高原以东的地区，包括长江中下游地区、南部沿海和西南地区三大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方地区的面积占全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口占全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692360" y="11592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332000" y="299880"/>
            <a:ext cx="49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位置、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4952880" y="5778360"/>
            <a:ext cx="72072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东海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4232160" y="6472080"/>
            <a:ext cx="72072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南海</a:t>
            </a:r>
            <a:endParaRPr b="0" lang="en-US" sz="1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3890520" y="4149720"/>
            <a:ext cx="2481480" cy="94284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38320" y="3400560"/>
            <a:ext cx="1513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横断山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5132520" y="5315040"/>
            <a:ext cx="72072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黄海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内容占位符 2" descr=""/>
          <p:cNvPicPr/>
          <p:nvPr/>
        </p:nvPicPr>
        <p:blipFill>
          <a:blip r:embed="rId1"/>
          <a:stretch/>
        </p:blipFill>
        <p:spPr>
          <a:xfrm>
            <a:off x="1297080" y="1700280"/>
            <a:ext cx="6514920" cy="4762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3"/>
          <p:cNvSpPr/>
          <p:nvPr/>
        </p:nvSpPr>
        <p:spPr>
          <a:xfrm>
            <a:off x="539640" y="1197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图中找出南方地区的四大地形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3981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地形特征；复杂多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淡淡风铃</cp:lastModifiedBy>
  <dcterms:modified xsi:type="dcterms:W3CDTF">2018-03-14T00:39:40Z</dcterms:modified>
  <cp:revision>2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