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234-48A5-475A-9528-CCB11D83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EB4-80DD-447E-A2DA-5939BA52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70A-A3F9-4276-8AFC-D8ADE12C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F21-8BA9-4B29-AF0A-157E7D9A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6F96-1910-47FF-8176-B7B9BB8A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918E-A72E-4C3E-B1A1-3BFE6C11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3FBB-8C98-434D-A9D3-C12D771A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5063-7687-41D7-B84A-61AD5EC3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AB71-7249-4D02-B3F2-7C5BE870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12F5-835E-4288-B079-028A2FB3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D04C-FA13-4EE0-A1F2-3A6D0074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E22-1DCE-42A9-8382-534E119C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E75D-6A82-4AD2-B1E4-3D32B97E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277D-F971-41C7-A9FB-91F2B949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3393-0702-4380-9AC7-2AE54579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FD75-F063-4D2E-8500-4FEB33C9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E12C-1CE7-41FD-8719-E2F7C77A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42D3C-B6FC-464C-AEDD-E9F855E4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22F10-190A-4CF2-8674-DC55AF65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92CA-7B44-4A0A-820B-8552A88E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E4A5-5B35-49BD-A6CC-2CA18759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D4CF-0D62-4224-8E5D-4A001EA6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C88-35A8-466F-972B-255476A5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366B1-3C56-4E96-B566-1A0CCB36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0B0AD-8341-4C61-8D58-5D09B948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6CDBC-CAB4-4551-8926-99B8FE0C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8E751-DB1B-4EA4-AFAB-48CC0D06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EDE53-A15A-4E13-B28B-FDC7C049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00248-9226-44C3-A01B-39FC6CD8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EC894-5D9D-4DF5-834C-3885375A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C449B-3597-4DB4-BBC8-4308A66F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B1530-2E05-4594-9CCD-0DC38052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C8FE8-B589-4DFA-BCA4-1CEB5B5A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DAC-4041-442D-B298-AE15A146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CBA38-D1BB-4E5F-B263-BE563BC1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9F610-DDBE-4005-9D5F-55696941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BD55F-F4E5-4EFB-A3B5-079C7FE5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A06A0-4CBC-4396-8D4F-057006B6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AC799-7946-4CBB-B520-9E088307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27FBB-3D98-48FD-814E-3CF6D1B5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9945-5688-411D-8C09-82F1F66C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32741-FC93-4E59-B14B-700EE39C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CB520-99D8-4BC4-94F1-491CAA63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0C332-52DC-4BAC-AD65-60FA23B9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610-EF85-4B4E-AA2E-049961CD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09F50-AEB2-46DF-A7A7-125BB091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E4AB3-C2AB-4FC3-B184-78794C4B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23C9A-DFB2-4B25-8461-D9265BB3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297B5-AA75-4798-84E5-A1FC76D9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A8A88-C3E0-4A38-BC20-46BC2993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3D6E8-1008-418B-927A-9E0FEF0E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22BA9-54D3-4E22-B1CE-AF1A3D1D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00724-FB81-4991-B4E4-BB130C99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D781D-9808-4C5B-BC5A-1E1C01F2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E6CE4-7DB1-49F0-B984-2C602EAB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C63-827F-4545-816D-C3DBAD20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00321-630E-43F4-B3FE-31D037CE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77C6F-CB9C-4FFB-B0B8-BEFB211C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AAA7D-2101-456E-91A1-B445B9F2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8E4B2-1A2E-4CAD-A233-2B34301D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D2A94-6912-4429-98DF-CAF4718E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862ED-76A8-4311-B2FE-A1E949A2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0B9AE-B153-4114-8E9E-32893138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346AA-38E5-4875-98AC-3BA4B0EC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D1D05-5E99-4314-8F40-38A35CBD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E9A19-C579-46C0-B00E-CE39FEA3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C286-9BB0-43FE-B72C-25843104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36C5F-5C0B-44E4-BFAA-06F019B5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78ADE-7814-4C2C-9196-088CB93C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413C0-6733-440F-82F5-F5B2958A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1EE-549C-451A-A867-333859F6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F52-12E2-45CE-840A-6C14A7C9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83C1-B632-4FDE-B26C-A693E768860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C1B9-10D1-41C2-BB72-6B85F89DAF7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0F18-C1DB-444D-B35B-53D24B320C0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E131-E991-4EBE-BC5E-F500DBDC29B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EE17-9985-4660-B8CA-DFB1B34065C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0AE9-6C78-4002-9A94-348BB1BBDB9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5" descr=""/>
          <p:cNvPicPr/>
          <p:nvPr/>
        </p:nvPicPr>
        <p:blipFill>
          <a:blip r:embed="rId1"/>
          <a:stretch/>
        </p:blipFill>
        <p:spPr>
          <a:xfrm>
            <a:off x="719280" y="981000"/>
            <a:ext cx="10312200" cy="895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6" descr=""/>
          <p:cNvPicPr/>
          <p:nvPr/>
        </p:nvPicPr>
        <p:blipFill>
          <a:blip r:embed="rId2"/>
          <a:stretch/>
        </p:blipFill>
        <p:spPr>
          <a:xfrm>
            <a:off x="3408480" y="2781360"/>
            <a:ext cx="51688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103400" y="907920"/>
            <a:ext cx="5092560" cy="533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2"/>
          <a:stretch/>
        </p:blipFill>
        <p:spPr>
          <a:xfrm>
            <a:off x="527040" y="1557360"/>
            <a:ext cx="10020240" cy="38196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4"/>
          <p:cNvSpPr/>
          <p:nvPr/>
        </p:nvSpPr>
        <p:spPr>
          <a:xfrm>
            <a:off x="1193760" y="987480"/>
            <a:ext cx="57643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1193760" y="3541680"/>
            <a:ext cx="857412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1847880" y="4376880"/>
            <a:ext cx="800892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1982880" y="4856040"/>
            <a:ext cx="80103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39760" y="765000"/>
            <a:ext cx="10845720" cy="59248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3"/>
          <p:cNvSpPr/>
          <p:nvPr/>
        </p:nvSpPr>
        <p:spPr>
          <a:xfrm>
            <a:off x="2443320" y="275904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4849920" y="1957320"/>
            <a:ext cx="8413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6113520" y="2781360"/>
            <a:ext cx="8413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7377120" y="1901880"/>
            <a:ext cx="8413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8624880" y="2849400"/>
            <a:ext cx="8431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028880" y="4589640"/>
            <a:ext cx="1023768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998640" y="5113440"/>
            <a:ext cx="1026792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1117440" y="5983200"/>
            <a:ext cx="1026828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9487080" cy="46008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1149480" y="1042920"/>
            <a:ext cx="98978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1087560" y="1900080"/>
            <a:ext cx="78325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1179360" y="2413080"/>
            <a:ext cx="973476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985680" y="3294000"/>
            <a:ext cx="973476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971640" y="4152960"/>
            <a:ext cx="973440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238400" y="5000760"/>
            <a:ext cx="588456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431640" y="836640"/>
            <a:ext cx="10947600" cy="54198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4"/>
          <p:cNvSpPr/>
          <p:nvPr/>
        </p:nvSpPr>
        <p:spPr>
          <a:xfrm>
            <a:off x="1162080" y="5870520"/>
            <a:ext cx="6672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9576000" cy="26384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3"/>
          <p:cNvSpPr/>
          <p:nvPr/>
        </p:nvSpPr>
        <p:spPr>
          <a:xfrm>
            <a:off x="1163520" y="909720"/>
            <a:ext cx="10045800" cy="66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1046160" y="1801800"/>
            <a:ext cx="10045800" cy="66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1474920" y="2603520"/>
            <a:ext cx="3981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297080" y="3149640"/>
            <a:ext cx="3981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3887640" y="1700280"/>
            <a:ext cx="4483080" cy="34002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5505480" y="4822920"/>
            <a:ext cx="6048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343080" y="1052640"/>
            <a:ext cx="11849040" cy="41338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"/>
          <p:cNvSpPr/>
          <p:nvPr/>
        </p:nvSpPr>
        <p:spPr>
          <a:xfrm>
            <a:off x="3052800" y="1957320"/>
            <a:ext cx="335592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11393640" y="1979640"/>
            <a:ext cx="606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2459160" y="2670120"/>
            <a:ext cx="51732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5389560" y="2670120"/>
            <a:ext cx="51588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8393040" y="2614680"/>
            <a:ext cx="313236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5238720" y="3049560"/>
            <a:ext cx="3713040" cy="58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10101240" y="3193920"/>
            <a:ext cx="20322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735120" y="3740040"/>
            <a:ext cx="203184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3693960" y="3751200"/>
            <a:ext cx="424836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8434440" y="4186080"/>
            <a:ext cx="2449440" cy="5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1001880" y="4846680"/>
            <a:ext cx="94608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656320" y="4813200"/>
            <a:ext cx="70632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04920" y="981000"/>
            <a:ext cx="11887200" cy="4638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11244240" y="176688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1302920" y="303840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7437600" y="4411800"/>
            <a:ext cx="97776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1087560" y="4968720"/>
            <a:ext cx="88884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368280" y="836640"/>
            <a:ext cx="11823840" cy="41529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912960" y="5084640"/>
            <a:ext cx="7886520" cy="600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3"/>
          <a:stretch/>
        </p:blipFill>
        <p:spPr>
          <a:xfrm>
            <a:off x="1390680" y="5734080"/>
            <a:ext cx="3454200" cy="97164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5"/>
          <p:cNvSpPr/>
          <p:nvPr/>
        </p:nvSpPr>
        <p:spPr>
          <a:xfrm>
            <a:off x="6843600" y="762120"/>
            <a:ext cx="6048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11676240" y="1633680"/>
            <a:ext cx="48564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792000" y="2112840"/>
            <a:ext cx="80028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10323360" y="2782800"/>
            <a:ext cx="1406520" cy="5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704880" y="5102280"/>
            <a:ext cx="823428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808200" y="5692680"/>
            <a:ext cx="823428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1282680" y="6361200"/>
            <a:ext cx="362412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527040" y="836640"/>
            <a:ext cx="10756800" cy="535320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3"/>
          <p:cNvSpPr/>
          <p:nvPr/>
        </p:nvSpPr>
        <p:spPr>
          <a:xfrm>
            <a:off x="10202760" y="240336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0231560" y="5805360"/>
            <a:ext cx="606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527040" y="907920"/>
            <a:ext cx="10756800" cy="56199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3"/>
          <p:cNvSpPr/>
          <p:nvPr/>
        </p:nvSpPr>
        <p:spPr>
          <a:xfrm>
            <a:off x="10186920" y="4454640"/>
            <a:ext cx="6066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527040" y="836640"/>
            <a:ext cx="10744200" cy="58104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744560" y="1644480"/>
            <a:ext cx="11559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152960" y="1644480"/>
            <a:ext cx="11556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1625760" y="2101680"/>
            <a:ext cx="7826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6292800" y="3451320"/>
            <a:ext cx="7826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1684440" y="5837400"/>
            <a:ext cx="173664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239760" y="836640"/>
            <a:ext cx="10769400" cy="58104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3"/>
          <p:cNvSpPr/>
          <p:nvPr/>
        </p:nvSpPr>
        <p:spPr>
          <a:xfrm>
            <a:off x="1015920" y="2894040"/>
            <a:ext cx="6612120" cy="7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1284120" y="3730680"/>
            <a:ext cx="6613560" cy="7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789200" y="4565520"/>
            <a:ext cx="49464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1893960" y="5056200"/>
            <a:ext cx="472428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1865160" y="5937120"/>
            <a:ext cx="472464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2:01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