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BC4-437E-416D-859F-FFBE7CE8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5A0D-6872-4D4F-8B99-6E5A7B22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257-403F-4743-A6D5-732CAC9A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629-5EC3-439D-922B-07AE0FE6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0844-08D6-4B93-9992-B0FDE3F9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1EFA-184E-45CE-8A0F-52500178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A9F9-64B3-4CEF-AE41-A697E4BCA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9160-B50A-40A9-B838-14AD54FE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F109-673C-47D5-9BA0-42BE5E80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C9B9-8391-48FF-9F61-EDA72A8B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7DE6-02AF-4610-B6F7-CB71E076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162-65B1-4EB2-AC25-145CA6C8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161E-C687-4504-873E-DA1B6923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E04C-104E-4AEA-B2ED-348BA148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F1AB-96C3-4CAD-91FA-64E192E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BC5C-A39C-4FDF-93BD-82C09D2F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E838-C224-4BD9-A387-E8AF4FA5B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5598A-2410-453C-8165-1B17319AF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534FF-8F64-4649-9C3D-ADCA0CB8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07B7-B6D5-403D-B9B1-809ED45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7D106-AE57-4106-8BC0-64447FC5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CF70-E167-4322-BE70-CB523AA6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87BB-690C-41E4-BE59-597F34CD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3A49A-A75E-42E0-8FF9-E7AC9914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446E9-811C-4DEB-B00D-8DC77D35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99881-65E9-413D-95C9-4FABF2A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86ED0-D147-4ADC-95DD-9FCDB65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014D4-91C2-445C-9E74-7CD2C2D9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9352D-D98C-46D8-AB30-F5C79C3B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6422-B336-4F0E-98B5-B86D8757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C58DD-F269-448B-9FD5-811C5345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7972D-99CE-43B2-9F9A-A0CA97B3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6097E-0A50-4DCF-9EDE-9A75098F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0B6-76BD-4979-A4B8-D8C2304F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123E2-AC2D-4602-9FF0-AF5C12A2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DF66-7088-4E51-BC08-939364B3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FF4FB-D2CB-4C77-961D-AFC2DD71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C037E-0FE7-48BD-B3A5-1A5CF3D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0AED7-B7D4-4A29-A248-26A232A0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B62EE-8449-4613-8BE7-309F9A38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A796-2619-41BC-9C2B-2C923854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490D0-6F29-4440-947A-A0916C0F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0B494-566F-4272-84C0-FEDEB488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BE4F-4A87-40DC-A729-D8F90DB7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4F4F-284A-46AF-A144-BCD8F463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497F2-DF11-40CA-9EBA-8CC28F77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27253-2CB3-440D-89D6-D1F0F2CD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11450-0B59-4683-B745-335B3E16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B7D5D-2F17-4823-B4E2-146A6E7E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66E42-5EAB-425F-927C-DB3BA170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A4885-AC0B-4A98-B455-507415D3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7A376-98F2-4969-9D51-277AA362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FF29C-3E38-4A5B-B333-49631F5A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F110B-80DA-488B-8EAB-3C67CDDA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832E7-FAFC-4E71-BC4D-6C57758A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C3F-ADC0-4089-8C5F-DAA10DA7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44200-F7DC-4BB4-A01B-FFDFAE34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43C27-1C44-479C-B66C-C50AB811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D9A8E-5857-418B-834C-F7015A13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C856B-4BAF-4015-AE60-291FE09E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430E4-4834-4950-9BD1-A659954E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2C477-F6AE-406B-96E3-0D47116C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4F91A-9157-4B4F-ABAA-6DEB38A6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81BD6-5F5B-4B03-9E2F-E23A78C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1E812-DE3C-4364-BDC7-7470D79D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FB2D3-414D-4A66-A0AA-563D4E83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5E52-DD52-4A79-B57D-91A0B213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EE682-35AC-4930-BCF8-439D3881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84496-0746-4D28-8D15-EC04E141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44428-CAB2-4C76-8CB0-3EC88E6C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355-8182-4C95-BAC8-043A6500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BCF2-AD7B-48CB-B2B1-27FAF0B6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BBC5-477D-4BAA-8A4F-A4E6E8C1FE1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3C34-B5D1-4ECA-80AA-E6B7913E9FD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2BDD-3976-484A-94FC-8EA365C78E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58F6-CA69-4DF1-952B-749FD5A831A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DD0E-4ECD-4FF9-939B-1FA74612B83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B2CD-8662-43A2-81A4-7B8B6871C79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2255760" y="836640"/>
            <a:ext cx="7378920" cy="1419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0" y="2565360"/>
            <a:ext cx="12026880" cy="80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3" descr=""/>
          <p:cNvPicPr/>
          <p:nvPr/>
        </p:nvPicPr>
        <p:blipFill>
          <a:blip r:embed="rId3"/>
          <a:stretch/>
        </p:blipFill>
        <p:spPr>
          <a:xfrm>
            <a:off x="431640" y="4005360"/>
            <a:ext cx="1088424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78236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814320" y="790560"/>
            <a:ext cx="10185480" cy="606744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3"/>
          <p:cNvSpPr/>
          <p:nvPr/>
        </p:nvSpPr>
        <p:spPr>
          <a:xfrm>
            <a:off x="915840" y="2679840"/>
            <a:ext cx="9153720" cy="626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1776240" y="357336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1776240" y="417528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1790640" y="4789440"/>
            <a:ext cx="912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1728720" y="5457960"/>
            <a:ext cx="9033120" cy="66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1776240" y="6404040"/>
            <a:ext cx="2400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7064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103400" y="836640"/>
            <a:ext cx="10236240" cy="10764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3" descr=""/>
          <p:cNvPicPr/>
          <p:nvPr/>
        </p:nvPicPr>
        <p:blipFill>
          <a:blip r:embed="rId2"/>
          <a:stretch/>
        </p:blipFill>
        <p:spPr>
          <a:xfrm>
            <a:off x="1968480" y="2060640"/>
            <a:ext cx="9258480" cy="44193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4"/>
          <p:cNvSpPr/>
          <p:nvPr/>
        </p:nvSpPr>
        <p:spPr>
          <a:xfrm>
            <a:off x="1096920" y="896760"/>
            <a:ext cx="10447560" cy="3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1103400" y="907920"/>
            <a:ext cx="10447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1430280" y="1467000"/>
            <a:ext cx="10449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1401840" y="2057400"/>
            <a:ext cx="10447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2039760" y="2658960"/>
            <a:ext cx="6166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9"/>
          <p:cNvSpPr/>
          <p:nvPr/>
        </p:nvSpPr>
        <p:spPr>
          <a:xfrm>
            <a:off x="2055960" y="3273480"/>
            <a:ext cx="6242040" cy="69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"/>
          <p:cNvSpPr/>
          <p:nvPr/>
        </p:nvSpPr>
        <p:spPr>
          <a:xfrm>
            <a:off x="2158920" y="4286160"/>
            <a:ext cx="91249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2052720" y="4854600"/>
            <a:ext cx="91249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2052720" y="5456160"/>
            <a:ext cx="91249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3"/>
          <p:cNvSpPr/>
          <p:nvPr/>
        </p:nvSpPr>
        <p:spPr>
          <a:xfrm>
            <a:off x="1890720" y="6013440"/>
            <a:ext cx="912492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27040" y="765000"/>
            <a:ext cx="10769760" cy="59248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1182600" y="4352760"/>
            <a:ext cx="9199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1943280" y="4956120"/>
            <a:ext cx="919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2158920" y="5589720"/>
            <a:ext cx="2497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2144880" y="6213600"/>
            <a:ext cx="70005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8712360" cy="1114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27040" y="2205000"/>
            <a:ext cx="10744200" cy="388620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4"/>
          <p:cNvSpPr/>
          <p:nvPr/>
        </p:nvSpPr>
        <p:spPr>
          <a:xfrm>
            <a:off x="1008000" y="907920"/>
            <a:ext cx="863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1103400" y="1557360"/>
            <a:ext cx="5279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1103400" y="5661000"/>
            <a:ext cx="8389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8470800" cy="4695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3"/>
          <p:cNvSpPr/>
          <p:nvPr/>
        </p:nvSpPr>
        <p:spPr>
          <a:xfrm>
            <a:off x="1103400" y="907920"/>
            <a:ext cx="796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1147680" y="1542960"/>
            <a:ext cx="7969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1147680" y="2133720"/>
            <a:ext cx="8326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1117440" y="2736720"/>
            <a:ext cx="83584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1117440" y="3718080"/>
            <a:ext cx="83584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>
            <a:off x="1192320" y="4687920"/>
            <a:ext cx="835812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1008000" y="981000"/>
            <a:ext cx="10274400" cy="412452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1008000" y="1052640"/>
            <a:ext cx="5951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1968480" y="1628640"/>
            <a:ext cx="518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909800" y="2230560"/>
            <a:ext cx="518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1847880" y="2900520"/>
            <a:ext cx="518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817640" y="3479760"/>
            <a:ext cx="5184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1833480" y="4059360"/>
            <a:ext cx="518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1981080" y="4695840"/>
            <a:ext cx="5183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833120" cy="568656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3"/>
          <p:cNvSpPr/>
          <p:nvPr/>
        </p:nvSpPr>
        <p:spPr>
          <a:xfrm>
            <a:off x="1008000" y="4941720"/>
            <a:ext cx="681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1125360" y="5578560"/>
            <a:ext cx="6816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1125360" y="6157800"/>
            <a:ext cx="6816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912960" y="836640"/>
            <a:ext cx="9563040" cy="51912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912960" y="836640"/>
            <a:ext cx="9601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033560" y="1517760"/>
            <a:ext cx="9677160" cy="6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912960" y="2492280"/>
            <a:ext cx="4701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1003320" y="3071880"/>
            <a:ext cx="9313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1003320" y="3697200"/>
            <a:ext cx="958068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9"/>
          <p:cNvSpPr/>
          <p:nvPr/>
        </p:nvSpPr>
        <p:spPr>
          <a:xfrm>
            <a:off x="1003320" y="4687920"/>
            <a:ext cx="9313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1062000" y="5311800"/>
            <a:ext cx="937260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321840" cy="1114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2"/>
          <a:stretch/>
        </p:blipFill>
        <p:spPr>
          <a:xfrm>
            <a:off x="431640" y="2205000"/>
            <a:ext cx="10871280" cy="3095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4" descr=""/>
          <p:cNvPicPr/>
          <p:nvPr/>
        </p:nvPicPr>
        <p:blipFill>
          <a:blip r:embed="rId3"/>
          <a:stretch/>
        </p:blipFill>
        <p:spPr>
          <a:xfrm>
            <a:off x="1008000" y="5448240"/>
            <a:ext cx="10020240" cy="14097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5"/>
          <p:cNvSpPr/>
          <p:nvPr/>
        </p:nvSpPr>
        <p:spPr>
          <a:xfrm>
            <a:off x="1008000" y="981000"/>
            <a:ext cx="9407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008000" y="1628640"/>
            <a:ext cx="2782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10324800" cy="583884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1008000" y="2852640"/>
            <a:ext cx="4606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765440" y="3510000"/>
            <a:ext cx="2274840" cy="750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1690560" y="4637160"/>
            <a:ext cx="5739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6"/>
          <p:cNvSpPr/>
          <p:nvPr/>
        </p:nvSpPr>
        <p:spPr>
          <a:xfrm>
            <a:off x="1706400" y="5318280"/>
            <a:ext cx="5737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1720800" y="6032520"/>
            <a:ext cx="941076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9563040" cy="49626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"/>
          <p:cNvSpPr/>
          <p:nvPr/>
        </p:nvSpPr>
        <p:spPr>
          <a:xfrm>
            <a:off x="1036800" y="952560"/>
            <a:ext cx="955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036800" y="1565280"/>
            <a:ext cx="9140760" cy="717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1201680" y="2570040"/>
            <a:ext cx="9140760" cy="7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128600" y="3639960"/>
            <a:ext cx="9139320" cy="7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1111320" y="4711680"/>
            <a:ext cx="9555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1295280" y="5445000"/>
            <a:ext cx="36496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1008000" y="836640"/>
            <a:ext cx="9410760" cy="2114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"/>
          <p:cNvPicPr/>
          <p:nvPr/>
        </p:nvPicPr>
        <p:blipFill>
          <a:blip r:embed="rId2"/>
          <a:stretch/>
        </p:blipFill>
        <p:spPr>
          <a:xfrm>
            <a:off x="527040" y="3284640"/>
            <a:ext cx="10756800" cy="27525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4"/>
          <p:cNvSpPr/>
          <p:nvPr/>
        </p:nvSpPr>
        <p:spPr>
          <a:xfrm>
            <a:off x="912960" y="836640"/>
            <a:ext cx="9601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1087560" y="1550880"/>
            <a:ext cx="8797680" cy="7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1136520" y="2498760"/>
            <a:ext cx="632952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10223640" cy="387684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1008000" y="1484280"/>
            <a:ext cx="576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977760" y="2141640"/>
            <a:ext cx="576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319040" y="2765520"/>
            <a:ext cx="5670720" cy="69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2063880" y="3716280"/>
            <a:ext cx="1536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21:14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