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A40-BB07-4A3C-AF59-F5578E73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DE6-19FA-44DE-9388-0940985A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97B-EEE2-4853-8BEF-EDDEC58E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FB2-BBE4-4859-9B81-1E59150E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F639-79F9-432E-8837-7F00C284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2683-97DC-4A86-B2E1-8DB5EF1F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B5B5-36D4-435D-9D21-509A0C06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5F4F-76E8-45AF-AE67-95F8473F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46F8-897C-46D5-90BC-FD0C3548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A005-E614-4672-B0CE-0178EFFF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2D1C-EA79-406C-B1DE-34EDD28F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D06-CDA2-4B65-96F9-9B816645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ECB5-6CFD-4BFC-9305-288E9502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A3EC-C866-45F2-9894-07AAB4C5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2CD3-956F-4BCC-BBD3-AFE5CF81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F9C3-32DB-4E65-A784-7FB28359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5E03-8D39-4500-827D-D501BC25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6ED5-2880-454A-BA74-BA3A3079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2957-0DD4-4DE7-BF59-D0DBC234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732E1-3F70-4715-93D7-67C856DB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8D1A-C7CA-44DD-9B34-E7531F9A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31FA-3969-4B37-B615-FCD9845E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925-9EC5-469E-8074-D72613DF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02AD-3273-4D09-B4DD-4180A439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01360-897B-4554-9FBA-DAE6C889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CCEC-43F3-4B5D-B705-476D87A6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9E81F-3AA2-4DC7-A58A-2CF1BA48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3115-892C-4572-BBCB-70987503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6EC7-458F-456E-AE29-F1E95DD0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B510E-E214-4526-ABD5-4EAF28A0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C6BAF-612D-4431-B202-D444AACF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741FA-7204-4A71-85CE-FA5BA375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3CB83-D20D-4432-87EC-05A90385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1FF-055F-4A63-9297-8828149E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8DC3-D480-45BF-9586-89A0E523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2EE73-123E-44B2-9963-F900BB32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273C9-F52A-4248-9935-14A21BF0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66BE3-C87D-4E57-9211-49FC10B2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3278-62ED-49D2-8F78-A7DDE93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765D5-037E-48F6-B3D0-32573FD8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48D12-8A20-476D-A8E9-C4F2706C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4FC4-FA2C-4A9D-A79F-C63E13C3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82101-ADF0-49C4-ACC4-BE1B3ABB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55221-0C89-4F41-A5D9-82DB652C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C84-5A6A-4E31-9407-2D6CF35C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88A9F-696F-4B1C-95F9-69D0E2A3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DB8DB-4404-40A3-A7CD-12E4BCAA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82149-A6C9-48A0-AF87-E5435DD0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9970C-31AD-4B45-A0A8-4116D036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48EC9-CC26-40F9-A61F-29E92F26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8517-EEFC-4C2E-944E-3BC7AED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4DDA-0811-4AE4-A53B-A0F7023A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E4B2C-520B-4543-AF72-BC9CEDD7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DB228-5623-4C2F-9375-B0C32C16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C522-D5E9-4A1B-8D3B-FE133E5C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E43-17A9-468E-BE1F-56157BB7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DBD7-2BE6-44AB-9795-C6DC9D0D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2BFDB-5463-4123-8226-AD04624B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54952-C4B1-4B72-BC60-18886BA9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83BBE-6BCE-476D-A81D-03124F30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57236-2AC4-497A-9CCD-F328490D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7C30D-12D6-44D5-BF33-37540357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C9EB7-BDBE-4303-894C-BCF9053A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9E052-2B5B-404E-A780-18408C9D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5604E-0669-4B0A-BF2F-960E02B0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A994B-40C1-4084-A6D8-C6644242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76F-B228-4D1F-A8DD-70D71BD0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3E8E7-EF0D-47BF-A6FF-41A7C5A0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61CAF-51A1-4F89-BFD7-9A35C24E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F811D-3ED4-42EA-930E-059B3209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891-0233-4182-9E64-8D6A942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B7F-CF1C-4A80-BF9C-87227BDA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88EE-1972-4E05-84AB-682A08CCDD3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277B-7F34-47A5-9F31-A7EC926E10E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0071-B2CC-42BF-959C-53E8D4DE210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B175-A52F-4086-A42D-B7FB1A9AD67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2C21-12FD-4223-9964-23F5C94D9B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D7C3-3749-4587-A0A2-8D202EF8C1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1295280" y="981000"/>
            <a:ext cx="9055080" cy="39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3408480" y="1773360"/>
            <a:ext cx="4432320" cy="49622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3"/>
          <p:cNvSpPr/>
          <p:nvPr/>
        </p:nvSpPr>
        <p:spPr>
          <a:xfrm>
            <a:off x="4944960" y="6497640"/>
            <a:ext cx="1055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008000" y="981000"/>
            <a:ext cx="8559720" cy="44100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912960" y="981000"/>
            <a:ext cx="5856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1149480" y="1604880"/>
            <a:ext cx="7030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181160" y="2117880"/>
            <a:ext cx="466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1166760" y="2652840"/>
            <a:ext cx="466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181160" y="3276720"/>
            <a:ext cx="845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1136520" y="3833640"/>
            <a:ext cx="846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1106640" y="4435560"/>
            <a:ext cx="4311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1150920" y="5003640"/>
            <a:ext cx="4311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527040" y="836640"/>
            <a:ext cx="10807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008000" y="981000"/>
            <a:ext cx="7873920" cy="48862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1077840" y="1069920"/>
            <a:ext cx="7221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96760" y="1649520"/>
            <a:ext cx="5423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003320" y="2206800"/>
            <a:ext cx="5423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033560" y="2786040"/>
            <a:ext cx="5422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1195560" y="3365640"/>
            <a:ext cx="5422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195560" y="3911760"/>
            <a:ext cx="5422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1225440" y="4491000"/>
            <a:ext cx="507996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1211400" y="4479840"/>
            <a:ext cx="507996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314360" y="5394240"/>
            <a:ext cx="5423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6616800" cy="46767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1103400" y="907920"/>
            <a:ext cx="643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058760" y="1555920"/>
            <a:ext cx="643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103400" y="2079720"/>
            <a:ext cx="643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028880" y="2637000"/>
            <a:ext cx="643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1058760" y="3251160"/>
            <a:ext cx="643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1131840" y="3830760"/>
            <a:ext cx="283680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1103400" y="4756320"/>
            <a:ext cx="480060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414360" y="836640"/>
            <a:ext cx="6832440" cy="1162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393840" y="2133720"/>
            <a:ext cx="11798280" cy="453384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1871640" y="1628640"/>
            <a:ext cx="15368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0910880" y="2133720"/>
            <a:ext cx="82872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544760" y="2881440"/>
            <a:ext cx="82872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8472600" y="2892600"/>
            <a:ext cx="13492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910560" y="3259080"/>
            <a:ext cx="13492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614680" y="3973680"/>
            <a:ext cx="82692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8113680" y="5445000"/>
            <a:ext cx="384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1760480" cy="54482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8688240" y="1557360"/>
            <a:ext cx="481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11364840" y="3029040"/>
            <a:ext cx="479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1760480" cy="57243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11377440" y="1197000"/>
            <a:ext cx="479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2189160" y="2612880"/>
            <a:ext cx="1461960" cy="2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865080" y="4464000"/>
            <a:ext cx="901548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47720" y="4832280"/>
            <a:ext cx="721512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673200" y="5222880"/>
            <a:ext cx="721512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851040" y="5557680"/>
            <a:ext cx="4940280" cy="2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880920" y="5915160"/>
            <a:ext cx="494028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984240" y="6305400"/>
            <a:ext cx="5281560" cy="2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527040" y="907920"/>
            <a:ext cx="10756800" cy="53056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7440480" y="378936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95320" cy="49816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10032840" y="328464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334800" y="836640"/>
            <a:ext cx="10769760" cy="59054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9936000" y="306864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9758520" y="631332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06400" cy="53056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1582560" y="5661000"/>
            <a:ext cx="5569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579320" cy="2067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008000" y="3086280"/>
            <a:ext cx="9982440" cy="37717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1008000" y="3645000"/>
            <a:ext cx="4606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1782720" y="4224240"/>
            <a:ext cx="4606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841400" y="4759200"/>
            <a:ext cx="460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1886040" y="5338800"/>
            <a:ext cx="460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2406600" y="5952960"/>
            <a:ext cx="630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2405160" y="6486480"/>
            <a:ext cx="4606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2:21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