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36D-C0B3-4FAC-A16F-75CFF4C7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2C9-77EF-41FB-AA5D-A9503A4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FBB-BFFE-4450-8DBD-91947FCE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B58-2E8F-49F6-8B2B-22FBC1C0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3BD-971F-435A-A191-61D0D8B1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AE8-323F-4601-91BD-5495CE9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F835-3860-443F-A5DA-51EA651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B2A2-33C5-42EA-B2ED-7E9F541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01CB-07D3-4B67-B11F-2B55E91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73D3-D09D-4216-9DFE-E8E6356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00A-919E-4B0E-A004-87553A5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A82-FD02-442F-8317-DC14BB3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CC6-1BFC-432C-A9CE-7DA9333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4CF9-21A0-436E-AC36-036D016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7E4-2D0F-4A04-AEB9-99EFA91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833C-6A9D-46B9-B7B4-4D3F6C0E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EA26-B848-423D-88A8-4DA979C5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DA46-8CC4-4C4F-8EA9-E1D41755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65F9-5115-4BFC-B861-B44AB1F5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AEFD-95E8-4E9B-87C2-924562C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76D1-38AB-4CE5-A141-3ADBEBF4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4209-3D79-427C-863F-01D65C2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EB2-3127-4CBF-A0E2-01BD988E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E8BE-729F-4FD1-926D-84FF05F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40D6-CFBD-4038-B4D7-CDB7401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0A7C-5C40-4E47-9B2F-C3B8AF1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BCCE-FD72-4913-B8C2-F01FBAE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72AB-48EC-4DBD-A8DC-CFA75A5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A356-24A4-4C3B-958F-FEE41FCD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F259-506B-471B-AC4D-791BB8D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00B1-9DD4-47BA-892F-28AD6DEA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401A-1CF8-4A4B-98B1-733729A1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CEEA-5348-49CB-A48A-FF4B5D3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B94-F480-4771-8AE6-6B026BB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088C-B12C-4DA9-B9FF-5BD2A9E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8CC71-C8A7-4168-947A-81D04988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7BC8-6CBB-45AB-B8AE-2AD48377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A1FD-023D-44A7-A976-AC62BC28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1D311-81B2-4AC4-9084-ABBB0A4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EF5C-7363-4690-9790-4CB7846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1A8E-2E43-4D30-B26F-5954B1F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86EA6-979A-4AEB-A4DB-A9715DA9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7726-4CD1-492C-B95D-EB3240AB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27A7-C04D-4D8B-9CAA-5D0301F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B64-55C8-4135-87FD-FE079E5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A661-D754-43D1-B388-489CDA0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FE07-576F-4BFD-AB2D-176B31D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D5B0-8FCD-41E3-B50F-EFFBF705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EA66-94E4-4509-B15A-F461B4D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E69A-73C1-4B15-BE8E-F986B12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7F7D-2644-485D-AA67-C5A9BE2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A680-FCB5-4840-9664-EF2B93A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D488-AD87-487F-ABED-10B0F57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0239-33F7-4BE3-9EF9-EC65741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3802-A18F-4431-BC77-25B1C50E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2E7-3432-4CEC-B02B-E892A8E4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C2502-2E06-48F8-B0BB-94563946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E4B76-FDBB-4601-A62F-19CFB359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F8EC-6235-4C69-A012-F4073DA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F467-0905-44A8-AF19-3FDDB34A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8D6B-4014-430E-A5E2-F294A75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0F9B-909C-4BA1-BE4A-ABC1285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7681-2B18-4BF4-89AE-FF37474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6BAC-F718-4A2C-9FC3-E39B38C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613F-3A2D-4A57-A0A7-35BB644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B69E-C756-4DE9-9EA6-327C6E2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C84-D286-4C4E-80FE-E88A8EB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3727-2967-456B-84FF-633E1A16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A64C-4ADA-4A73-9226-87848648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BF9B-6588-43B9-8C82-4E4AF202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9CD-512C-46B3-A46D-68D4074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D4C-E3D2-4DAA-A44A-5D99D2D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F87-1CEC-45D7-BE4F-EAC3CCD26F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14C-DB61-4C35-BC5E-9F9765BA6B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E11-725E-468D-94AE-B9EE5C7A8A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866-33D1-4483-ACF9-E036277B8B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BBC2-C254-4342-AA43-B8F653CF3A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1427-BA21-4B35-A2B7-F154A6524C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51160" y="981000"/>
            <a:ext cx="7645320" cy="476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582560" y="206064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769080" y="2565360"/>
            <a:ext cx="3263760" cy="1505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8304120" y="3789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812880" y="861840"/>
            <a:ext cx="10566360" cy="51343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9093240" y="5486400"/>
            <a:ext cx="1130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62120" y="822240"/>
            <a:ext cx="10667880" cy="30290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2209680" y="1515960"/>
            <a:ext cx="689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157640" y="3402000"/>
            <a:ext cx="217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717480" y="836640"/>
            <a:ext cx="10756800" cy="5896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6624720" y="4640400"/>
            <a:ext cx="3698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9880560" y="5253120"/>
            <a:ext cx="15289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2158920" y="5877000"/>
            <a:ext cx="2820960" cy="72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11360" y="925560"/>
            <a:ext cx="10769400" cy="2600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1627200" y="2330280"/>
            <a:ext cx="9956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1420920" y="2954160"/>
            <a:ext cx="995652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66760" y="907920"/>
            <a:ext cx="11925360" cy="5324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10291680" y="1943280"/>
            <a:ext cx="1870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60320" y="2278080"/>
            <a:ext cx="2019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728120" y="2492280"/>
            <a:ext cx="7682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9361440" y="2558880"/>
            <a:ext cx="11685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1161800" y="2592360"/>
            <a:ext cx="10047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723960" y="2905200"/>
            <a:ext cx="1747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265560" y="2871720"/>
            <a:ext cx="10065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2508120" y="3863880"/>
            <a:ext cx="648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173480" y="3897360"/>
            <a:ext cx="6476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5792760" y="3886200"/>
            <a:ext cx="64764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7846920" y="3897360"/>
            <a:ext cx="136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10344240" y="3875040"/>
            <a:ext cx="136044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1185840" y="4276800"/>
            <a:ext cx="13604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11399760" y="5592600"/>
            <a:ext cx="47304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279360" y="765000"/>
            <a:ext cx="11912760" cy="5200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11377440" y="206064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0618920" y="5551560"/>
            <a:ext cx="853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279360" y="765000"/>
            <a:ext cx="11912760" cy="5677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912960" y="6553080"/>
            <a:ext cx="322560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4272120" y="659124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2255760" y="1052640"/>
            <a:ext cx="863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814320" y="6597720"/>
            <a:ext cx="43210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6576840" y="3573360"/>
            <a:ext cx="43196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730080" y="955800"/>
            <a:ext cx="10731600" cy="58388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10320480" y="36450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704880" y="662040"/>
            <a:ext cx="10782360" cy="61815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10415520" y="6381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673200" y="792000"/>
            <a:ext cx="108457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615960" y="838080"/>
            <a:ext cx="10960200" cy="5962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5904000" y="2133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0260000" y="5668920"/>
            <a:ext cx="1111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1473120" y="6303960"/>
            <a:ext cx="2554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749160" y="812880"/>
            <a:ext cx="10693440" cy="5724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82560" y="3357720"/>
            <a:ext cx="576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776240" y="3925800"/>
            <a:ext cx="576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506600" y="4560840"/>
            <a:ext cx="5865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284120" y="5173560"/>
            <a:ext cx="5865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3:32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