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3B00-130B-479B-B2A0-919FDA8A4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0F28-B2AD-4D3E-A26C-7F0BBA3D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BEA2-5C4E-4DD8-9CC2-499A6C1DB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5002-E4A5-4B64-9450-C9900C227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D859-A1F3-4892-831C-5A54303D0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9572A-3196-4E66-8C75-4AA461EF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2566-7171-46B0-9671-A77C1321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D268-B71A-4364-A315-5C3BA1CB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4220-00FB-4194-8E35-EB6A65C9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C779-5760-4C1F-A606-A811576F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D13F-249F-48C7-AF21-15F22ED8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1D9D-CB10-465D-BB95-A201003E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7F763-E64F-405E-A947-0B5CF2F5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E15D-4812-4819-B4EC-1454740C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12629-CD7F-44A8-9A7C-A8F10AB3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ECC2-5FF3-4C3C-A73E-05EA293AF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21CC-E4E1-488C-B0C3-DE4EE8C92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DD29D-B1CA-458C-9754-6ED9D24EC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B1DD4-C3C7-4643-847D-0CD0C9EC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B93A5-A383-43E1-B462-1EE5C501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8DED0-814B-40BF-B9CF-E4532C91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64AA1-BD74-440F-83D7-F5B00CAB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EA96-7FF0-49A3-8898-189551CC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7785C-A05A-4344-812C-B161BA91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856F7-37F6-45A7-8FD4-60222DBA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B03DD-5C57-4EC7-9676-1B62CBC3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93163-E19F-48A4-B234-3DC41C62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B12FD-F439-49CB-86E0-F89653BB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CAE29-F5EC-44DB-8464-22B34CF64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2E41F-42D8-4087-A4C6-7C13C9767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66D3B-384C-4EE6-B4B9-2A783FB70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0EDBE-729D-4BD2-A866-AD6D1260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69E5C-364D-4479-A47D-0BF492AD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C909-ACA2-4D52-B6D0-E87810BD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3E453-B545-4C2C-A0C8-989C8AAA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B24D9-92E8-4B46-9BA2-9E2C82F9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AE8C4-97C6-48C2-B6CC-6B57C677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AF6C5-9044-475F-9E48-91628F59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7BD31-8DC9-42EA-BABB-42D035F4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3408E-C17D-427E-A4A0-EDFDB982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1622B-5990-487E-B493-F0BC6501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95FF2-E36F-463E-A2B7-BFE58445B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40BC5-0ED6-4C5C-A20B-B35AB2D6B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73041-F99E-4869-A97F-7131418A6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F70F-055A-4FFF-8C8E-379A2A82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C3EDB-2060-4AE3-BA3E-8BE1810A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9DB03-5EBA-4445-B5B9-649EC79E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C3147-B5D1-4BF6-B67B-549DD990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C70FB-DF45-48C0-9DEB-6028F4D7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EA9DC-63DE-4BFE-B5E0-26E67A55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5655D-8B65-4958-9C1D-908BF8E3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7FADD-8B8D-4335-8DC2-5D0236E2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6C518-BC49-44AF-8631-5DD533BB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D3222-845C-4476-9D42-F91E01F0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5FF62-6BCF-4D6C-BA2B-132132A56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E923-00DD-4A04-840D-DEE258D0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90EF4-EF12-4A4F-A930-B87E553BF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821F1-5750-4539-BDEA-BEEC83BDC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31796-17D6-4BBF-A1D0-4271481F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7DC04-0C15-4514-A714-F564C5BB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FD82B-DDE2-433C-888E-7CBFE3EA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9B5B8-6596-4B15-8B40-ABDD9938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1651E-AC95-4345-8D4F-512E3D41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6D612-2383-4EA3-A429-07AF59A0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207CB-EE6B-4040-A112-00169AF3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AD3A4-5383-4767-AA4D-601338B5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F0E7-10FF-4A7F-A0E8-D955497D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721D2-6FEC-4D57-A0A0-97097A4E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9CFE7-2831-45E3-9697-BE1BBCE19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10CBF-8300-4BC8-9BA3-9A8F68643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FE25-6A7D-440A-995C-6BFB6D07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1558-1E8D-48F2-B16B-A0BC7390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C617-FE36-4333-B797-8F7E332EB5C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4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57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直接连接符 12"/>
          <p:cNvGrpSpPr/>
          <p:nvPr/>
        </p:nvGrpSpPr>
        <p:grpSpPr>
          <a:xfrm>
            <a:off x="682560" y="5340240"/>
            <a:ext cx="11515680" cy="23760"/>
            <a:chOff x="682560" y="5340240"/>
            <a:chExt cx="11515680" cy="23760"/>
          </a:xfrm>
        </p:grpSpPr>
        <p:pic>
          <p:nvPicPr>
            <p:cNvPr id="60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340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8580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E03F-66F8-450A-87C2-4A6813B9CDD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1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4774680" y="76320"/>
            <a:ext cx="3861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D1A7-09C9-4C6C-B562-497D28093CF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6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直接连接符 12"/>
          <p:cNvGrpSpPr/>
          <p:nvPr/>
        </p:nvGrpSpPr>
        <p:grpSpPr>
          <a:xfrm>
            <a:off x="682560" y="3432240"/>
            <a:ext cx="11515680" cy="23760"/>
            <a:chOff x="682560" y="3432240"/>
            <a:chExt cx="11515680" cy="23760"/>
          </a:xfrm>
        </p:grpSpPr>
        <p:pic>
          <p:nvPicPr>
            <p:cNvPr id="163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3432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68580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49C1-9BE5-49C5-96CE-752FA234F09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07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10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13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直接连接符 12"/>
          <p:cNvGrpSpPr/>
          <p:nvPr/>
        </p:nvGrpSpPr>
        <p:grpSpPr>
          <a:xfrm>
            <a:off x="682560" y="6010200"/>
            <a:ext cx="11515680" cy="25560"/>
            <a:chOff x="682560" y="6010200"/>
            <a:chExt cx="11515680" cy="25560"/>
          </a:xfrm>
        </p:grpSpPr>
        <p:pic>
          <p:nvPicPr>
            <p:cNvPr id="216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60102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68580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10972800" y="6477120"/>
            <a:ext cx="10159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8CAC-FA1C-4D90-BDCE-FA850B4C21E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0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3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66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直接连接符 12"/>
          <p:cNvGrpSpPr/>
          <p:nvPr/>
        </p:nvGrpSpPr>
        <p:grpSpPr>
          <a:xfrm>
            <a:off x="682560" y="5840280"/>
            <a:ext cx="11515680" cy="24120"/>
            <a:chOff x="682560" y="5840280"/>
            <a:chExt cx="11515680" cy="24120"/>
          </a:xfrm>
        </p:grpSpPr>
        <p:pic>
          <p:nvPicPr>
            <p:cNvPr id="269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840280"/>
              <a:ext cx="1151568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68580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D313-4DE5-4557-9229-FE9B50F6FB6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1" descr=""/>
          <p:cNvPicPr/>
          <p:nvPr/>
        </p:nvPicPr>
        <p:blipFill>
          <a:blip r:embed="rId1"/>
          <a:stretch/>
        </p:blipFill>
        <p:spPr>
          <a:xfrm>
            <a:off x="2158920" y="907920"/>
            <a:ext cx="7404120" cy="12956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2" descr=""/>
          <p:cNvPicPr/>
          <p:nvPr/>
        </p:nvPicPr>
        <p:blipFill>
          <a:blip r:embed="rId2"/>
          <a:stretch/>
        </p:blipFill>
        <p:spPr>
          <a:xfrm>
            <a:off x="1677960" y="2637000"/>
            <a:ext cx="9347400" cy="723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3" descr=""/>
          <p:cNvPicPr/>
          <p:nvPr/>
        </p:nvPicPr>
        <p:blipFill>
          <a:blip r:embed="rId3"/>
          <a:stretch/>
        </p:blipFill>
        <p:spPr>
          <a:xfrm>
            <a:off x="334800" y="4149720"/>
            <a:ext cx="10833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912960" y="907920"/>
            <a:ext cx="10109160" cy="57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1008000" y="1052640"/>
            <a:ext cx="10045800" cy="460980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3"/>
          <p:cNvSpPr/>
          <p:nvPr/>
        </p:nvSpPr>
        <p:spPr>
          <a:xfrm>
            <a:off x="914400" y="1116000"/>
            <a:ext cx="1038852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990720" y="1717560"/>
            <a:ext cx="1038852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958680" y="2341440"/>
            <a:ext cx="1038888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1004760" y="2989440"/>
            <a:ext cx="1038888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1035000" y="3579840"/>
            <a:ext cx="1038852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8"/>
          <p:cNvSpPr/>
          <p:nvPr/>
        </p:nvSpPr>
        <p:spPr>
          <a:xfrm>
            <a:off x="1170000" y="4172040"/>
            <a:ext cx="1038852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1378080" y="4873680"/>
            <a:ext cx="7549920" cy="72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1008000" y="836640"/>
            <a:ext cx="7632720" cy="30672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" descr=""/>
          <p:cNvPicPr/>
          <p:nvPr/>
        </p:nvPicPr>
        <p:blipFill>
          <a:blip r:embed="rId2"/>
          <a:stretch/>
        </p:blipFill>
        <p:spPr>
          <a:xfrm>
            <a:off x="239760" y="4019400"/>
            <a:ext cx="10858320" cy="283860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4"/>
          <p:cNvSpPr/>
          <p:nvPr/>
        </p:nvSpPr>
        <p:spPr>
          <a:xfrm>
            <a:off x="1065240" y="814320"/>
            <a:ext cx="811224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5"/>
          <p:cNvSpPr/>
          <p:nvPr/>
        </p:nvSpPr>
        <p:spPr>
          <a:xfrm>
            <a:off x="915840" y="1484280"/>
            <a:ext cx="8172720" cy="717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781200" y="2421000"/>
            <a:ext cx="811368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750960" y="3100320"/>
            <a:ext cx="6359400" cy="73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4" descr=""/>
          <p:cNvPicPr/>
          <p:nvPr/>
        </p:nvPicPr>
        <p:blipFill>
          <a:blip r:embed="rId1"/>
          <a:stretch/>
        </p:blipFill>
        <p:spPr>
          <a:xfrm>
            <a:off x="814320" y="836640"/>
            <a:ext cx="10375920" cy="581976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5"/>
          <p:cNvSpPr/>
          <p:nvPr/>
        </p:nvSpPr>
        <p:spPr>
          <a:xfrm>
            <a:off x="884160" y="1494000"/>
            <a:ext cx="634356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781200" y="1928880"/>
            <a:ext cx="5792760" cy="56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8"/>
          <p:cNvSpPr/>
          <p:nvPr/>
        </p:nvSpPr>
        <p:spPr>
          <a:xfrm>
            <a:off x="795240" y="2743200"/>
            <a:ext cx="634392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9"/>
          <p:cNvSpPr/>
          <p:nvPr/>
        </p:nvSpPr>
        <p:spPr>
          <a:xfrm>
            <a:off x="781200" y="3368520"/>
            <a:ext cx="6343560" cy="4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0"/>
          <p:cNvSpPr/>
          <p:nvPr/>
        </p:nvSpPr>
        <p:spPr>
          <a:xfrm>
            <a:off x="603360" y="3959280"/>
            <a:ext cx="634356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1"/>
          <p:cNvSpPr/>
          <p:nvPr/>
        </p:nvSpPr>
        <p:spPr>
          <a:xfrm>
            <a:off x="825480" y="4618080"/>
            <a:ext cx="634356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2"/>
          <p:cNvSpPr/>
          <p:nvPr/>
        </p:nvSpPr>
        <p:spPr>
          <a:xfrm>
            <a:off x="825480" y="5275440"/>
            <a:ext cx="775512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3"/>
          <p:cNvSpPr/>
          <p:nvPr/>
        </p:nvSpPr>
        <p:spPr>
          <a:xfrm>
            <a:off x="541440" y="5921280"/>
            <a:ext cx="7770600" cy="717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1008000" y="836640"/>
            <a:ext cx="6184800" cy="27525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3" descr=""/>
          <p:cNvPicPr/>
          <p:nvPr/>
        </p:nvPicPr>
        <p:blipFill>
          <a:blip r:embed="rId2"/>
          <a:stretch/>
        </p:blipFill>
        <p:spPr>
          <a:xfrm>
            <a:off x="334800" y="4005360"/>
            <a:ext cx="10757160" cy="250488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4"/>
          <p:cNvSpPr/>
          <p:nvPr/>
        </p:nvSpPr>
        <p:spPr>
          <a:xfrm>
            <a:off x="1123920" y="914400"/>
            <a:ext cx="39798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1212840" y="1484280"/>
            <a:ext cx="39798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1109520" y="2185920"/>
            <a:ext cx="3711600" cy="6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1065240" y="3166920"/>
            <a:ext cx="6283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814320" y="790560"/>
            <a:ext cx="10375920" cy="606744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3"/>
          <p:cNvSpPr/>
          <p:nvPr/>
        </p:nvSpPr>
        <p:spPr>
          <a:xfrm>
            <a:off x="839880" y="2063880"/>
            <a:ext cx="5823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781200" y="2709720"/>
            <a:ext cx="5822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585720" y="3335400"/>
            <a:ext cx="5823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1314360" y="3948120"/>
            <a:ext cx="5823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1746360" y="4583160"/>
            <a:ext cx="5823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1760400" y="5197320"/>
            <a:ext cx="6877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1968480" y="5788080"/>
            <a:ext cx="6877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0"/>
          <p:cNvSpPr/>
          <p:nvPr/>
        </p:nvSpPr>
        <p:spPr>
          <a:xfrm>
            <a:off x="1879560" y="6434280"/>
            <a:ext cx="8261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1008000" y="981000"/>
            <a:ext cx="9144000" cy="340056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3"/>
          <p:cNvSpPr/>
          <p:nvPr/>
        </p:nvSpPr>
        <p:spPr>
          <a:xfrm>
            <a:off x="1033560" y="1049400"/>
            <a:ext cx="9361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973080" y="1662120"/>
            <a:ext cx="9363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958680" y="2308320"/>
            <a:ext cx="93618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973080" y="2922480"/>
            <a:ext cx="9363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928800" y="3568680"/>
            <a:ext cx="7607160" cy="704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1T07:47:00Z</dcterms:created>
  <dc:creator/>
  <dc:description/>
  <dc:language>en-US</dc:language>
  <cp:lastModifiedBy>DELL-00</cp:lastModifiedBy>
  <dcterms:modified xsi:type="dcterms:W3CDTF">2018-03-25T13:25:37Z</dcterms:modified>
  <cp:revision>13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7</vt:lpwstr>
  </property>
</Properties>
</file>