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1CB-DFF7-417D-8F8C-6294DA5C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C8B-4A8B-497D-A88D-43F6D4E3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36C-CF0B-4CAA-93EB-5B499B10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316-6F09-4441-B0C1-CFA124A6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F3E6-A582-410D-8EC6-1C81DF6D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983A-636D-4298-8BF6-65EC6E7B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9661-DB6A-49B9-A5A7-9EBE14ED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4662-C336-4E02-A948-B3B56631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6FFA-1BB3-413B-BC59-0825A59B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CD64-35FB-4EB1-BA4C-F5E3A8A2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F46D-2FA1-44C8-B593-F671EDE3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5EE-1FDB-45AA-9D49-06C226F7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87D6-B4E7-4F18-AA4E-AD6D10E3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CDFE-F12D-49A0-A7B9-BCC3CDE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344D-F226-4252-9FD4-F67FF718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29BA-6387-417C-9218-D62AEAA8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F3C0-044A-4350-8F45-1A2433A7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C949-E3E2-4BB9-BF0B-D56A54CB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677A-4A58-40BA-9681-BB64A1C1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34E1-52FE-44EF-B3FC-8AA1D2B9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2E10-B97C-4987-9323-7B3C7068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003C-FB98-4231-8AC6-FD93BC55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394-4824-40E2-B2DC-F875732F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AD40-FDC3-44C1-BF90-25D242A5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3251B-7D54-470F-A0A9-912143DE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98008-D9D1-489D-BB37-EA2F67D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D70A-8665-4C16-AC2F-B358C5C5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E00A-560C-4890-8805-1221BD83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D3D3-2ABB-40C1-BDE3-67A4FC8B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917A7-8214-4B6A-961B-FEB3A094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73A26-FEC9-4147-8711-336D85AC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5697-5BC5-4A06-8BE4-A52BE3B8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AD1C6-7B88-4928-909E-3336426B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97C-B442-4F15-8150-1902D427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33205-B632-4CC4-A3DE-7F0823C1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2ED2-BA03-4BFC-8D85-C11B8626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A387C-4E13-43D8-BC4E-5076B3C7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859B0-672F-4489-B87E-4C86A21D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5919-450F-4834-AE28-032876D9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390A3-B98D-40A1-B660-A31EA59E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F1BEE-EBB2-41F2-AEC4-695A49FF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6528E-88F4-4C43-889E-A5B8531C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3D5B-43A7-4E98-ADD2-F56479B9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B827A-99B7-4B50-9323-CDB115F6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ADA-9ED5-4D2C-93CB-C76C355E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219A9-1E2F-4024-8A19-E3D0BEA5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9307F-1207-4D0E-B5EE-8F02BA0E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CB210-9BBC-42F4-87E3-67D22766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F7923-DE70-417C-B977-A53BB838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2BF5-2030-4F48-A838-AF962449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556BA-D677-483F-B08D-F31AB7A9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DFAB2-BA19-43EC-8E56-4613FB6A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C51E-7D7E-4735-B98A-F72EB023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82444-4848-46B7-BB78-8F0B265B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38AD0-FE6E-41FF-B125-B72475E9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E00-8876-4203-90A5-CDA69992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D1111-5624-4EDC-B17A-92579D7E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9554-933F-467B-B4B1-9158E888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F1F33-D334-4A26-8A29-8EC31168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60340-074C-4D47-9865-3C458EF7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F95BD-CBC8-466E-BB38-A61D2291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AAA60-C9F9-4420-962B-B2DA4981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C46C9-A295-475D-8161-96DD73D3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FAB08-D340-46B8-9314-72EA1833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6E379-05FE-4CB5-B9C1-5770ED71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E614-A439-44A8-A38C-DD7BFF53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80F-805A-4158-95B2-DABA6BEE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C279C-512F-470D-BEBF-7E5C12C5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FAFB3-1C36-4A0A-BFA9-6896D12A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A0F6B-C15F-4476-96FC-36B490D8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057-6CD3-46F5-A8FA-012FACD1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F2C-0155-4E68-A679-B830BD1C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5FE0-2FD6-4EAD-ABDF-BBFFEE86EEA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DED1-65A7-419D-B25E-C9D44A64A88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526B-BC64-40E4-B237-2B0FD17EDA7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472D-8AD6-46FC-A7D2-1F8435F1E3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62DA-09ED-4277-BBF3-91C6B845FC0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B93E-C9B0-4869-84B0-3BB10479FFA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351160" y="1052640"/>
            <a:ext cx="6997680" cy="12859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431640" y="2781360"/>
            <a:ext cx="11354040" cy="704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431640" y="4076640"/>
            <a:ext cx="10795320" cy="259092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4"/>
          <p:cNvSpPr/>
          <p:nvPr/>
        </p:nvSpPr>
        <p:spPr>
          <a:xfrm>
            <a:off x="10128240" y="530064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10235880" cy="515304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912960" y="907920"/>
            <a:ext cx="68040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077840" y="1432080"/>
            <a:ext cx="68040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912960" y="2044800"/>
            <a:ext cx="659448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300320" y="2936880"/>
            <a:ext cx="659448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47880" y="3797280"/>
            <a:ext cx="73850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2063880" y="4437000"/>
            <a:ext cx="9227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24120" y="5316480"/>
            <a:ext cx="922968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912960" y="765000"/>
            <a:ext cx="9232920" cy="1333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431640" y="2162160"/>
            <a:ext cx="10769760" cy="4695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4"/>
          <p:cNvSpPr/>
          <p:nvPr/>
        </p:nvSpPr>
        <p:spPr>
          <a:xfrm>
            <a:off x="1103400" y="765000"/>
            <a:ext cx="921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895320" y="1311120"/>
            <a:ext cx="9218520" cy="7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103400" y="5805360"/>
            <a:ext cx="662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1087560" y="6340320"/>
            <a:ext cx="6626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12960" y="914400"/>
            <a:ext cx="10109160" cy="59436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3"/>
          <p:cNvSpPr/>
          <p:nvPr/>
        </p:nvSpPr>
        <p:spPr>
          <a:xfrm>
            <a:off x="1008000" y="907920"/>
            <a:ext cx="5664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1052640" y="1522440"/>
            <a:ext cx="5664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1022400" y="2046240"/>
            <a:ext cx="6481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960480" y="2558880"/>
            <a:ext cx="6481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960480" y="3105000"/>
            <a:ext cx="9947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1004760" y="3664080"/>
            <a:ext cx="1000620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915840" y="4600440"/>
            <a:ext cx="5783400" cy="7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1065240" y="5546880"/>
            <a:ext cx="648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1008000" y="6095880"/>
            <a:ext cx="8460000" cy="7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008000" y="836640"/>
            <a:ext cx="3987720" cy="8478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239760" y="1844640"/>
            <a:ext cx="10680480" cy="48672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4"/>
          <p:cNvSpPr/>
          <p:nvPr/>
        </p:nvSpPr>
        <p:spPr>
          <a:xfrm>
            <a:off x="1008000" y="836640"/>
            <a:ext cx="38386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1008000" y="1052640"/>
            <a:ext cx="7975800" cy="30956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1103400" y="1052640"/>
            <a:ext cx="6529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06360" y="1620720"/>
            <a:ext cx="6529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1008000" y="2133720"/>
            <a:ext cx="6529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1185840" y="2712960"/>
            <a:ext cx="6529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1244520" y="3249720"/>
            <a:ext cx="6529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1230480" y="3795840"/>
            <a:ext cx="7718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912960" y="981000"/>
            <a:ext cx="10083600" cy="53434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1776240" y="981000"/>
            <a:ext cx="8544240" cy="31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008000" y="4292640"/>
            <a:ext cx="9888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1103400" y="4869000"/>
            <a:ext cx="34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1147680" y="5392800"/>
            <a:ext cx="34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20760" y="5938920"/>
            <a:ext cx="8512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8953560" cy="565812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1008000" y="907920"/>
            <a:ext cx="556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1068480" y="1476360"/>
            <a:ext cx="571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1023840" y="1967040"/>
            <a:ext cx="571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1068480" y="2546280"/>
            <a:ext cx="574668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934920" y="3449520"/>
            <a:ext cx="9002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1116000" y="4017960"/>
            <a:ext cx="574668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1009800" y="4898880"/>
            <a:ext cx="574668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890640" y="5857920"/>
            <a:ext cx="8928000" cy="6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7620120" cy="19432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1008000" y="907920"/>
            <a:ext cx="77756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1022400" y="1878120"/>
            <a:ext cx="77770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334800" y="836640"/>
            <a:ext cx="10896840" cy="54291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9936000" y="479736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57160" cy="53247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10032840" y="170028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44200" cy="506736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3"/>
          <p:cNvSpPr/>
          <p:nvPr/>
        </p:nvSpPr>
        <p:spPr>
          <a:xfrm>
            <a:off x="5519880" y="148428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5232240" y="378936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10223280" cy="3162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1103400" y="4076640"/>
            <a:ext cx="9105840" cy="19814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5"/>
          <p:cNvSpPr/>
          <p:nvPr/>
        </p:nvSpPr>
        <p:spPr>
          <a:xfrm>
            <a:off x="1008000" y="2060640"/>
            <a:ext cx="6143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77760" y="2606760"/>
            <a:ext cx="614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992160" y="3152880"/>
            <a:ext cx="614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1111320" y="4078440"/>
            <a:ext cx="614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1214280" y="4592520"/>
            <a:ext cx="614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1200240" y="5149800"/>
            <a:ext cx="9074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1036800" y="5673600"/>
            <a:ext cx="614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912960" y="714240"/>
            <a:ext cx="9956520" cy="61437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1008000" y="692280"/>
            <a:ext cx="816156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008000" y="1271520"/>
            <a:ext cx="95727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103400" y="1844640"/>
            <a:ext cx="851832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977760" y="2687760"/>
            <a:ext cx="4951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969840" y="3260880"/>
            <a:ext cx="98568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1103400" y="4164120"/>
            <a:ext cx="851832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1058760" y="5078520"/>
            <a:ext cx="851868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1117440" y="6059520"/>
            <a:ext cx="967932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431640" y="836640"/>
            <a:ext cx="10820520" cy="56386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3"/>
          <p:cNvSpPr/>
          <p:nvPr/>
        </p:nvSpPr>
        <p:spPr>
          <a:xfrm>
            <a:off x="912960" y="3933720"/>
            <a:ext cx="681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79400" y="4446720"/>
            <a:ext cx="681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957240" y="4981680"/>
            <a:ext cx="681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1092240" y="5540400"/>
            <a:ext cx="681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1077840" y="6097680"/>
            <a:ext cx="681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008000" y="819000"/>
            <a:ext cx="9245520" cy="6039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1008000" y="836640"/>
            <a:ext cx="643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88840" y="1382760"/>
            <a:ext cx="6432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084320" y="1963800"/>
            <a:ext cx="6460920" cy="6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1128600" y="2889360"/>
            <a:ext cx="6461280" cy="6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157400" y="3814920"/>
            <a:ext cx="9182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008000" y="4740120"/>
            <a:ext cx="643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1141560" y="5364000"/>
            <a:ext cx="711828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963720" y="5965920"/>
            <a:ext cx="7102440" cy="83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334800" y="981000"/>
            <a:ext cx="10757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4:28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