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A300-B48C-4D90-B59B-FA82B35D5E6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20B7-5C3E-41FB-976E-06E36FA7A0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E028-C944-45B9-B3B7-5E084275F8E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9A47-C5AF-46F5-9385-E9FBCB43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E5FC-5BA1-48D8-AE2F-BE359960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FB5-3537-4C13-AF35-DA5E0706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48D-AEA8-4BFF-8EB9-AD3377F8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2730-9E0A-43D5-98D0-94E2E87F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73DB-1E3B-42F3-B57A-99BFB865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2045-89DD-44CD-BD71-C0D0830D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5C9E-CAC0-4425-8640-041CCC5C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F9F4-3658-406F-AE7D-91196DDB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CFE8-1333-4BF7-A6F5-C5C2BF5D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B691-B0D5-4B7E-8AFE-5902CD31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781-F5C4-4D31-8BF6-B680A429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0700-2C6D-4D8E-8ADE-965A6A44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29EE-6D13-4955-A0E3-38D8BAD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6207-80B5-4034-851B-2DE7CB57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E1B2-33AD-4D36-A87D-191EF406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DAA2-DA24-44DE-BC42-19C4DC99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F5E5F-ED24-4B9C-8E50-66CB4EBA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12F24-5AB4-46B6-90A5-6C72C0D7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24B8-770F-441F-A221-493C96B3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05A2-A14B-4DB6-99CA-7C2B79BD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1095-3E09-45D1-80FE-1D376397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E45-FAAB-479C-8F2D-2FF5C495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588E9-5ECF-428D-8B45-2EDAF65C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F8EA8-85AD-4508-9C30-0B758EC4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F5B29-F495-4954-A3D9-8D18940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2DB4-9DEC-45D9-9FDE-BF99174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6C2B5-99B1-49C8-9F22-0E14A6E0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D498-547B-4E9E-AA39-5D1E8396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0ADB-5B3B-45D3-8F11-49E3BB15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3B722-5266-4713-AB6A-617202DE6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000B7-2138-4E23-A833-204B8F8D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66322-D9B2-4AB7-81F5-504FE177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B18-8D3D-4771-8AF2-303D6DF2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105C-8A52-4E6E-A682-C0ABE469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DC18-8049-4397-A210-FA3A9B5E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D7E5-AFB4-495D-B6E9-15834089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6BD46-2C08-430B-A80B-B20D5914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2578-206A-41FD-969B-B43854C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6BA2A-C278-4C69-AEBA-530F628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7676F-2E86-4557-96B6-8E50FCAD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FEA5B-5201-4CB9-9FF6-000269D7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8C3A9-B6F9-4F4B-AD24-15353502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E2B5E-8BCC-44CF-A719-918EB094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A4A-F96B-4B0E-828D-DB9C707C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82A8A-F5E9-463F-B1AB-3CB935C5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57A8B-6621-43FB-BA43-CF4BD28B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E2B87-1849-43F9-ACA5-709A3B25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5289C-E388-4920-9FCD-74B34D09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AAE38-1DFF-4C0A-A939-DBE8C764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9D37A-A6C9-4F60-9A2E-939E49AC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242DA-0005-4EE2-8B3F-95388B1F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9C0F-104C-4E9D-B7CE-0436CEF8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6F7F1-DBA2-4FF2-96EB-6D3F08EA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B02F4-5B40-4464-9C13-F7A1EE43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D78-5FE1-4E56-9207-0544987C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9F62A-94B4-4546-B35C-9F7DD77B7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A79E3-0176-4304-9306-ACE8E84C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B39DC-CF4A-434E-88A1-1AEB8780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120C2-7884-4141-B0CC-6BB181A2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CF5D6-5ECD-428F-BC72-150601D0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650DA-FDD1-4D86-9D3A-9B2B06A4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B8FC6-E197-4B0F-95BC-2DB45134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762DD-9BF9-476E-AA36-B6C66AE6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40F6C-27EC-4FDE-BB96-7BA948E5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F516-755B-46ED-9D47-188E7105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E8B-F660-4ADF-BCB5-0578EA0E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68A60-719B-40AB-8C38-B815B2E9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A9556-43B1-4E2F-9F7A-42C920B8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F679B-9CBB-4DBE-94AD-32C97900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B2760-E844-4BFA-A1C2-2A99CAC01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EA004-191E-494A-9802-C55738C6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7935F-075B-44B8-9BE3-AB893042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10A9A-19BD-4540-A470-ADB3D25D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1FF24-3A86-4515-B5EC-7B199126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BD518-62DA-4B6E-8EDB-3DB5B795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6E0E3-5ACA-4EB4-B79F-30D3B69A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12B5-10B6-4386-B4F7-28CC4E4C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6C510-8AA2-446B-BEE6-75C4FF77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7C3C6-CBD2-4FC5-8776-B5492793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EDC03-8C38-49A3-8DC1-1019E2BA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D6F1F-89DD-43EA-A2DE-3D940D3B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4FCAC-4706-4B35-974F-D6C033C7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27637-7933-4C56-879A-4EB9EA66B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02E57-EC7B-4E4D-B08E-18183AE4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90191-F343-4E36-9AC1-03FEB63E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5EEAF-029D-4B0B-B655-EE2CC9D4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7BF75-A592-4B65-BDE5-3411E7582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6A8-0236-48C4-9C6A-BE80C34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554FE-4F87-42CD-8E17-E1CD15E4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2B841-494C-4E44-BC5B-2A2806F4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A291E-D2C9-47A9-8FCA-E3F92781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20FD0-7CFF-4702-99D4-6D5D370C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C6F58-3EF7-4B07-BF0B-EAA5ACAF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6555C-AC95-41B8-B701-B9F6CF3E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38F10-7195-416B-B199-38B834A2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32C1-AA7B-4EF3-A7F4-4914F86372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5F1A-BE0F-4C0C-BAFF-39CBECBB436F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3841-6710-40C6-97BD-1F60489C1770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64AD-AE72-49D7-8DFD-1B12390774FD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8BA3-D0A7-496E-BFD5-5380745BAECA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3C05-D4EA-4858-A44A-93DEC66F305F}" type="slidenum">
              <a:rPr b="0" lang="zh-CN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2071-2EAE-4D60-B578-C337E08F7437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51D1-3125-405A-BBA4-37A5BA3917C1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7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"/>
          <p:cNvSpPr/>
          <p:nvPr/>
        </p:nvSpPr>
        <p:spPr>
          <a:xfrm>
            <a:off x="250920" y="9079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位置与方向（二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线连接符 21"/>
          <p:cNvSpPr/>
          <p:nvPr/>
        </p:nvSpPr>
        <p:spPr>
          <a:xfrm>
            <a:off x="3708360" y="3459240"/>
            <a:ext cx="4392720" cy="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6"/>
          <p:cNvSpPr/>
          <p:nvPr/>
        </p:nvSpPr>
        <p:spPr>
          <a:xfrm>
            <a:off x="3165480" y="2630520"/>
            <a:ext cx="522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位置与方向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49" name="同侧圆角矩形 15"/>
          <p:cNvGrpSpPr/>
          <p:nvPr/>
        </p:nvGrpSpPr>
        <p:grpSpPr>
          <a:xfrm>
            <a:off x="469800" y="1127160"/>
            <a:ext cx="1998720" cy="512280"/>
            <a:chOff x="469800" y="1127160"/>
            <a:chExt cx="1998720" cy="512280"/>
          </a:xfrm>
        </p:grpSpPr>
        <p:pic>
          <p:nvPicPr>
            <p:cNvPr id="550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12716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493560" y="11505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817560" y="1833480"/>
            <a:ext cx="565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中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是蓝军的指挥所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们的一号阵地在指挥所的东偏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距离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号阵地在一号阵地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距离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请你在图中标出一号阵地与二号阵地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555" name="XJ15.EPS" descr="id:2147502068;FounderCES"/>
          <p:cNvPicPr/>
          <p:nvPr/>
        </p:nvPicPr>
        <p:blipFill>
          <a:blip r:embed="rId4"/>
          <a:stretch/>
        </p:blipFill>
        <p:spPr>
          <a:xfrm>
            <a:off x="5308560" y="3914640"/>
            <a:ext cx="290664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同侧圆角矩形 1"/>
          <p:cNvGrpSpPr/>
          <p:nvPr/>
        </p:nvGrpSpPr>
        <p:grpSpPr>
          <a:xfrm>
            <a:off x="469800" y="1054080"/>
            <a:ext cx="1998720" cy="512280"/>
            <a:chOff x="469800" y="1054080"/>
            <a:chExt cx="1998720" cy="512280"/>
          </a:xfrm>
        </p:grpSpPr>
        <p:pic>
          <p:nvPicPr>
            <p:cNvPr id="557" name="同侧圆角矩形 1" descr=""/>
            <p:cNvPicPr/>
            <p:nvPr/>
          </p:nvPicPr>
          <p:blipFill>
            <a:blip r:embed="rId1"/>
            <a:stretch/>
          </p:blipFill>
          <p:spPr>
            <a:xfrm>
              <a:off x="469800" y="105408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493560" y="1077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1" name="TextBox 14"/>
          <p:cNvSpPr/>
          <p:nvPr/>
        </p:nvSpPr>
        <p:spPr>
          <a:xfrm>
            <a:off x="1182600" y="170028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3" descr="F:\七彩课堂插图板式封面\排版用图标、页眉页脚\标题jpg\读读比比.jpg"/>
          <p:cNvPicPr/>
          <p:nvPr/>
        </p:nvPicPr>
        <p:blipFill>
          <a:blip r:embed="rId2"/>
          <a:srcRect l="14881" t="13742" r="3330" b="5348"/>
          <a:stretch/>
        </p:blipFill>
        <p:spPr>
          <a:xfrm>
            <a:off x="6012000" y="549360"/>
            <a:ext cx="2120760" cy="1465200"/>
          </a:xfrm>
          <a:prstGeom prst="rect">
            <a:avLst/>
          </a:prstGeom>
          <a:ln w="0">
            <a:noFill/>
          </a:ln>
        </p:spPr>
      </p:pic>
      <p:sp>
        <p:nvSpPr>
          <p:cNvPr id="563" name="TextBox 21"/>
          <p:cNvSpPr/>
          <p:nvPr/>
        </p:nvSpPr>
        <p:spPr>
          <a:xfrm>
            <a:off x="971640" y="2421000"/>
            <a:ext cx="7264440" cy="1557000"/>
          </a:xfrm>
          <a:prstGeom prst="rect">
            <a:avLst/>
          </a:prstGeom>
          <a:solidFill>
            <a:srgbClr val="ff0000">
              <a:alpha val="9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号阵地的位置以指挥所为观测点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要先标出一号阵地的位置。标一号阵地的位置时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找到一号阵地相对于指挥所的方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“东偏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以指挥所为中心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正东方向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刻度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描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角。找到方向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用合适的单位长度为基准来确定距离。例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们可以用图上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表示实际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图下面写出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。一号阵地到指挥所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图上画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点上点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标明一号阵地的位置。标二号阵地的位置时也按照这个顺序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是二号阵地的观测点转化为一号阵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xj16.EPS" descr="id:2147502075;FounderCES"/>
          <p:cNvPicPr/>
          <p:nvPr/>
        </p:nvPicPr>
        <p:blipFill>
          <a:blip r:embed="rId3"/>
          <a:stretch/>
        </p:blipFill>
        <p:spPr>
          <a:xfrm>
            <a:off x="2314440" y="4711680"/>
            <a:ext cx="1046160" cy="2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66" name="同侧圆角矩形 15"/>
          <p:cNvGrpSpPr/>
          <p:nvPr/>
        </p:nvGrpSpPr>
        <p:grpSpPr>
          <a:xfrm>
            <a:off x="469800" y="1054080"/>
            <a:ext cx="1998720" cy="512280"/>
            <a:chOff x="469800" y="1054080"/>
            <a:chExt cx="1998720" cy="512280"/>
          </a:xfrm>
        </p:grpSpPr>
        <p:pic>
          <p:nvPicPr>
            <p:cNvPr id="567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469800" y="105408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493560" y="1077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71" name="TextBox 6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2" name="W11.EPS" descr="id:2147502082;FounderCES"/>
          <p:cNvPicPr/>
          <p:nvPr/>
        </p:nvPicPr>
        <p:blipFill>
          <a:blip r:embed="rId4"/>
          <a:stretch/>
        </p:blipFill>
        <p:spPr>
          <a:xfrm>
            <a:off x="2425680" y="2347920"/>
            <a:ext cx="4179960" cy="33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6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651640" y="835200"/>
            <a:ext cx="3085920" cy="21603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576" name="矩形 10"/>
          <p:cNvSpPr/>
          <p:nvPr/>
        </p:nvSpPr>
        <p:spPr>
          <a:xfrm>
            <a:off x="1785960" y="191448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音乐广场在火车站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7" name="同侧圆角矩形 11"/>
          <p:cNvGrpSpPr/>
          <p:nvPr/>
        </p:nvGrpSpPr>
        <p:grpSpPr>
          <a:xfrm>
            <a:off x="469800" y="1127160"/>
            <a:ext cx="1998720" cy="512280"/>
            <a:chOff x="469800" y="1127160"/>
            <a:chExt cx="1998720" cy="512280"/>
          </a:xfrm>
        </p:grpSpPr>
        <p:pic>
          <p:nvPicPr>
            <p:cNvPr id="578" name="同侧圆角矩形 11" descr=""/>
            <p:cNvPicPr/>
            <p:nvPr/>
          </p:nvPicPr>
          <p:blipFill>
            <a:blip r:embed="rId3"/>
            <a:stretch/>
          </p:blipFill>
          <p:spPr>
            <a:xfrm>
              <a:off x="469800" y="112716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93560" y="11505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矩形 1"/>
          <p:cNvSpPr/>
          <p:nvPr/>
        </p:nvSpPr>
        <p:spPr>
          <a:xfrm rot="18297600">
            <a:off x="6492600" y="43146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W9.EPS" descr="id:2147502010;FounderCES"/>
          <p:cNvPicPr/>
          <p:nvPr/>
        </p:nvPicPr>
        <p:blipFill>
          <a:blip r:embed="rId4"/>
          <a:stretch/>
        </p:blipFill>
        <p:spPr>
          <a:xfrm>
            <a:off x="2577960" y="3573360"/>
            <a:ext cx="3095640" cy="226080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"/>
          <p:cNvSpPr/>
          <p:nvPr/>
        </p:nvSpPr>
        <p:spPr>
          <a:xfrm>
            <a:off x="1943280" y="2399400"/>
            <a:ext cx="11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3135240" y="2381760"/>
            <a:ext cx="119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南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4100400" y="2489040"/>
            <a:ext cx="152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9" name="同侧圆角矩形 15"/>
          <p:cNvGrpSpPr/>
          <p:nvPr/>
        </p:nvGrpSpPr>
        <p:grpSpPr>
          <a:xfrm>
            <a:off x="542880" y="1054080"/>
            <a:ext cx="1998720" cy="512280"/>
            <a:chOff x="542880" y="1054080"/>
            <a:chExt cx="1998720" cy="512280"/>
          </a:xfrm>
        </p:grpSpPr>
        <p:pic>
          <p:nvPicPr>
            <p:cNvPr id="590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542880" y="105408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565200" y="107748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594" name="矩形 19"/>
          <p:cNvSpPr/>
          <p:nvPr/>
        </p:nvSpPr>
        <p:spPr>
          <a:xfrm>
            <a:off x="1217520" y="2637000"/>
            <a:ext cx="66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物体不在观测点的正方向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看偏出的角度是从哪个正方向偏出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般选择较小的角表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图中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从正南偏向正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此应该说音乐广场在火车站的南偏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。要说西偏南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偏出的角度应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°-30°=60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grpSp>
        <p:nvGrpSpPr>
          <p:cNvPr id="598" name="同侧圆角矩形 12"/>
          <p:cNvGrpSpPr/>
          <p:nvPr/>
        </p:nvGrpSpPr>
        <p:grpSpPr>
          <a:xfrm>
            <a:off x="469800" y="1127160"/>
            <a:ext cx="1998720" cy="512280"/>
            <a:chOff x="469800" y="1127160"/>
            <a:chExt cx="1998720" cy="512280"/>
          </a:xfrm>
        </p:grpSpPr>
        <p:pic>
          <p:nvPicPr>
            <p:cNvPr id="599" name="同侧圆角矩形 12" descr=""/>
            <p:cNvPicPr/>
            <p:nvPr/>
          </p:nvPicPr>
          <p:blipFill>
            <a:blip r:embed="rId3"/>
            <a:stretch/>
          </p:blipFill>
          <p:spPr>
            <a:xfrm>
              <a:off x="469800" y="112716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493560" y="11505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易错提醒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矩形 15"/>
          <p:cNvSpPr/>
          <p:nvPr/>
        </p:nvSpPr>
        <p:spPr>
          <a:xfrm rot="18297600">
            <a:off x="5538600" y="49734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20"/>
          <p:cNvSpPr/>
          <p:nvPr/>
        </p:nvSpPr>
        <p:spPr>
          <a:xfrm rot="18297600">
            <a:off x="5905080" y="30103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10"/>
          <p:cNvSpPr/>
          <p:nvPr/>
        </p:nvSpPr>
        <p:spPr>
          <a:xfrm>
            <a:off x="1785960" y="191448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音乐广场在火车站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2"/>
          <p:cNvSpPr/>
          <p:nvPr/>
        </p:nvSpPr>
        <p:spPr>
          <a:xfrm>
            <a:off x="1943280" y="2399400"/>
            <a:ext cx="11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Rectangle 2"/>
          <p:cNvSpPr/>
          <p:nvPr/>
        </p:nvSpPr>
        <p:spPr>
          <a:xfrm>
            <a:off x="3135240" y="2381760"/>
            <a:ext cx="119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南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4100400" y="2489040"/>
            <a:ext cx="152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19"/>
          <p:cNvSpPr/>
          <p:nvPr/>
        </p:nvSpPr>
        <p:spPr>
          <a:xfrm>
            <a:off x="1576440" y="420840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音乐广场在火车站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偏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(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2"/>
          <p:cNvSpPr/>
          <p:nvPr/>
        </p:nvSpPr>
        <p:spPr>
          <a:xfrm>
            <a:off x="2930400" y="4721040"/>
            <a:ext cx="11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西</a:t>
            </a:r>
            <a:r>
              <a:rPr b="0" lang="zh-CN" sz="3600" spc="-1" strike="noStrike">
                <a:solidFill>
                  <a:srgbClr val="7030a0"/>
                </a:solidFill>
                <a:latin typeface="Calibri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1658880" y="4663080"/>
            <a:ext cx="119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南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3890880" y="4782240"/>
            <a:ext cx="15271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2629080" y="1022400"/>
            <a:ext cx="3733200" cy="2971440"/>
            <a:chOff x="2629080" y="1022400"/>
            <a:chExt cx="3733200" cy="2971440"/>
          </a:xfrm>
        </p:grpSpPr>
        <p:sp>
          <p:nvSpPr>
            <p:cNvPr id="613" name="Line 5"/>
            <p:cNvSpPr/>
            <p:nvPr/>
          </p:nvSpPr>
          <p:spPr>
            <a:xfrm>
              <a:off x="2629080" y="3993840"/>
              <a:ext cx="37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6"/>
            <p:cNvSpPr/>
            <p:nvPr/>
          </p:nvSpPr>
          <p:spPr>
            <a:xfrm>
              <a:off x="6362280" y="1022400"/>
              <a:ext cx="0" cy="29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7"/>
            <p:cNvSpPr/>
            <p:nvPr/>
          </p:nvSpPr>
          <p:spPr>
            <a:xfrm flipH="1" flipV="1">
              <a:off x="3823200" y="2725560"/>
              <a:ext cx="2538720" cy="126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Text Box 8"/>
          <p:cNvSpPr/>
          <p:nvPr/>
        </p:nvSpPr>
        <p:spPr>
          <a:xfrm>
            <a:off x="6243120" y="3994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学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6035400" y="1004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3231360" y="2695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小林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2233440" y="3770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5571360" y="3706920"/>
            <a:ext cx="48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0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13"/>
          <p:cNvSpPr/>
          <p:nvPr/>
        </p:nvSpPr>
        <p:spPr>
          <a:xfrm>
            <a:off x="628560" y="4361040"/>
            <a:ext cx="768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ff5050"/>
                </a:solidFill>
                <a:latin typeface="华文新魏"/>
                <a:ea typeface="华文新魏"/>
              </a:rPr>
              <a:t>小林家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在</a:t>
            </a:r>
            <a:r>
              <a:rPr b="0" lang="zh-CN" sz="2800" spc="-1" strike="noStrike">
                <a:solidFill>
                  <a:srgbClr val="2998e3"/>
                </a:solidFill>
                <a:latin typeface="华文新魏"/>
                <a:ea typeface="华文新魏"/>
              </a:rPr>
              <a:t>学校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（    ）偏（     ）（   ）</a:t>
            </a:r>
            <a:r>
              <a:rPr b="0" lang="en-US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°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方向（      ）米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ff5050"/>
                </a:solidFill>
                <a:latin typeface="华文新魏"/>
                <a:ea typeface="华文新魏"/>
              </a:rPr>
              <a:t>学校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在</a:t>
            </a:r>
            <a:r>
              <a:rPr b="0" lang="zh-CN" sz="2800" spc="-1" strike="noStrike">
                <a:solidFill>
                  <a:srgbClr val="8c8c8c"/>
                </a:solidFill>
                <a:latin typeface="华文新魏"/>
                <a:ea typeface="华文新魏"/>
              </a:rPr>
              <a:t>小林家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的（  ）偏（  ）（  ）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°</a:t>
            </a:r>
            <a:r>
              <a:rPr b="0" lang="zh-CN" sz="2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方向（      ）米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Text Box 14"/>
          <p:cNvSpPr/>
          <p:nvPr/>
        </p:nvSpPr>
        <p:spPr>
          <a:xfrm>
            <a:off x="4532400" y="3290760"/>
            <a:ext cx="7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同侧圆角矩形 17"/>
          <p:cNvGrpSpPr/>
          <p:nvPr/>
        </p:nvGrpSpPr>
        <p:grpSpPr>
          <a:xfrm>
            <a:off x="542880" y="1054080"/>
            <a:ext cx="1998720" cy="519120"/>
            <a:chOff x="542880" y="1054080"/>
            <a:chExt cx="1998720" cy="519120"/>
          </a:xfrm>
        </p:grpSpPr>
        <p:pic>
          <p:nvPicPr>
            <p:cNvPr id="624" name="同侧圆角矩形 17" descr=""/>
            <p:cNvPicPr/>
            <p:nvPr/>
          </p:nvPicPr>
          <p:blipFill>
            <a:blip r:embed="rId1"/>
            <a:stretch/>
          </p:blipFill>
          <p:spPr>
            <a:xfrm>
              <a:off x="542880" y="105408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65200" y="1077840"/>
              <a:ext cx="19508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6" name="直线连接符 21"/>
          <p:cNvSpPr/>
          <p:nvPr/>
        </p:nvSpPr>
        <p:spPr>
          <a:xfrm flipV="1">
            <a:off x="539640" y="162864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3665520" y="4467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5162400" y="4481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971640" y="5057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 Box 14"/>
          <p:cNvSpPr/>
          <p:nvPr/>
        </p:nvSpPr>
        <p:spPr>
          <a:xfrm>
            <a:off x="6149880" y="4481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3665520" y="5526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4929120" y="5526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Box 14"/>
          <p:cNvSpPr/>
          <p:nvPr/>
        </p:nvSpPr>
        <p:spPr>
          <a:xfrm>
            <a:off x="5781600" y="5526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14"/>
          <p:cNvSpPr/>
          <p:nvPr/>
        </p:nvSpPr>
        <p:spPr>
          <a:xfrm>
            <a:off x="971640" y="621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3"/>
          <p:cNvGrpSpPr/>
          <p:nvPr/>
        </p:nvGrpSpPr>
        <p:grpSpPr>
          <a:xfrm>
            <a:off x="7991640" y="6568560"/>
            <a:ext cx="1152360" cy="289440"/>
            <a:chOff x="7991640" y="6568560"/>
            <a:chExt cx="1152360" cy="289440"/>
          </a:xfrm>
        </p:grpSpPr>
        <p:sp>
          <p:nvSpPr>
            <p:cNvPr id="636" name="AutoShape 4">
              <a:hlinkClick r:id="" action="ppaction://hlinkshowjump?jump=nextslide"/>
            </p:cNvPr>
            <p:cNvSpPr/>
            <p:nvPr/>
          </p:nvSpPr>
          <p:spPr>
            <a:xfrm>
              <a:off x="8639280" y="656892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AutoShape 5">
              <a:hlinkClick r:id="" action="ppaction://hlinkshowjump?jump=previousslide"/>
            </p:cNvPr>
            <p:cNvSpPr/>
            <p:nvPr/>
          </p:nvSpPr>
          <p:spPr>
            <a:xfrm rot="10800000">
              <a:off x="7991640" y="6568560"/>
              <a:ext cx="504720" cy="289080"/>
            </a:xfrm>
            <a:prstGeom prst="rightArrow">
              <a:avLst>
                <a:gd name="adj1" fmla="val 50000"/>
                <a:gd name="adj2" fmla="val 43641"/>
              </a:avLst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8" name="Group 6"/>
          <p:cNvGrpSpPr/>
          <p:nvPr/>
        </p:nvGrpSpPr>
        <p:grpSpPr>
          <a:xfrm>
            <a:off x="3205080" y="2492280"/>
            <a:ext cx="287280" cy="287280"/>
            <a:chOff x="3205080" y="2492280"/>
            <a:chExt cx="287280" cy="287280"/>
          </a:xfrm>
        </p:grpSpPr>
        <p:sp>
          <p:nvSpPr>
            <p:cNvPr id="639" name="Oval 7"/>
            <p:cNvSpPr/>
            <p:nvPr/>
          </p:nvSpPr>
          <p:spPr>
            <a:xfrm>
              <a:off x="3205080" y="2492280"/>
              <a:ext cx="287280" cy="2872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val 8"/>
            <p:cNvSpPr/>
            <p:nvPr/>
          </p:nvSpPr>
          <p:spPr>
            <a:xfrm>
              <a:off x="3266640" y="2553840"/>
              <a:ext cx="164160" cy="1641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1" name="Group 9"/>
          <p:cNvGrpSpPr/>
          <p:nvPr/>
        </p:nvGrpSpPr>
        <p:grpSpPr>
          <a:xfrm>
            <a:off x="5149800" y="4437000"/>
            <a:ext cx="287280" cy="287280"/>
            <a:chOff x="5149800" y="4437000"/>
            <a:chExt cx="287280" cy="287280"/>
          </a:xfrm>
        </p:grpSpPr>
        <p:sp>
          <p:nvSpPr>
            <p:cNvPr id="642" name="Oval 10"/>
            <p:cNvSpPr/>
            <p:nvPr/>
          </p:nvSpPr>
          <p:spPr>
            <a:xfrm>
              <a:off x="5149800" y="4437000"/>
              <a:ext cx="287280" cy="2872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Oval 11"/>
            <p:cNvSpPr/>
            <p:nvPr/>
          </p:nvSpPr>
          <p:spPr>
            <a:xfrm>
              <a:off x="5211360" y="4498560"/>
              <a:ext cx="164160" cy="1641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4" name="Line 12"/>
          <p:cNvSpPr/>
          <p:nvPr/>
        </p:nvSpPr>
        <p:spPr>
          <a:xfrm>
            <a:off x="3349800" y="2637000"/>
            <a:ext cx="194436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3349800" y="2637000"/>
            <a:ext cx="1944360" cy="1944360"/>
          </a:xfrm>
          <a:prstGeom prst="rect">
            <a:avLst/>
          </a:prstGeom>
          <a:noFill/>
          <a:ln w="255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未知"/>
          <p:cNvSpPr/>
          <p:nvPr/>
        </p:nvSpPr>
        <p:spPr>
          <a:xfrm>
            <a:off x="3664080" y="2639880"/>
            <a:ext cx="161640" cy="276480"/>
          </a:xfrm>
          <a:custGeom>
            <a:avLst/>
            <a:gdLst>
              <a:gd name="textAreaLeft" fmla="*/ 0 w 161640"/>
              <a:gd name="textAreaRight" fmla="*/ 162000 w 16164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102" h="174">
                <a:moveTo>
                  <a:pt x="64" y="0"/>
                </a:moveTo>
                <a:cubicBezTo>
                  <a:pt x="70" y="20"/>
                  <a:pt x="102" y="99"/>
                  <a:pt x="91" y="128"/>
                </a:cubicBezTo>
                <a:cubicBezTo>
                  <a:pt x="80" y="157"/>
                  <a:pt x="19" y="165"/>
                  <a:pt x="0" y="17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3900240" y="263700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仿宋_GB2312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未知"/>
          <p:cNvSpPr/>
          <p:nvPr/>
        </p:nvSpPr>
        <p:spPr>
          <a:xfrm>
            <a:off x="4849920" y="4292640"/>
            <a:ext cx="114120" cy="276120"/>
          </a:xfrm>
          <a:custGeom>
            <a:avLst/>
            <a:gdLst>
              <a:gd name="textAreaLeft" fmla="*/ 0 w 114120"/>
              <a:gd name="textAreaRight" fmla="*/ 114480 w 114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72" h="174">
                <a:moveTo>
                  <a:pt x="72" y="0"/>
                </a:moveTo>
                <a:cubicBezTo>
                  <a:pt x="62" y="12"/>
                  <a:pt x="22" y="45"/>
                  <a:pt x="11" y="74"/>
                </a:cubicBezTo>
                <a:cubicBezTo>
                  <a:pt x="0" y="103"/>
                  <a:pt x="9" y="153"/>
                  <a:pt x="8" y="174"/>
                </a:cubicBezTo>
              </a:path>
            </a:pathLst>
          </a:custGeom>
          <a:noFill/>
          <a:ln w="38160">
            <a:solidFill>
              <a:srgbClr val="ff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4332240" y="414972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仿宋_GB2312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0" name="Picture 18" descr="20060211212332866"/>
          <p:cNvPicPr/>
          <p:nvPr/>
        </p:nvPicPr>
        <p:blipFill>
          <a:blip r:embed="rId1"/>
          <a:stretch/>
        </p:blipFill>
        <p:spPr>
          <a:xfrm>
            <a:off x="4645080" y="3573360"/>
            <a:ext cx="2736720" cy="1895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9" descr="20060211213154668"/>
          <p:cNvPicPr/>
          <p:nvPr/>
        </p:nvPicPr>
        <p:blipFill>
          <a:blip r:embed="rId2"/>
          <a:stretch/>
        </p:blipFill>
        <p:spPr>
          <a:xfrm>
            <a:off x="2268360" y="1461960"/>
            <a:ext cx="854280" cy="222588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20"/>
          <p:cNvSpPr/>
          <p:nvPr/>
        </p:nvSpPr>
        <p:spPr>
          <a:xfrm>
            <a:off x="3995640" y="1052640"/>
            <a:ext cx="2376720" cy="1224000"/>
          </a:xfrm>
          <a:prstGeom prst="wedgeRectCallout">
            <a:avLst>
              <a:gd name="adj1" fmla="val -87074"/>
              <a:gd name="adj2" fmla="val 11865"/>
            </a:avLst>
          </a:prstGeom>
          <a:solidFill>
            <a:srgbClr val="cc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在我的东偏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向上，距离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AutoShape 21"/>
          <p:cNvSpPr/>
          <p:nvPr/>
        </p:nvSpPr>
        <p:spPr>
          <a:xfrm>
            <a:off x="6372360" y="2349360"/>
            <a:ext cx="2520720" cy="1584360"/>
          </a:xfrm>
          <a:prstGeom prst="wedgeRectCallout">
            <a:avLst>
              <a:gd name="adj1" fmla="val -64356"/>
              <a:gd name="adj2" fmla="val 24870"/>
            </a:avLst>
          </a:prstGeom>
          <a:solidFill>
            <a:srgbClr val="ccffff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在我的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  _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偏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_ __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方向上，距离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_  _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4" name="Group 22"/>
          <p:cNvGrpSpPr/>
          <p:nvPr/>
        </p:nvGrpSpPr>
        <p:grpSpPr>
          <a:xfrm>
            <a:off x="902160" y="4221000"/>
            <a:ext cx="1978200" cy="1887480"/>
            <a:chOff x="902160" y="4221000"/>
            <a:chExt cx="1978200" cy="1887480"/>
          </a:xfrm>
        </p:grpSpPr>
        <p:grpSp>
          <p:nvGrpSpPr>
            <p:cNvPr id="655" name="Group 23"/>
            <p:cNvGrpSpPr/>
            <p:nvPr/>
          </p:nvGrpSpPr>
          <p:grpSpPr>
            <a:xfrm>
              <a:off x="1231560" y="4573440"/>
              <a:ext cx="1356840" cy="1206360"/>
              <a:chOff x="1231560" y="4573440"/>
              <a:chExt cx="1356840" cy="1206360"/>
            </a:xfrm>
          </p:grpSpPr>
          <p:sp>
            <p:nvSpPr>
              <p:cNvPr id="656" name="Line 24"/>
              <p:cNvSpPr/>
              <p:nvPr/>
            </p:nvSpPr>
            <p:spPr>
              <a:xfrm>
                <a:off x="1231560" y="5177520"/>
                <a:ext cx="13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Line 25"/>
              <p:cNvSpPr/>
              <p:nvPr/>
            </p:nvSpPr>
            <p:spPr>
              <a:xfrm>
                <a:off x="1884240" y="4573440"/>
                <a:ext cx="0" cy="12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8" name="Text Box 26"/>
            <p:cNvSpPr/>
            <p:nvPr/>
          </p:nvSpPr>
          <p:spPr>
            <a:xfrm>
              <a:off x="1944720" y="5587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Text Box 27"/>
            <p:cNvSpPr/>
            <p:nvPr/>
          </p:nvSpPr>
          <p:spPr>
            <a:xfrm>
              <a:off x="2486160" y="5068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东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Text Box 28"/>
            <p:cNvSpPr/>
            <p:nvPr/>
          </p:nvSpPr>
          <p:spPr>
            <a:xfrm>
              <a:off x="902160" y="5141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Text Box 29"/>
            <p:cNvSpPr/>
            <p:nvPr/>
          </p:nvSpPr>
          <p:spPr>
            <a:xfrm>
              <a:off x="1944720" y="4221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2" name="Group 30"/>
          <p:cNvGrpSpPr/>
          <p:nvPr/>
        </p:nvGrpSpPr>
        <p:grpSpPr>
          <a:xfrm>
            <a:off x="902160" y="4221000"/>
            <a:ext cx="1978200" cy="1887480"/>
            <a:chOff x="902160" y="4221000"/>
            <a:chExt cx="1978200" cy="1887480"/>
          </a:xfrm>
        </p:grpSpPr>
        <p:grpSp>
          <p:nvGrpSpPr>
            <p:cNvPr id="663" name="Group 31"/>
            <p:cNvGrpSpPr/>
            <p:nvPr/>
          </p:nvGrpSpPr>
          <p:grpSpPr>
            <a:xfrm>
              <a:off x="1231560" y="4573440"/>
              <a:ext cx="1356840" cy="1206360"/>
              <a:chOff x="1231560" y="4573440"/>
              <a:chExt cx="1356840" cy="1206360"/>
            </a:xfrm>
          </p:grpSpPr>
          <p:sp>
            <p:nvSpPr>
              <p:cNvPr id="664" name="Line 32"/>
              <p:cNvSpPr/>
              <p:nvPr/>
            </p:nvSpPr>
            <p:spPr>
              <a:xfrm>
                <a:off x="1231560" y="5177520"/>
                <a:ext cx="13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Line 33"/>
              <p:cNvSpPr/>
              <p:nvPr/>
            </p:nvSpPr>
            <p:spPr>
              <a:xfrm>
                <a:off x="1884240" y="4573440"/>
                <a:ext cx="0" cy="120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6" name="Text Box 34"/>
            <p:cNvSpPr/>
            <p:nvPr/>
          </p:nvSpPr>
          <p:spPr>
            <a:xfrm>
              <a:off x="1944720" y="5587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Text Box 35"/>
            <p:cNvSpPr/>
            <p:nvPr/>
          </p:nvSpPr>
          <p:spPr>
            <a:xfrm>
              <a:off x="2486160" y="5068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东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Text Box 36"/>
            <p:cNvSpPr/>
            <p:nvPr/>
          </p:nvSpPr>
          <p:spPr>
            <a:xfrm>
              <a:off x="902160" y="51418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西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Text Box 37"/>
            <p:cNvSpPr/>
            <p:nvPr/>
          </p:nvSpPr>
          <p:spPr>
            <a:xfrm>
              <a:off x="1944720" y="42210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0" name="同侧圆角矩形 39"/>
          <p:cNvGrpSpPr/>
          <p:nvPr/>
        </p:nvGrpSpPr>
        <p:grpSpPr>
          <a:xfrm>
            <a:off x="542880" y="1054080"/>
            <a:ext cx="1998720" cy="519120"/>
            <a:chOff x="542880" y="1054080"/>
            <a:chExt cx="1998720" cy="519120"/>
          </a:xfrm>
        </p:grpSpPr>
        <p:pic>
          <p:nvPicPr>
            <p:cNvPr id="671" name="同侧圆角矩形 39" descr=""/>
            <p:cNvPicPr/>
            <p:nvPr/>
          </p:nvPicPr>
          <p:blipFill>
            <a:blip r:embed="rId3"/>
            <a:stretch/>
          </p:blipFill>
          <p:spPr>
            <a:xfrm>
              <a:off x="542880" y="105408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565200" y="1077840"/>
              <a:ext cx="19508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3" name="直线连接符 21"/>
          <p:cNvSpPr/>
          <p:nvPr/>
        </p:nvSpPr>
        <p:spPr>
          <a:xfrm flipV="1">
            <a:off x="539640" y="15570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7775640" y="234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6515280" y="268596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北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5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7578720" y="30942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5.14451E-006 L 0.17327 -0.36717 E">
                                      <p:cBhvr>
                                        <p:cTn id="262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27168E-006 L 0.38004 -0.08486 E">
                                      <p:cBhvr>
                                        <p:cTn id="271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6" descr="24"/>
          <p:cNvPicPr/>
          <p:nvPr/>
        </p:nvPicPr>
        <p:blipFill>
          <a:blip r:embed="rId1"/>
          <a:stretch/>
        </p:blipFill>
        <p:spPr>
          <a:xfrm>
            <a:off x="2360520" y="2870280"/>
            <a:ext cx="4552920" cy="359892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7"/>
          <p:cNvSpPr/>
          <p:nvPr/>
        </p:nvSpPr>
        <p:spPr>
          <a:xfrm>
            <a:off x="701640" y="1484280"/>
            <a:ext cx="660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平面图上标出校园内各建筑物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教学楼在校门的正北方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m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图书馆在校门的北偏东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m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体育馆在校门的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m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9" name="Group 35"/>
          <p:cNvGrpSpPr/>
          <p:nvPr/>
        </p:nvGrpSpPr>
        <p:grpSpPr>
          <a:xfrm>
            <a:off x="3819600" y="3687840"/>
            <a:ext cx="1369440" cy="1496880"/>
            <a:chOff x="3819600" y="3687840"/>
            <a:chExt cx="1369440" cy="1496880"/>
          </a:xfrm>
        </p:grpSpPr>
        <p:grpSp>
          <p:nvGrpSpPr>
            <p:cNvPr id="680" name="Group 15"/>
            <p:cNvGrpSpPr/>
            <p:nvPr/>
          </p:nvGrpSpPr>
          <p:grpSpPr>
            <a:xfrm>
              <a:off x="4521600" y="4065840"/>
              <a:ext cx="89640" cy="1118880"/>
              <a:chOff x="4521600" y="4065840"/>
              <a:chExt cx="89640" cy="1118880"/>
            </a:xfrm>
          </p:grpSpPr>
          <p:sp>
            <p:nvSpPr>
              <p:cNvPr id="681" name="Line 9"/>
              <p:cNvSpPr/>
              <p:nvPr/>
            </p:nvSpPr>
            <p:spPr>
              <a:xfrm>
                <a:off x="4530600" y="4815000"/>
                <a:ext cx="71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Line 10"/>
              <p:cNvSpPr/>
              <p:nvPr/>
            </p:nvSpPr>
            <p:spPr>
              <a:xfrm>
                <a:off x="4538880" y="4464000"/>
                <a:ext cx="0" cy="360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Line 11"/>
              <p:cNvSpPr/>
              <p:nvPr/>
            </p:nvSpPr>
            <p:spPr>
              <a:xfrm>
                <a:off x="4540320" y="4454640"/>
                <a:ext cx="709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84" name="Group 14"/>
              <p:cNvGrpSpPr/>
              <p:nvPr/>
            </p:nvGrpSpPr>
            <p:grpSpPr>
              <a:xfrm>
                <a:off x="4521600" y="4065840"/>
                <a:ext cx="36000" cy="1118880"/>
                <a:chOff x="4521600" y="4065840"/>
                <a:chExt cx="36000" cy="1118880"/>
              </a:xfrm>
            </p:grpSpPr>
            <p:sp>
              <p:nvSpPr>
                <p:cNvPr id="685" name="Line 8"/>
                <p:cNvSpPr/>
                <p:nvPr/>
              </p:nvSpPr>
              <p:spPr>
                <a:xfrm>
                  <a:off x="4538880" y="4824360"/>
                  <a:ext cx="0" cy="36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Line 12"/>
                <p:cNvSpPr/>
                <p:nvPr/>
              </p:nvSpPr>
              <p:spPr>
                <a:xfrm>
                  <a:off x="4538880" y="4103640"/>
                  <a:ext cx="0" cy="36036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Oval 13"/>
                <p:cNvSpPr/>
                <p:nvPr/>
              </p:nvSpPr>
              <p:spPr>
                <a:xfrm>
                  <a:off x="4521600" y="4065840"/>
                  <a:ext cx="36000" cy="36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88" name="Text Box 16"/>
            <p:cNvSpPr/>
            <p:nvPr/>
          </p:nvSpPr>
          <p:spPr>
            <a:xfrm>
              <a:off x="4109400" y="368784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Calibri"/>
                </a:rPr>
                <a:t>教学楼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Rectangle 17"/>
            <p:cNvSpPr/>
            <p:nvPr/>
          </p:nvSpPr>
          <p:spPr>
            <a:xfrm>
              <a:off x="3819600" y="42260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50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0" name="Group 41"/>
          <p:cNvGrpSpPr/>
          <p:nvPr/>
        </p:nvGrpSpPr>
        <p:grpSpPr>
          <a:xfrm>
            <a:off x="4459320" y="3951360"/>
            <a:ext cx="1780920" cy="1191240"/>
            <a:chOff x="4459320" y="3951360"/>
            <a:chExt cx="1780920" cy="1191240"/>
          </a:xfrm>
        </p:grpSpPr>
        <p:grpSp>
          <p:nvGrpSpPr>
            <p:cNvPr id="691" name="Group 40"/>
            <p:cNvGrpSpPr/>
            <p:nvPr/>
          </p:nvGrpSpPr>
          <p:grpSpPr>
            <a:xfrm>
              <a:off x="4459320" y="3951360"/>
              <a:ext cx="1780920" cy="1191240"/>
              <a:chOff x="4459320" y="3951360"/>
              <a:chExt cx="1780920" cy="1191240"/>
            </a:xfrm>
          </p:grpSpPr>
          <p:sp>
            <p:nvSpPr>
              <p:cNvPr id="692" name="Line 31"/>
              <p:cNvSpPr/>
              <p:nvPr/>
            </p:nvSpPr>
            <p:spPr>
              <a:xfrm flipH="1">
                <a:off x="4958280" y="4266360"/>
                <a:ext cx="206640" cy="295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93" name="Group 39"/>
              <p:cNvGrpSpPr/>
              <p:nvPr/>
            </p:nvGrpSpPr>
            <p:grpSpPr>
              <a:xfrm>
                <a:off x="4459320" y="3951360"/>
                <a:ext cx="1780920" cy="1191240"/>
                <a:chOff x="4459320" y="3951360"/>
                <a:chExt cx="1780920" cy="1191240"/>
              </a:xfrm>
            </p:grpSpPr>
            <p:grpSp>
              <p:nvGrpSpPr>
                <p:cNvPr id="694" name="Group 38"/>
                <p:cNvGrpSpPr/>
                <p:nvPr/>
              </p:nvGrpSpPr>
              <p:grpSpPr>
                <a:xfrm>
                  <a:off x="4459320" y="3951360"/>
                  <a:ext cx="1780920" cy="871560"/>
                  <a:chOff x="4459320" y="3951360"/>
                  <a:chExt cx="1780920" cy="871560"/>
                </a:xfrm>
              </p:grpSpPr>
              <p:sp>
                <p:nvSpPr>
                  <p:cNvPr id="695" name="Text Box 34"/>
                  <p:cNvSpPr/>
                  <p:nvPr/>
                </p:nvSpPr>
                <p:spPr>
                  <a:xfrm>
                    <a:off x="5160240" y="3951360"/>
                    <a:ext cx="1080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0000"/>
                        </a:solidFill>
                        <a:latin typeface="Calibri"/>
                      </a:rPr>
                      <a:t>图书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6" name="Text Box 37"/>
                  <p:cNvSpPr/>
                  <p:nvPr/>
                </p:nvSpPr>
                <p:spPr>
                  <a:xfrm>
                    <a:off x="4459320" y="4454640"/>
                    <a:ext cx="791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0000"/>
                        </a:solidFill>
                        <a:latin typeface="Arial"/>
                      </a:rPr>
                      <a:t>35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7" name="Group 28"/>
                <p:cNvGrpSpPr/>
                <p:nvPr/>
              </p:nvGrpSpPr>
              <p:grpSpPr>
                <a:xfrm>
                  <a:off x="4552200" y="4556160"/>
                  <a:ext cx="468000" cy="586440"/>
                  <a:chOff x="4552200" y="4556160"/>
                  <a:chExt cx="468000" cy="586440"/>
                </a:xfrm>
              </p:grpSpPr>
              <p:sp>
                <p:nvSpPr>
                  <p:cNvPr id="698" name="Line 19"/>
                  <p:cNvSpPr/>
                  <p:nvPr/>
                </p:nvSpPr>
                <p:spPr>
                  <a:xfrm>
                    <a:off x="4753080" y="4845240"/>
                    <a:ext cx="61560" cy="410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99" name="Line 20"/>
                  <p:cNvSpPr/>
                  <p:nvPr/>
                </p:nvSpPr>
                <p:spPr>
                  <a:xfrm flipH="1">
                    <a:off x="4552200" y="4847400"/>
                    <a:ext cx="206640" cy="295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0" name="Line 26"/>
                  <p:cNvSpPr/>
                  <p:nvPr/>
                </p:nvSpPr>
                <p:spPr>
                  <a:xfrm>
                    <a:off x="4958640" y="4556160"/>
                    <a:ext cx="61560" cy="414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01" name="Line 27"/>
                  <p:cNvSpPr/>
                  <p:nvPr/>
                </p:nvSpPr>
                <p:spPr>
                  <a:xfrm flipH="1">
                    <a:off x="4757400" y="4558320"/>
                    <a:ext cx="206640" cy="295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702" name="Arc 36"/>
                <p:cNvSpPr/>
                <p:nvPr/>
              </p:nvSpPr>
              <p:spPr>
                <a:xfrm>
                  <a:off x="4555800" y="4888080"/>
                  <a:ext cx="144000" cy="71280"/>
                </a:xfrm>
                <a:custGeom>
                  <a:avLst/>
                  <a:gdLst>
                    <a:gd name="textAreaLeft" fmla="*/ 0 w 144000"/>
                    <a:gd name="textAreaRight" fmla="*/ 144360 w 14400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840" bIns="24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703" name="Oval 25"/>
            <p:cNvSpPr/>
            <p:nvPr/>
          </p:nvSpPr>
          <p:spPr>
            <a:xfrm>
              <a:off x="5160240" y="4229280"/>
              <a:ext cx="36000" cy="36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4" name="Group 70"/>
          <p:cNvGrpSpPr/>
          <p:nvPr/>
        </p:nvGrpSpPr>
        <p:grpSpPr>
          <a:xfrm>
            <a:off x="2928960" y="3792600"/>
            <a:ext cx="1617480" cy="1390680"/>
            <a:chOff x="2928960" y="3792600"/>
            <a:chExt cx="1617480" cy="1390680"/>
          </a:xfrm>
        </p:grpSpPr>
        <p:grpSp>
          <p:nvGrpSpPr>
            <p:cNvPr id="705" name="Group 68"/>
            <p:cNvGrpSpPr/>
            <p:nvPr/>
          </p:nvGrpSpPr>
          <p:grpSpPr>
            <a:xfrm>
              <a:off x="2928960" y="3792600"/>
              <a:ext cx="1617480" cy="1390680"/>
              <a:chOff x="2928960" y="3792600"/>
              <a:chExt cx="1617480" cy="1390680"/>
            </a:xfrm>
          </p:grpSpPr>
          <p:grpSp>
            <p:nvGrpSpPr>
              <p:cNvPr id="706" name="Group 65"/>
              <p:cNvGrpSpPr/>
              <p:nvPr/>
            </p:nvGrpSpPr>
            <p:grpSpPr>
              <a:xfrm>
                <a:off x="3397320" y="4200480"/>
                <a:ext cx="1149120" cy="982800"/>
                <a:chOff x="3397320" y="4200480"/>
                <a:chExt cx="1149120" cy="982800"/>
              </a:xfrm>
            </p:grpSpPr>
            <p:sp>
              <p:nvSpPr>
                <p:cNvPr id="707" name="Oval 50"/>
                <p:cNvSpPr/>
                <p:nvPr/>
              </p:nvSpPr>
              <p:spPr>
                <a:xfrm>
                  <a:off x="3397320" y="4200480"/>
                  <a:ext cx="36360" cy="36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08" name="Group 64"/>
                <p:cNvGrpSpPr/>
                <p:nvPr/>
              </p:nvGrpSpPr>
              <p:grpSpPr>
                <a:xfrm>
                  <a:off x="3425760" y="4240440"/>
                  <a:ext cx="1120680" cy="942840"/>
                  <a:chOff x="3425760" y="4240440"/>
                  <a:chExt cx="1120680" cy="942840"/>
                </a:xfrm>
              </p:grpSpPr>
              <p:grpSp>
                <p:nvGrpSpPr>
                  <p:cNvPr id="709" name="Group 63"/>
                  <p:cNvGrpSpPr/>
                  <p:nvPr/>
                </p:nvGrpSpPr>
                <p:grpSpPr>
                  <a:xfrm>
                    <a:off x="3695760" y="4425480"/>
                    <a:ext cx="850680" cy="757800"/>
                    <a:chOff x="3695760" y="4425480"/>
                    <a:chExt cx="850680" cy="757800"/>
                  </a:xfrm>
                </p:grpSpPr>
                <p:grpSp>
                  <p:nvGrpSpPr>
                    <p:cNvPr id="710" name="Group 53"/>
                    <p:cNvGrpSpPr/>
                    <p:nvPr/>
                  </p:nvGrpSpPr>
                  <p:grpSpPr>
                    <a:xfrm>
                      <a:off x="4258440" y="4898520"/>
                      <a:ext cx="288000" cy="284760"/>
                      <a:chOff x="4258440" y="4898520"/>
                      <a:chExt cx="288000" cy="284760"/>
                    </a:xfrm>
                  </p:grpSpPr>
                  <p:sp>
                    <p:nvSpPr>
                      <p:cNvPr id="711" name="Line 44"/>
                      <p:cNvSpPr/>
                      <p:nvPr/>
                    </p:nvSpPr>
                    <p:spPr>
                      <a:xfrm flipV="1">
                        <a:off x="4258440" y="4898520"/>
                        <a:ext cx="48960" cy="504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2" name="Line 45"/>
                      <p:cNvSpPr/>
                      <p:nvPr/>
                    </p:nvSpPr>
                    <p:spPr>
                      <a:xfrm>
                        <a:off x="4270680" y="4952160"/>
                        <a:ext cx="275760" cy="2311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713" name="Group 54"/>
                    <p:cNvGrpSpPr/>
                    <p:nvPr/>
                  </p:nvGrpSpPr>
                  <p:grpSpPr>
                    <a:xfrm>
                      <a:off x="3974760" y="4660200"/>
                      <a:ext cx="288000" cy="284760"/>
                      <a:chOff x="3974760" y="4660200"/>
                      <a:chExt cx="288000" cy="284760"/>
                    </a:xfrm>
                  </p:grpSpPr>
                  <p:sp>
                    <p:nvSpPr>
                      <p:cNvPr id="714" name="Line 55"/>
                      <p:cNvSpPr/>
                      <p:nvPr/>
                    </p:nvSpPr>
                    <p:spPr>
                      <a:xfrm flipV="1">
                        <a:off x="3974760" y="4660200"/>
                        <a:ext cx="48960" cy="504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5" name="Line 56"/>
                      <p:cNvSpPr/>
                      <p:nvPr/>
                    </p:nvSpPr>
                    <p:spPr>
                      <a:xfrm>
                        <a:off x="3987000" y="4713840"/>
                        <a:ext cx="275760" cy="2311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716" name="Group 57"/>
                    <p:cNvGrpSpPr/>
                    <p:nvPr/>
                  </p:nvGrpSpPr>
                  <p:grpSpPr>
                    <a:xfrm>
                      <a:off x="3695760" y="4425480"/>
                      <a:ext cx="288000" cy="284760"/>
                      <a:chOff x="3695760" y="4425480"/>
                      <a:chExt cx="288000" cy="284760"/>
                    </a:xfrm>
                  </p:grpSpPr>
                  <p:sp>
                    <p:nvSpPr>
                      <p:cNvPr id="717" name="Line 58"/>
                      <p:cNvSpPr/>
                      <p:nvPr/>
                    </p:nvSpPr>
                    <p:spPr>
                      <a:xfrm flipV="1">
                        <a:off x="3695760" y="4425480"/>
                        <a:ext cx="48960" cy="504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18" name="Line 59"/>
                      <p:cNvSpPr/>
                      <p:nvPr/>
                    </p:nvSpPr>
                    <p:spPr>
                      <a:xfrm>
                        <a:off x="3708000" y="4479120"/>
                        <a:ext cx="275760" cy="23112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719" name="Line 62"/>
                  <p:cNvSpPr/>
                  <p:nvPr/>
                </p:nvSpPr>
                <p:spPr>
                  <a:xfrm>
                    <a:off x="3425760" y="4240440"/>
                    <a:ext cx="275760" cy="2311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720" name="Text Box 67"/>
              <p:cNvSpPr/>
              <p:nvPr/>
            </p:nvSpPr>
            <p:spPr>
              <a:xfrm>
                <a:off x="2928960" y="3792600"/>
                <a:ext cx="129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00"/>
                    </a:solidFill>
                    <a:latin typeface="Calibri"/>
                  </a:rPr>
                  <a:t>体育馆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1" name="Text Box 69"/>
            <p:cNvSpPr/>
            <p:nvPr/>
          </p:nvSpPr>
          <p:spPr>
            <a:xfrm>
              <a:off x="3215880" y="4454640"/>
              <a:ext cx="108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00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Group 79"/>
          <p:cNvGrpSpPr/>
          <p:nvPr/>
        </p:nvGrpSpPr>
        <p:grpSpPr>
          <a:xfrm>
            <a:off x="4075200" y="4516560"/>
            <a:ext cx="927000" cy="543600"/>
            <a:chOff x="4075200" y="4516560"/>
            <a:chExt cx="927000" cy="543600"/>
          </a:xfrm>
        </p:grpSpPr>
        <p:sp>
          <p:nvSpPr>
            <p:cNvPr id="723" name="Text Box 78"/>
            <p:cNvSpPr/>
            <p:nvPr/>
          </p:nvSpPr>
          <p:spPr>
            <a:xfrm>
              <a:off x="4075200" y="451656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0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Arc 73"/>
            <p:cNvSpPr/>
            <p:nvPr/>
          </p:nvSpPr>
          <p:spPr>
            <a:xfrm rot="19800000">
              <a:off x="4320720" y="4905360"/>
              <a:ext cx="215640" cy="10800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19389" h="21600">
                  <a:moveTo>
                    <a:pt x="-1" y="0"/>
                  </a:moveTo>
                  <a:cubicBezTo>
                    <a:pt x="8237" y="0"/>
                    <a:pt x="15757" y="4685"/>
                    <a:pt x="19388" y="12079"/>
                  </a:cubicBezTo>
                </a:path>
                <a:path stroke="0" w="19389" h="21600">
                  <a:moveTo>
                    <a:pt x="-1" y="0"/>
                  </a:moveTo>
                  <a:cubicBezTo>
                    <a:pt x="8237" y="0"/>
                    <a:pt x="15757" y="4685"/>
                    <a:pt x="19388" y="1207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Rectangle 80"/>
          <p:cNvSpPr/>
          <p:nvPr/>
        </p:nvSpPr>
        <p:spPr>
          <a:xfrm>
            <a:off x="4906080" y="4473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6" name="同侧圆角矩形 54"/>
          <p:cNvGrpSpPr/>
          <p:nvPr/>
        </p:nvGrpSpPr>
        <p:grpSpPr>
          <a:xfrm>
            <a:off x="542880" y="1054080"/>
            <a:ext cx="1998720" cy="519120"/>
            <a:chOff x="542880" y="1054080"/>
            <a:chExt cx="1998720" cy="519120"/>
          </a:xfrm>
        </p:grpSpPr>
        <p:pic>
          <p:nvPicPr>
            <p:cNvPr id="727" name="同侧圆角矩形 54" descr=""/>
            <p:cNvPicPr/>
            <p:nvPr/>
          </p:nvPicPr>
          <p:blipFill>
            <a:blip r:embed="rId2"/>
            <a:stretch/>
          </p:blipFill>
          <p:spPr>
            <a:xfrm>
              <a:off x="542880" y="105408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565200" y="1077840"/>
              <a:ext cx="19508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9" name="直线连接符 21"/>
          <p:cNvSpPr/>
          <p:nvPr/>
        </p:nvSpPr>
        <p:spPr>
          <a:xfrm flipV="1">
            <a:off x="539640" y="1557000"/>
            <a:ext cx="2071800" cy="46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4"/>
          <p:cNvSpPr/>
          <p:nvPr/>
        </p:nvSpPr>
        <p:spPr>
          <a:xfrm>
            <a:off x="733320" y="1449360"/>
            <a:ext cx="74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石油勘探队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城东偏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上，距离约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km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最近他们打出一口油井。请你在平面图上确定油井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1" name="Group 30"/>
          <p:cNvGrpSpPr/>
          <p:nvPr/>
        </p:nvGrpSpPr>
        <p:grpSpPr>
          <a:xfrm>
            <a:off x="1971720" y="2279520"/>
            <a:ext cx="3968640" cy="3724200"/>
            <a:chOff x="1971720" y="2279520"/>
            <a:chExt cx="3968640" cy="3724200"/>
          </a:xfrm>
        </p:grpSpPr>
        <p:grpSp>
          <p:nvGrpSpPr>
            <p:cNvPr id="732" name="Group 28"/>
            <p:cNvGrpSpPr/>
            <p:nvPr/>
          </p:nvGrpSpPr>
          <p:grpSpPr>
            <a:xfrm>
              <a:off x="1971720" y="2279520"/>
              <a:ext cx="3968640" cy="3724200"/>
              <a:chOff x="1971720" y="2279520"/>
              <a:chExt cx="3968640" cy="3724200"/>
            </a:xfrm>
          </p:grpSpPr>
          <p:grpSp>
            <p:nvGrpSpPr>
              <p:cNvPr id="733" name="Group 20"/>
              <p:cNvGrpSpPr/>
              <p:nvPr/>
            </p:nvGrpSpPr>
            <p:grpSpPr>
              <a:xfrm>
                <a:off x="2554200" y="5649480"/>
                <a:ext cx="360360" cy="73440"/>
                <a:chOff x="2554200" y="5649480"/>
                <a:chExt cx="360360" cy="73440"/>
              </a:xfrm>
            </p:grpSpPr>
            <p:sp>
              <p:nvSpPr>
                <p:cNvPr id="734" name="Line 21"/>
                <p:cNvSpPr/>
                <p:nvPr/>
              </p:nvSpPr>
              <p:spPr>
                <a:xfrm>
                  <a:off x="2554200" y="5722920"/>
                  <a:ext cx="36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5" name="Line 22"/>
                <p:cNvSpPr/>
                <p:nvPr/>
              </p:nvSpPr>
              <p:spPr>
                <a:xfrm flipV="1">
                  <a:off x="2554200" y="5649480"/>
                  <a:ext cx="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6" name="Line 23"/>
                <p:cNvSpPr/>
                <p:nvPr/>
              </p:nvSpPr>
              <p:spPr>
                <a:xfrm flipV="1">
                  <a:off x="2908080" y="5649480"/>
                  <a:ext cx="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7" name="Group 27"/>
              <p:cNvGrpSpPr/>
              <p:nvPr/>
            </p:nvGrpSpPr>
            <p:grpSpPr>
              <a:xfrm>
                <a:off x="1971720" y="2279520"/>
                <a:ext cx="3968640" cy="3724200"/>
                <a:chOff x="1971720" y="2279520"/>
                <a:chExt cx="3968640" cy="3724200"/>
              </a:xfrm>
            </p:grpSpPr>
            <p:sp>
              <p:nvSpPr>
                <p:cNvPr id="738" name="Text Box 9"/>
                <p:cNvSpPr/>
                <p:nvPr/>
              </p:nvSpPr>
              <p:spPr>
                <a:xfrm>
                  <a:off x="2409840" y="5300640"/>
                  <a:ext cx="1224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m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39" name="Group 26"/>
                <p:cNvGrpSpPr/>
                <p:nvPr/>
              </p:nvGrpSpPr>
              <p:grpSpPr>
                <a:xfrm>
                  <a:off x="1971720" y="2279520"/>
                  <a:ext cx="3968640" cy="3724200"/>
                  <a:chOff x="1971720" y="2279520"/>
                  <a:chExt cx="3968640" cy="3724200"/>
                </a:xfrm>
              </p:grpSpPr>
              <p:grpSp>
                <p:nvGrpSpPr>
                  <p:cNvPr id="740" name="Group 11"/>
                  <p:cNvGrpSpPr/>
                  <p:nvPr/>
                </p:nvGrpSpPr>
                <p:grpSpPr>
                  <a:xfrm>
                    <a:off x="1971720" y="2279520"/>
                    <a:ext cx="3968640" cy="3724200"/>
                    <a:chOff x="1971720" y="2279520"/>
                    <a:chExt cx="3968640" cy="3724200"/>
                  </a:xfrm>
                </p:grpSpPr>
                <p:grpSp>
                  <p:nvGrpSpPr>
                    <p:cNvPr id="741" name="Group 12"/>
                    <p:cNvGrpSpPr/>
                    <p:nvPr/>
                  </p:nvGrpSpPr>
                  <p:grpSpPr>
                    <a:xfrm>
                      <a:off x="2352240" y="2692080"/>
                      <a:ext cx="3024360" cy="3024360"/>
                      <a:chOff x="2352240" y="2692080"/>
                      <a:chExt cx="3024360" cy="3024360"/>
                    </a:xfrm>
                  </p:grpSpPr>
                  <p:sp>
                    <p:nvSpPr>
                      <p:cNvPr id="742" name="Line 13"/>
                      <p:cNvSpPr/>
                      <p:nvPr/>
                    </p:nvSpPr>
                    <p:spPr>
                      <a:xfrm>
                        <a:off x="3841560" y="2692080"/>
                        <a:ext cx="0" cy="302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743" name="Line 14"/>
                      <p:cNvSpPr/>
                      <p:nvPr/>
                    </p:nvSpPr>
                    <p:spPr>
                      <a:xfrm flipH="1">
                        <a:off x="2352240" y="4203720"/>
                        <a:ext cx="302436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744" name="Text Box 15"/>
                    <p:cNvSpPr/>
                    <p:nvPr/>
                  </p:nvSpPr>
                  <p:spPr>
                    <a:xfrm>
                      <a:off x="5291280" y="3925800"/>
                      <a:ext cx="649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45" name="Text Box 16"/>
                    <p:cNvSpPr/>
                    <p:nvPr/>
                  </p:nvSpPr>
                  <p:spPr>
                    <a:xfrm>
                      <a:off x="3591000" y="2279520"/>
                      <a:ext cx="649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46" name="Text Box 17"/>
                    <p:cNvSpPr/>
                    <p:nvPr/>
                  </p:nvSpPr>
                  <p:spPr>
                    <a:xfrm>
                      <a:off x="1971720" y="3916080"/>
                      <a:ext cx="649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47" name="Text Box 18"/>
                    <p:cNvSpPr/>
                    <p:nvPr/>
                  </p:nvSpPr>
                  <p:spPr>
                    <a:xfrm>
                      <a:off x="3624120" y="5635440"/>
                      <a:ext cx="649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748" name="Oval 24"/>
                  <p:cNvSpPr/>
                  <p:nvPr/>
                </p:nvSpPr>
                <p:spPr>
                  <a:xfrm>
                    <a:off x="3800520" y="4151160"/>
                    <a:ext cx="7128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sp>
          <p:nvSpPr>
            <p:cNvPr id="749" name="Text Box 29"/>
            <p:cNvSpPr/>
            <p:nvPr/>
          </p:nvSpPr>
          <p:spPr>
            <a:xfrm>
              <a:off x="3780000" y="3797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0" name="Group 45"/>
          <p:cNvGrpSpPr/>
          <p:nvPr/>
        </p:nvGrpSpPr>
        <p:grpSpPr>
          <a:xfrm>
            <a:off x="3780000" y="3068640"/>
            <a:ext cx="1368360" cy="1133640"/>
            <a:chOff x="3780000" y="3068640"/>
            <a:chExt cx="1368360" cy="1133640"/>
          </a:xfrm>
        </p:grpSpPr>
        <p:grpSp>
          <p:nvGrpSpPr>
            <p:cNvPr id="751" name="Group 44"/>
            <p:cNvGrpSpPr/>
            <p:nvPr/>
          </p:nvGrpSpPr>
          <p:grpSpPr>
            <a:xfrm>
              <a:off x="3780000" y="3068640"/>
              <a:ext cx="1368360" cy="1133640"/>
              <a:chOff x="3780000" y="3068640"/>
              <a:chExt cx="1368360" cy="1133640"/>
            </a:xfrm>
          </p:grpSpPr>
          <p:grpSp>
            <p:nvGrpSpPr>
              <p:cNvPr id="752" name="Group 40"/>
              <p:cNvGrpSpPr/>
              <p:nvPr/>
            </p:nvGrpSpPr>
            <p:grpSpPr>
              <a:xfrm>
                <a:off x="3831120" y="3068640"/>
                <a:ext cx="1317240" cy="1133640"/>
                <a:chOff x="3831120" y="3068640"/>
                <a:chExt cx="1317240" cy="1133640"/>
              </a:xfrm>
            </p:grpSpPr>
            <p:grpSp>
              <p:nvGrpSpPr>
                <p:cNvPr id="753" name="Group 38"/>
                <p:cNvGrpSpPr/>
                <p:nvPr/>
              </p:nvGrpSpPr>
              <p:grpSpPr>
                <a:xfrm>
                  <a:off x="3831120" y="3467160"/>
                  <a:ext cx="867960" cy="735120"/>
                  <a:chOff x="3831120" y="3467160"/>
                  <a:chExt cx="867960" cy="735120"/>
                </a:xfrm>
              </p:grpSpPr>
              <p:sp>
                <p:nvSpPr>
                  <p:cNvPr id="754" name="Line 31"/>
                  <p:cNvSpPr/>
                  <p:nvPr/>
                </p:nvSpPr>
                <p:spPr>
                  <a:xfrm flipH="1">
                    <a:off x="3831120" y="3970800"/>
                    <a:ext cx="276120" cy="2314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55" name="Line 32"/>
                  <p:cNvSpPr/>
                  <p:nvPr/>
                </p:nvSpPr>
                <p:spPr>
                  <a:xfrm flipH="1" flipV="1">
                    <a:off x="4107600" y="3965400"/>
                    <a:ext cx="46080" cy="550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756" name="Group 37"/>
                  <p:cNvGrpSpPr/>
                  <p:nvPr/>
                </p:nvGrpSpPr>
                <p:grpSpPr>
                  <a:xfrm>
                    <a:off x="4109040" y="3467160"/>
                    <a:ext cx="590040" cy="503280"/>
                    <a:chOff x="4109040" y="3467160"/>
                    <a:chExt cx="590040" cy="503280"/>
                  </a:xfrm>
                </p:grpSpPr>
                <p:sp>
                  <p:nvSpPr>
                    <p:cNvPr id="757" name="Line 33"/>
                    <p:cNvSpPr/>
                    <p:nvPr/>
                  </p:nvSpPr>
                  <p:spPr>
                    <a:xfrm flipH="1">
                      <a:off x="4109040" y="3738960"/>
                      <a:ext cx="276120" cy="231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58" name="Line 34"/>
                    <p:cNvSpPr/>
                    <p:nvPr/>
                  </p:nvSpPr>
                  <p:spPr>
                    <a:xfrm flipH="1" flipV="1">
                      <a:off x="4385520" y="3734280"/>
                      <a:ext cx="46080" cy="54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59" name="Line 35"/>
                    <p:cNvSpPr/>
                    <p:nvPr/>
                  </p:nvSpPr>
                  <p:spPr>
                    <a:xfrm flipH="1">
                      <a:off x="4388400" y="3500640"/>
                      <a:ext cx="276120" cy="231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760" name="Oval 36"/>
                    <p:cNvSpPr/>
                    <p:nvPr/>
                  </p:nvSpPr>
                  <p:spPr>
                    <a:xfrm>
                      <a:off x="4662360" y="3467160"/>
                      <a:ext cx="36720" cy="36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520" bIns="-20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761" name="Text Box 39"/>
                <p:cNvSpPr/>
                <p:nvPr/>
              </p:nvSpPr>
              <p:spPr>
                <a:xfrm>
                  <a:off x="4427640" y="306864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00"/>
                      </a:solidFill>
                      <a:latin typeface="Calibri"/>
                    </a:rPr>
                    <a:t>油井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762" name="Text Box 42"/>
              <p:cNvSpPr/>
              <p:nvPr/>
            </p:nvSpPr>
            <p:spPr>
              <a:xfrm>
                <a:off x="4048200" y="383220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40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Calibri"/>
                  </a:rPr>
                  <a:t>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Text Box 43"/>
              <p:cNvSpPr/>
              <p:nvPr/>
            </p:nvSpPr>
            <p:spPr>
              <a:xfrm>
                <a:off x="3780000" y="3274920"/>
                <a:ext cx="93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45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Times New Roman"/>
                  </a:rPr>
                  <a:t>km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4" name="Arc 41"/>
            <p:cNvSpPr/>
            <p:nvPr/>
          </p:nvSpPr>
          <p:spPr>
            <a:xfrm>
              <a:off x="4010040" y="4043520"/>
              <a:ext cx="73080" cy="144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5" name="同侧圆角矩形 38"/>
          <p:cNvGrpSpPr/>
          <p:nvPr/>
        </p:nvGrpSpPr>
        <p:grpSpPr>
          <a:xfrm>
            <a:off x="542880" y="981000"/>
            <a:ext cx="1998720" cy="519120"/>
            <a:chOff x="542880" y="981000"/>
            <a:chExt cx="1998720" cy="519120"/>
          </a:xfrm>
        </p:grpSpPr>
        <p:pic>
          <p:nvPicPr>
            <p:cNvPr id="766" name="同侧圆角矩形 38" descr=""/>
            <p:cNvPicPr/>
            <p:nvPr/>
          </p:nvPicPr>
          <p:blipFill>
            <a:blip r:embed="rId1"/>
            <a:stretch/>
          </p:blipFill>
          <p:spPr>
            <a:xfrm>
              <a:off x="542880" y="98100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7" name=""/>
            <p:cNvSpPr/>
            <p:nvPr/>
          </p:nvSpPr>
          <p:spPr>
            <a:xfrm>
              <a:off x="565200" y="1006560"/>
              <a:ext cx="195084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以致用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8" name="直线连接符 21"/>
          <p:cNvSpPr/>
          <p:nvPr/>
        </p:nvSpPr>
        <p:spPr>
          <a:xfrm flipV="1">
            <a:off x="536400" y="146196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同侧圆角矩形 23"/>
          <p:cNvGrpSpPr/>
          <p:nvPr/>
        </p:nvGrpSpPr>
        <p:grpSpPr>
          <a:xfrm>
            <a:off x="450720" y="981000"/>
            <a:ext cx="2000520" cy="519120"/>
            <a:chOff x="450720" y="981000"/>
            <a:chExt cx="2000520" cy="519120"/>
          </a:xfrm>
        </p:grpSpPr>
        <p:pic>
          <p:nvPicPr>
            <p:cNvPr id="357" name="同侧圆角矩形 23" descr=""/>
            <p:cNvPicPr/>
            <p:nvPr/>
          </p:nvPicPr>
          <p:blipFill>
            <a:blip r:embed="rId1"/>
            <a:stretch/>
          </p:blipFill>
          <p:spPr>
            <a:xfrm>
              <a:off x="450720" y="981000"/>
              <a:ext cx="20005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77720" y="100656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rcRect l="10625" t="12130" r="6089" b="8151"/>
          <a:stretch/>
        </p:blipFill>
        <p:spPr>
          <a:xfrm>
            <a:off x="6743880" y="5084640"/>
            <a:ext cx="1679400" cy="11829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7"/>
          <p:cNvSpPr/>
          <p:nvPr/>
        </p:nvSpPr>
        <p:spPr>
          <a:xfrm>
            <a:off x="826920" y="2981160"/>
            <a:ext cx="73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过解决实际问题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确定物体位置的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1"/>
          <p:cNvSpPr/>
          <p:nvPr/>
        </p:nvSpPr>
        <p:spPr>
          <a:xfrm>
            <a:off x="826920" y="1773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确根据方向和距离能够确定物体的位置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同侧圆角矩形 12"/>
          <p:cNvGrpSpPr/>
          <p:nvPr/>
        </p:nvGrpSpPr>
        <p:grpSpPr>
          <a:xfrm>
            <a:off x="469800" y="1127160"/>
            <a:ext cx="1998720" cy="512280"/>
            <a:chOff x="469800" y="1127160"/>
            <a:chExt cx="1998720" cy="512280"/>
          </a:xfrm>
        </p:grpSpPr>
        <p:pic>
          <p:nvPicPr>
            <p:cNvPr id="770" name="同侧圆角矩形 12" descr=""/>
            <p:cNvPicPr/>
            <p:nvPr/>
          </p:nvPicPr>
          <p:blipFill>
            <a:blip r:embed="rId1"/>
            <a:stretch/>
          </p:blipFill>
          <p:spPr>
            <a:xfrm>
              <a:off x="469800" y="112716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493560" y="115056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课堂小结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13"/>
          <p:cNvSpPr/>
          <p:nvPr/>
        </p:nvSpPr>
        <p:spPr>
          <a:xfrm>
            <a:off x="395280" y="5130000"/>
            <a:ext cx="8280360" cy="825480"/>
          </a:xfrm>
          <a:prstGeom prst="rect">
            <a:avLst/>
          </a:prstGeom>
          <a:solidFill>
            <a:srgbClr val="e7e4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在平面图上标明物体位置的方法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: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确定方向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再以选定的单位长度为基准来确定距离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最后画出物体的具体位置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标出物体的名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4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775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7" name="AutoShape 27"/>
          <p:cNvSpPr/>
          <p:nvPr/>
        </p:nvSpPr>
        <p:spPr>
          <a:xfrm>
            <a:off x="6000840" y="1482840"/>
            <a:ext cx="2627280" cy="1109520"/>
          </a:xfrm>
          <a:prstGeom prst="wedgeRoundRectCallout">
            <a:avLst>
              <a:gd name="adj1" fmla="val -74199"/>
              <a:gd name="adj2" fmla="val -1337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先找方向，再确定距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779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0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1" name="矩形 21"/>
          <p:cNvSpPr/>
          <p:nvPr/>
        </p:nvSpPr>
        <p:spPr>
          <a:xfrm>
            <a:off x="374760" y="3068640"/>
            <a:ext cx="8281800" cy="8254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确定物体的位置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首先要确定观测点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画出以观测点为中心的正北、正南、正西、正东四个方向的射线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看被观测物体与观测点之间的线段往哪个方向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量出那个方向的线段与射线之间的角度和物体与观测点之间的距离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方向和距离结合起来就能确定物体的具体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6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908000" y="3303720"/>
            <a:ext cx="4334040" cy="20476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6"/>
          <p:cNvSpPr/>
          <p:nvPr/>
        </p:nvSpPr>
        <p:spPr>
          <a:xfrm>
            <a:off x="2916360" y="561240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27"/>
          <p:cNvSpPr/>
          <p:nvPr/>
        </p:nvSpPr>
        <p:spPr>
          <a:xfrm>
            <a:off x="3429000" y="857160"/>
            <a:ext cx="4608360" cy="1286280"/>
          </a:xfrm>
          <a:prstGeom prst="wedgeRoundRectCallout">
            <a:avLst>
              <a:gd name="adj1" fmla="val -55731"/>
              <a:gd name="adj2" fmla="val 13556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目前台风中心位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东偏南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、距离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km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洋面上，正以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的速度沿直线向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同侧圆角矩形 10"/>
          <p:cNvGrpSpPr/>
          <p:nvPr/>
        </p:nvGrpSpPr>
        <p:grpSpPr>
          <a:xfrm>
            <a:off x="396720" y="981000"/>
            <a:ext cx="1998720" cy="519120"/>
            <a:chOff x="396720" y="981000"/>
            <a:chExt cx="1998720" cy="519120"/>
          </a:xfrm>
        </p:grpSpPr>
        <p:pic>
          <p:nvPicPr>
            <p:cNvPr id="367" name="同侧圆角矩形 10" descr=""/>
            <p:cNvPicPr/>
            <p:nvPr/>
          </p:nvPicPr>
          <p:blipFill>
            <a:blip r:embed="rId2"/>
            <a:stretch/>
          </p:blipFill>
          <p:spPr>
            <a:xfrm>
              <a:off x="396720" y="98100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420840" y="100656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直线连接符 21"/>
          <p:cNvSpPr/>
          <p:nvPr/>
        </p:nvSpPr>
        <p:spPr>
          <a:xfrm flipV="1">
            <a:off x="468360" y="151596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6"/>
          <p:cNvSpPr/>
          <p:nvPr/>
        </p:nvSpPr>
        <p:spPr>
          <a:xfrm>
            <a:off x="1446120" y="5530680"/>
            <a:ext cx="65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两个方向有什么相同点和不同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Group 62"/>
          <p:cNvGrpSpPr/>
          <p:nvPr/>
        </p:nvGrpSpPr>
        <p:grpSpPr>
          <a:xfrm>
            <a:off x="2195640" y="3241800"/>
            <a:ext cx="1908000" cy="1185480"/>
            <a:chOff x="2195640" y="3241800"/>
            <a:chExt cx="1908000" cy="1185480"/>
          </a:xfrm>
        </p:grpSpPr>
        <p:grpSp>
          <p:nvGrpSpPr>
            <p:cNvPr id="372" name="Group 61"/>
            <p:cNvGrpSpPr/>
            <p:nvPr/>
          </p:nvGrpSpPr>
          <p:grpSpPr>
            <a:xfrm>
              <a:off x="2195640" y="3354480"/>
              <a:ext cx="1848600" cy="1072800"/>
              <a:chOff x="2195640" y="3354480"/>
              <a:chExt cx="1848600" cy="1072800"/>
            </a:xfrm>
          </p:grpSpPr>
          <p:sp>
            <p:nvSpPr>
              <p:cNvPr id="373" name="Line 51"/>
              <p:cNvSpPr/>
              <p:nvPr/>
            </p:nvSpPr>
            <p:spPr>
              <a:xfrm flipH="1">
                <a:off x="2195640" y="3358440"/>
                <a:ext cx="1848600" cy="1068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Arc 52"/>
              <p:cNvSpPr/>
              <p:nvPr/>
            </p:nvSpPr>
            <p:spPr>
              <a:xfrm flipH="1" rot="18972000">
                <a:off x="3716280" y="3357000"/>
                <a:ext cx="71280" cy="157680"/>
              </a:xfrm>
              <a:custGeom>
                <a:avLst/>
                <a:gdLst>
                  <a:gd name="textAreaLeft" fmla="*/ 360 w 71280"/>
                  <a:gd name="textAreaRight" fmla="*/ 72000 w 71280"/>
                  <a:gd name="textAreaTop" fmla="*/ 0 h 157680"/>
                  <a:gd name="textAreaBottom" fmla="*/ 157680 h 157680"/>
                </a:gdLst>
                <a:ahLst/>
                <a:rect l="textAreaLeft" t="textAreaTop" r="textAreaRight" b="textAreaBottom"/>
                <a:pathLst>
                  <a:path fill="none" w="21600" h="23749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317"/>
                      <a:pt x="21564" y="23034"/>
                      <a:pt x="21492" y="23748"/>
                    </a:cubicBezTo>
                  </a:path>
                  <a:path stroke="0" w="21600" h="23749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2317"/>
                      <a:pt x="21564" y="23034"/>
                      <a:pt x="21492" y="237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5" name="Text Box 53"/>
            <p:cNvSpPr/>
            <p:nvPr/>
          </p:nvSpPr>
          <p:spPr>
            <a:xfrm>
              <a:off x="3166920" y="324180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Group 67"/>
          <p:cNvGrpSpPr/>
          <p:nvPr/>
        </p:nvGrpSpPr>
        <p:grpSpPr>
          <a:xfrm>
            <a:off x="2200320" y="1422360"/>
            <a:ext cx="3968640" cy="3724200"/>
            <a:chOff x="2200320" y="1422360"/>
            <a:chExt cx="3968640" cy="3724200"/>
          </a:xfrm>
        </p:grpSpPr>
        <p:grpSp>
          <p:nvGrpSpPr>
            <p:cNvPr id="377" name="Group 66"/>
            <p:cNvGrpSpPr/>
            <p:nvPr/>
          </p:nvGrpSpPr>
          <p:grpSpPr>
            <a:xfrm>
              <a:off x="2200320" y="1422360"/>
              <a:ext cx="3968640" cy="3724200"/>
              <a:chOff x="2200320" y="1422360"/>
              <a:chExt cx="3968640" cy="3724200"/>
            </a:xfrm>
          </p:grpSpPr>
          <p:grpSp>
            <p:nvGrpSpPr>
              <p:cNvPr id="378" name="Group 59"/>
              <p:cNvGrpSpPr/>
              <p:nvPr/>
            </p:nvGrpSpPr>
            <p:grpSpPr>
              <a:xfrm>
                <a:off x="2200320" y="1422360"/>
                <a:ext cx="3968640" cy="3724200"/>
                <a:chOff x="2200320" y="1422360"/>
                <a:chExt cx="3968640" cy="3724200"/>
              </a:xfrm>
            </p:grpSpPr>
            <p:sp>
              <p:nvSpPr>
                <p:cNvPr id="379" name="Arc 21"/>
                <p:cNvSpPr/>
                <p:nvPr/>
              </p:nvSpPr>
              <p:spPr>
                <a:xfrm rot="2628000">
                  <a:off x="4357440" y="3357000"/>
                  <a:ext cx="71280" cy="15732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57320"/>
                    <a:gd name="textAreaBottom" fmla="*/ 157680 h 157320"/>
                  </a:gdLst>
                  <a:ahLst/>
                  <a:rect l="textAreaLeft" t="textAreaTop" r="textAreaRight" b="textAreaBottom"/>
                  <a:pathLst>
                    <a:path fill="none" w="21600" h="23749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2317"/>
                        <a:pt x="21564" y="23034"/>
                        <a:pt x="21492" y="23748"/>
                      </a:cubicBezTo>
                    </a:path>
                    <a:path stroke="0" w="21600" h="23749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2317"/>
                        <a:pt x="21564" y="23034"/>
                        <a:pt x="21492" y="23748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0" name="Text Box 26"/>
                <p:cNvSpPr/>
                <p:nvPr/>
              </p:nvSpPr>
              <p:spPr>
                <a:xfrm>
                  <a:off x="2773440" y="4446360"/>
                  <a:ext cx="1224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0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km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81" name="Text Box 50"/>
                <p:cNvSpPr/>
                <p:nvPr/>
              </p:nvSpPr>
              <p:spPr>
                <a:xfrm>
                  <a:off x="4492440" y="3274920"/>
                  <a:ext cx="935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°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382" name="Group 58"/>
                <p:cNvGrpSpPr/>
                <p:nvPr/>
              </p:nvGrpSpPr>
              <p:grpSpPr>
                <a:xfrm>
                  <a:off x="2200320" y="1422360"/>
                  <a:ext cx="3968640" cy="3724200"/>
                  <a:chOff x="2200320" y="1422360"/>
                  <a:chExt cx="3968640" cy="3724200"/>
                </a:xfrm>
              </p:grpSpPr>
              <p:grpSp>
                <p:nvGrpSpPr>
                  <p:cNvPr id="383" name="Group 18"/>
                  <p:cNvGrpSpPr/>
                  <p:nvPr/>
                </p:nvGrpSpPr>
                <p:grpSpPr>
                  <a:xfrm>
                    <a:off x="2580840" y="1834920"/>
                    <a:ext cx="3024360" cy="3024360"/>
                    <a:chOff x="2580840" y="1834920"/>
                    <a:chExt cx="3024360" cy="3024360"/>
                  </a:xfrm>
                </p:grpSpPr>
                <p:sp>
                  <p:nvSpPr>
                    <p:cNvPr id="384" name="Line 16"/>
                    <p:cNvSpPr/>
                    <p:nvPr/>
                  </p:nvSpPr>
                  <p:spPr>
                    <a:xfrm>
                      <a:off x="4070160" y="1834920"/>
                      <a:ext cx="0" cy="3024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85" name="Line 17"/>
                    <p:cNvSpPr/>
                    <p:nvPr/>
                  </p:nvSpPr>
                  <p:spPr>
                    <a:xfrm flipH="1">
                      <a:off x="2580840" y="3346560"/>
                      <a:ext cx="302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86" name="Text Box 54"/>
                  <p:cNvSpPr/>
                  <p:nvPr/>
                </p:nvSpPr>
                <p:spPr>
                  <a:xfrm>
                    <a:off x="5519880" y="3068640"/>
                    <a:ext cx="649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东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7" name="Text Box 55"/>
                  <p:cNvSpPr/>
                  <p:nvPr/>
                </p:nvSpPr>
                <p:spPr>
                  <a:xfrm>
                    <a:off x="3819600" y="1422360"/>
                    <a:ext cx="649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8" name="Text Box 56"/>
                  <p:cNvSpPr/>
                  <p:nvPr/>
                </p:nvSpPr>
                <p:spPr>
                  <a:xfrm>
                    <a:off x="2200320" y="3058920"/>
                    <a:ext cx="649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西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9" name="Text Box 57"/>
                  <p:cNvSpPr/>
                  <p:nvPr/>
                </p:nvSpPr>
                <p:spPr>
                  <a:xfrm>
                    <a:off x="3852720" y="4778280"/>
                    <a:ext cx="649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90" name="Line 65"/>
              <p:cNvSpPr/>
              <p:nvPr/>
            </p:nvSpPr>
            <p:spPr>
              <a:xfrm flipH="1" flipV="1">
                <a:off x="4049640" y="3340080"/>
                <a:ext cx="1869480" cy="10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1" name="Group 25"/>
            <p:cNvGrpSpPr/>
            <p:nvPr/>
          </p:nvGrpSpPr>
          <p:grpSpPr>
            <a:xfrm>
              <a:off x="2917800" y="4795560"/>
              <a:ext cx="360360" cy="72720"/>
              <a:chOff x="2917800" y="4795560"/>
              <a:chExt cx="360360" cy="72720"/>
            </a:xfrm>
          </p:grpSpPr>
          <p:sp>
            <p:nvSpPr>
              <p:cNvPr id="392" name="Line 22"/>
              <p:cNvSpPr/>
              <p:nvPr/>
            </p:nvSpPr>
            <p:spPr>
              <a:xfrm>
                <a:off x="2917800" y="486828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23"/>
              <p:cNvSpPr/>
              <p:nvPr/>
            </p:nvSpPr>
            <p:spPr>
              <a:xfrm flipV="1">
                <a:off x="2917800" y="4795560"/>
                <a:ext cx="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 flipV="1">
                <a:off x="3271680" y="4795560"/>
                <a:ext cx="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5" name="Text Box 68"/>
          <p:cNvSpPr/>
          <p:nvPr/>
        </p:nvSpPr>
        <p:spPr>
          <a:xfrm>
            <a:off x="6180480" y="4240080"/>
            <a:ext cx="729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台风中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线连接符 21"/>
          <p:cNvSpPr/>
          <p:nvPr/>
        </p:nvSpPr>
        <p:spPr>
          <a:xfrm flipV="1">
            <a:off x="395280" y="162864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同侧圆角矩形 34"/>
          <p:cNvGrpSpPr/>
          <p:nvPr/>
        </p:nvGrpSpPr>
        <p:grpSpPr>
          <a:xfrm>
            <a:off x="324000" y="1127160"/>
            <a:ext cx="1998360" cy="519120"/>
            <a:chOff x="324000" y="1127160"/>
            <a:chExt cx="1998360" cy="519120"/>
          </a:xfrm>
        </p:grpSpPr>
        <p:pic>
          <p:nvPicPr>
            <p:cNvPr id="398" name="同侧圆角矩形 34" descr=""/>
            <p:cNvPicPr/>
            <p:nvPr/>
          </p:nvPicPr>
          <p:blipFill>
            <a:blip r:embed="rId1"/>
            <a:stretch/>
          </p:blipFill>
          <p:spPr>
            <a:xfrm>
              <a:off x="324000" y="1127160"/>
              <a:ext cx="199836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349200" y="115092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6"/>
          <p:cNvSpPr/>
          <p:nvPr/>
        </p:nvSpPr>
        <p:spPr>
          <a:xfrm>
            <a:off x="1619280" y="5199840"/>
            <a:ext cx="57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台风大约多少小时后到达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市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1" name="Group 86"/>
          <p:cNvGrpSpPr/>
          <p:nvPr/>
        </p:nvGrpSpPr>
        <p:grpSpPr>
          <a:xfrm>
            <a:off x="2274840" y="1166760"/>
            <a:ext cx="3968640" cy="3724200"/>
            <a:chOff x="2274840" y="1166760"/>
            <a:chExt cx="3968640" cy="3724200"/>
          </a:xfrm>
        </p:grpSpPr>
        <p:grpSp>
          <p:nvGrpSpPr>
            <p:cNvPr id="402" name="Group 87"/>
            <p:cNvGrpSpPr/>
            <p:nvPr/>
          </p:nvGrpSpPr>
          <p:grpSpPr>
            <a:xfrm>
              <a:off x="2274840" y="1166760"/>
              <a:ext cx="3968640" cy="3724200"/>
              <a:chOff x="2274840" y="1166760"/>
              <a:chExt cx="3968640" cy="3724200"/>
            </a:xfrm>
          </p:grpSpPr>
          <p:grpSp>
            <p:nvGrpSpPr>
              <p:cNvPr id="403" name="Group 88"/>
              <p:cNvGrpSpPr/>
              <p:nvPr/>
            </p:nvGrpSpPr>
            <p:grpSpPr>
              <a:xfrm>
                <a:off x="2274840" y="1166760"/>
                <a:ext cx="3968640" cy="3724200"/>
                <a:chOff x="2274840" y="1166760"/>
                <a:chExt cx="3968640" cy="3724200"/>
              </a:xfrm>
            </p:grpSpPr>
            <p:sp>
              <p:nvSpPr>
                <p:cNvPr id="404" name="Arc 89"/>
                <p:cNvSpPr/>
                <p:nvPr/>
              </p:nvSpPr>
              <p:spPr>
                <a:xfrm rot="2628000">
                  <a:off x="4431960" y="3101400"/>
                  <a:ext cx="71280" cy="157320"/>
                </a:xfrm>
                <a:custGeom>
                  <a:avLst/>
                  <a:gdLst>
                    <a:gd name="textAreaLeft" fmla="*/ 0 w 71280"/>
                    <a:gd name="textAreaRight" fmla="*/ 71640 w 71280"/>
                    <a:gd name="textAreaTop" fmla="*/ 0 h 157320"/>
                    <a:gd name="textAreaBottom" fmla="*/ 157680 h 157320"/>
                  </a:gdLst>
                  <a:ahLst/>
                  <a:rect l="textAreaLeft" t="textAreaTop" r="textAreaRight" b="textAreaBottom"/>
                  <a:pathLst>
                    <a:path fill="none" w="21600" h="23749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2317"/>
                        <a:pt x="21564" y="23034"/>
                        <a:pt x="21492" y="23748"/>
                      </a:cubicBezTo>
                    </a:path>
                    <a:path stroke="0" w="21600" h="23749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2317"/>
                        <a:pt x="21564" y="23034"/>
                        <a:pt x="21492" y="23748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Text Box 90"/>
                <p:cNvSpPr/>
                <p:nvPr/>
              </p:nvSpPr>
              <p:spPr>
                <a:xfrm>
                  <a:off x="2847960" y="4190760"/>
                  <a:ext cx="1224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00km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6" name="Text Box 91"/>
                <p:cNvSpPr/>
                <p:nvPr/>
              </p:nvSpPr>
              <p:spPr>
                <a:xfrm>
                  <a:off x="4566960" y="3019320"/>
                  <a:ext cx="935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°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07" name="Group 92"/>
                <p:cNvGrpSpPr/>
                <p:nvPr/>
              </p:nvGrpSpPr>
              <p:grpSpPr>
                <a:xfrm>
                  <a:off x="2274840" y="1166760"/>
                  <a:ext cx="3968640" cy="3724200"/>
                  <a:chOff x="2274840" y="1166760"/>
                  <a:chExt cx="3968640" cy="3724200"/>
                </a:xfrm>
              </p:grpSpPr>
              <p:grpSp>
                <p:nvGrpSpPr>
                  <p:cNvPr id="408" name="Group 93"/>
                  <p:cNvGrpSpPr/>
                  <p:nvPr/>
                </p:nvGrpSpPr>
                <p:grpSpPr>
                  <a:xfrm>
                    <a:off x="2655360" y="1579320"/>
                    <a:ext cx="3024360" cy="3024360"/>
                    <a:chOff x="2655360" y="1579320"/>
                    <a:chExt cx="3024360" cy="3024360"/>
                  </a:xfrm>
                </p:grpSpPr>
                <p:sp>
                  <p:nvSpPr>
                    <p:cNvPr id="409" name="Line 94"/>
                    <p:cNvSpPr/>
                    <p:nvPr/>
                  </p:nvSpPr>
                  <p:spPr>
                    <a:xfrm>
                      <a:off x="4144680" y="1579320"/>
                      <a:ext cx="0" cy="3024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10" name="Line 95"/>
                    <p:cNvSpPr/>
                    <p:nvPr/>
                  </p:nvSpPr>
                  <p:spPr>
                    <a:xfrm flipH="1">
                      <a:off x="2655360" y="3090960"/>
                      <a:ext cx="3024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  <a:headEnd len="med" type="arrow" w="med"/>
                      <a:tailEnd len="med" type="arrow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11" name="Text Box 96"/>
                  <p:cNvSpPr/>
                  <p:nvPr/>
                </p:nvSpPr>
                <p:spPr>
                  <a:xfrm>
                    <a:off x="5594400" y="2813040"/>
                    <a:ext cx="649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东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2" name="Text Box 97"/>
                  <p:cNvSpPr/>
                  <p:nvPr/>
                </p:nvSpPr>
                <p:spPr>
                  <a:xfrm>
                    <a:off x="3894120" y="1166760"/>
                    <a:ext cx="649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3" name="Text Box 98"/>
                  <p:cNvSpPr/>
                  <p:nvPr/>
                </p:nvSpPr>
                <p:spPr>
                  <a:xfrm>
                    <a:off x="2274840" y="2803320"/>
                    <a:ext cx="649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西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14" name="Text Box 99"/>
                  <p:cNvSpPr/>
                  <p:nvPr/>
                </p:nvSpPr>
                <p:spPr>
                  <a:xfrm>
                    <a:off x="3927240" y="4522680"/>
                    <a:ext cx="649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Calibri"/>
                      </a:rPr>
                      <a:t>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15" name="Line 100"/>
              <p:cNvSpPr/>
              <p:nvPr/>
            </p:nvSpPr>
            <p:spPr>
              <a:xfrm flipH="1" flipV="1">
                <a:off x="4124160" y="3084120"/>
                <a:ext cx="186948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16" name="Group 101"/>
            <p:cNvGrpSpPr/>
            <p:nvPr/>
          </p:nvGrpSpPr>
          <p:grpSpPr>
            <a:xfrm>
              <a:off x="2992320" y="4539960"/>
              <a:ext cx="360360" cy="72720"/>
              <a:chOff x="2992320" y="4539960"/>
              <a:chExt cx="360360" cy="72720"/>
            </a:xfrm>
          </p:grpSpPr>
          <p:sp>
            <p:nvSpPr>
              <p:cNvPr id="417" name="Line 102"/>
              <p:cNvSpPr/>
              <p:nvPr/>
            </p:nvSpPr>
            <p:spPr>
              <a:xfrm>
                <a:off x="2992320" y="4612680"/>
                <a:ext cx="36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03"/>
              <p:cNvSpPr/>
              <p:nvPr/>
            </p:nvSpPr>
            <p:spPr>
              <a:xfrm flipV="1">
                <a:off x="2992320" y="4539960"/>
                <a:ext cx="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04"/>
              <p:cNvSpPr/>
              <p:nvPr/>
            </p:nvSpPr>
            <p:spPr>
              <a:xfrm flipV="1">
                <a:off x="3346200" y="4539960"/>
                <a:ext cx="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0" name="Group 113"/>
          <p:cNvGrpSpPr/>
          <p:nvPr/>
        </p:nvGrpSpPr>
        <p:grpSpPr>
          <a:xfrm>
            <a:off x="2274840" y="1166760"/>
            <a:ext cx="3968640" cy="3724200"/>
            <a:chOff x="2274840" y="1166760"/>
            <a:chExt cx="3968640" cy="3724200"/>
          </a:xfrm>
        </p:grpSpPr>
        <p:sp>
          <p:nvSpPr>
            <p:cNvPr id="421" name="Text Box 105"/>
            <p:cNvSpPr/>
            <p:nvPr/>
          </p:nvSpPr>
          <p:spPr>
            <a:xfrm>
              <a:off x="4363920" y="35175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2" name="Group 112"/>
            <p:cNvGrpSpPr/>
            <p:nvPr/>
          </p:nvGrpSpPr>
          <p:grpSpPr>
            <a:xfrm>
              <a:off x="2274840" y="1166760"/>
              <a:ext cx="3968640" cy="3724200"/>
              <a:chOff x="2274840" y="1166760"/>
              <a:chExt cx="3968640" cy="3724200"/>
            </a:xfrm>
          </p:grpSpPr>
          <p:grpSp>
            <p:nvGrpSpPr>
              <p:cNvPr id="423" name="Group 109"/>
              <p:cNvGrpSpPr/>
              <p:nvPr/>
            </p:nvGrpSpPr>
            <p:grpSpPr>
              <a:xfrm>
                <a:off x="2274840" y="1166760"/>
                <a:ext cx="3968640" cy="3724200"/>
                <a:chOff x="2274840" y="1166760"/>
                <a:chExt cx="3968640" cy="3724200"/>
              </a:xfrm>
            </p:grpSpPr>
            <p:grpSp>
              <p:nvGrpSpPr>
                <p:cNvPr id="424" name="Group 25"/>
                <p:cNvGrpSpPr/>
                <p:nvPr/>
              </p:nvGrpSpPr>
              <p:grpSpPr>
                <a:xfrm>
                  <a:off x="4754880" y="3376800"/>
                  <a:ext cx="312120" cy="245520"/>
                  <a:chOff x="4754880" y="3376800"/>
                  <a:chExt cx="312120" cy="245520"/>
                </a:xfrm>
              </p:grpSpPr>
              <p:sp>
                <p:nvSpPr>
                  <p:cNvPr id="425" name="Line 26"/>
                  <p:cNvSpPr/>
                  <p:nvPr/>
                </p:nvSpPr>
                <p:spPr>
                  <a:xfrm>
                    <a:off x="4754880" y="3441960"/>
                    <a:ext cx="312120" cy="18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26" name="Line 27"/>
                  <p:cNvSpPr/>
                  <p:nvPr/>
                </p:nvSpPr>
                <p:spPr>
                  <a:xfrm flipV="1">
                    <a:off x="4764960" y="3376800"/>
                    <a:ext cx="36360" cy="62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27" name="Group 108"/>
                <p:cNvGrpSpPr/>
                <p:nvPr/>
              </p:nvGrpSpPr>
              <p:grpSpPr>
                <a:xfrm>
                  <a:off x="2274840" y="1166760"/>
                  <a:ext cx="3968640" cy="3724200"/>
                  <a:chOff x="2274840" y="1166760"/>
                  <a:chExt cx="3968640" cy="3724200"/>
                </a:xfrm>
              </p:grpSpPr>
              <p:grpSp>
                <p:nvGrpSpPr>
                  <p:cNvPr id="428" name="Group 28"/>
                  <p:cNvGrpSpPr/>
                  <p:nvPr/>
                </p:nvGrpSpPr>
                <p:grpSpPr>
                  <a:xfrm>
                    <a:off x="5061240" y="3549240"/>
                    <a:ext cx="312120" cy="245880"/>
                    <a:chOff x="5061240" y="3549240"/>
                    <a:chExt cx="312120" cy="245880"/>
                  </a:xfrm>
                </p:grpSpPr>
                <p:sp>
                  <p:nvSpPr>
                    <p:cNvPr id="429" name="Line 29"/>
                    <p:cNvSpPr/>
                    <p:nvPr/>
                  </p:nvSpPr>
                  <p:spPr>
                    <a:xfrm>
                      <a:off x="5061240" y="3615120"/>
                      <a:ext cx="312120" cy="180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0" name="Line 30"/>
                    <p:cNvSpPr/>
                    <p:nvPr/>
                  </p:nvSpPr>
                  <p:spPr>
                    <a:xfrm flipV="1">
                      <a:off x="5070960" y="3549240"/>
                      <a:ext cx="3672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31" name="Group 31"/>
                  <p:cNvGrpSpPr/>
                  <p:nvPr/>
                </p:nvGrpSpPr>
                <p:grpSpPr>
                  <a:xfrm>
                    <a:off x="5373720" y="3727080"/>
                    <a:ext cx="312120" cy="246240"/>
                    <a:chOff x="5373720" y="3727080"/>
                    <a:chExt cx="312120" cy="246240"/>
                  </a:xfrm>
                </p:grpSpPr>
                <p:sp>
                  <p:nvSpPr>
                    <p:cNvPr id="432" name="Line 32"/>
                    <p:cNvSpPr/>
                    <p:nvPr/>
                  </p:nvSpPr>
                  <p:spPr>
                    <a:xfrm>
                      <a:off x="5373720" y="379296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3" name="Line 33"/>
                    <p:cNvSpPr/>
                    <p:nvPr/>
                  </p:nvSpPr>
                  <p:spPr>
                    <a:xfrm flipV="1">
                      <a:off x="5383800" y="372708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34" name="Group 34"/>
                  <p:cNvGrpSpPr/>
                  <p:nvPr/>
                </p:nvGrpSpPr>
                <p:grpSpPr>
                  <a:xfrm>
                    <a:off x="5662800" y="3893760"/>
                    <a:ext cx="312120" cy="246240"/>
                    <a:chOff x="5662800" y="3893760"/>
                    <a:chExt cx="312120" cy="246240"/>
                  </a:xfrm>
                </p:grpSpPr>
                <p:sp>
                  <p:nvSpPr>
                    <p:cNvPr id="435" name="Line 35"/>
                    <p:cNvSpPr/>
                    <p:nvPr/>
                  </p:nvSpPr>
                  <p:spPr>
                    <a:xfrm>
                      <a:off x="5662800" y="395964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6" name="Line 36"/>
                    <p:cNvSpPr/>
                    <p:nvPr/>
                  </p:nvSpPr>
                  <p:spPr>
                    <a:xfrm flipV="1">
                      <a:off x="5672880" y="389376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37" name="Group 38"/>
                  <p:cNvGrpSpPr/>
                  <p:nvPr/>
                </p:nvGrpSpPr>
                <p:grpSpPr>
                  <a:xfrm>
                    <a:off x="2274840" y="1166760"/>
                    <a:ext cx="3968640" cy="3724200"/>
                    <a:chOff x="2274840" y="1166760"/>
                    <a:chExt cx="3968640" cy="3724200"/>
                  </a:xfrm>
                </p:grpSpPr>
                <p:sp>
                  <p:nvSpPr>
                    <p:cNvPr id="438" name="Arc 39"/>
                    <p:cNvSpPr/>
                    <p:nvPr/>
                  </p:nvSpPr>
                  <p:spPr>
                    <a:xfrm rot="2628000">
                      <a:off x="4431960" y="3101400"/>
                      <a:ext cx="71280" cy="157320"/>
                    </a:xfrm>
                    <a:custGeom>
                      <a:avLst/>
                      <a:gdLst>
                        <a:gd name="textAreaLeft" fmla="*/ 0 w 71280"/>
                        <a:gd name="textAreaRight" fmla="*/ 71640 w 71280"/>
                        <a:gd name="textAreaTop" fmla="*/ 0 h 157320"/>
                        <a:gd name="textAreaBottom" fmla="*/ 157680 h 157320"/>
                      </a:gdLst>
                      <a:ahLst/>
                      <a:rect l="textAreaLeft" t="textAreaTop" r="textAreaRight" b="textAreaBottom"/>
                      <a:pathLst>
                        <a:path fill="none" w="21600" h="23749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2317"/>
                            <a:pt x="21564" y="23034"/>
                            <a:pt x="21492" y="23748"/>
                          </a:cubicBezTo>
                        </a:path>
                        <a:path stroke="0" w="21600" h="23749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2317"/>
                            <a:pt x="21564" y="23034"/>
                            <a:pt x="21492" y="23748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39" name="Text Box 40"/>
                    <p:cNvSpPr/>
                    <p:nvPr/>
                  </p:nvSpPr>
                  <p:spPr>
                    <a:xfrm>
                      <a:off x="2847960" y="4190760"/>
                      <a:ext cx="12240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40" name="Text Box 41"/>
                    <p:cNvSpPr/>
                    <p:nvPr/>
                  </p:nvSpPr>
                  <p:spPr>
                    <a:xfrm>
                      <a:off x="4566960" y="3019320"/>
                      <a:ext cx="935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441" name="Group 42"/>
                    <p:cNvGrpSpPr/>
                    <p:nvPr/>
                  </p:nvGrpSpPr>
                  <p:grpSpPr>
                    <a:xfrm>
                      <a:off x="2274840" y="1166760"/>
                      <a:ext cx="3968640" cy="3724200"/>
                      <a:chOff x="2274840" y="1166760"/>
                      <a:chExt cx="3968640" cy="3724200"/>
                    </a:xfrm>
                  </p:grpSpPr>
                  <p:grpSp>
                    <p:nvGrpSpPr>
                      <p:cNvPr id="442" name="Group 43"/>
                      <p:cNvGrpSpPr/>
                      <p:nvPr/>
                    </p:nvGrpSpPr>
                    <p:grpSpPr>
                      <a:xfrm>
                        <a:off x="2655360" y="1579320"/>
                        <a:ext cx="3024360" cy="3024360"/>
                        <a:chOff x="2655360" y="1579320"/>
                        <a:chExt cx="3024360" cy="3024360"/>
                      </a:xfrm>
                    </p:grpSpPr>
                    <p:sp>
                      <p:nvSpPr>
                        <p:cNvPr id="443" name="Line 44"/>
                        <p:cNvSpPr/>
                        <p:nvPr/>
                      </p:nvSpPr>
                      <p:spPr>
                        <a:xfrm>
                          <a:off x="4144680" y="1579320"/>
                          <a:ext cx="0" cy="3024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444" name="Line 45"/>
                        <p:cNvSpPr/>
                        <p:nvPr/>
                      </p:nvSpPr>
                      <p:spPr>
                        <a:xfrm flipH="1">
                          <a:off x="2655360" y="3090960"/>
                          <a:ext cx="302436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445" name="Text Box 46"/>
                      <p:cNvSpPr/>
                      <p:nvPr/>
                    </p:nvSpPr>
                    <p:spPr>
                      <a:xfrm>
                        <a:off x="5594400" y="2813040"/>
                        <a:ext cx="6490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东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6" name="Text Box 47"/>
                      <p:cNvSpPr/>
                      <p:nvPr/>
                    </p:nvSpPr>
                    <p:spPr>
                      <a:xfrm>
                        <a:off x="3894120" y="1166760"/>
                        <a:ext cx="6490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北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7" name="Text Box 48"/>
                      <p:cNvSpPr/>
                      <p:nvPr/>
                    </p:nvSpPr>
                    <p:spPr>
                      <a:xfrm>
                        <a:off x="2274840" y="2803320"/>
                        <a:ext cx="6490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西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448" name="Text Box 49"/>
                      <p:cNvSpPr/>
                      <p:nvPr/>
                    </p:nvSpPr>
                    <p:spPr>
                      <a:xfrm>
                        <a:off x="3927240" y="4522680"/>
                        <a:ext cx="649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南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449" name="Oval 107"/>
                  <p:cNvSpPr/>
                  <p:nvPr/>
                </p:nvSpPr>
                <p:spPr>
                  <a:xfrm>
                    <a:off x="5957640" y="4084560"/>
                    <a:ext cx="7164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450" name="Group 111"/>
              <p:cNvGrpSpPr/>
              <p:nvPr/>
            </p:nvGrpSpPr>
            <p:grpSpPr>
              <a:xfrm>
                <a:off x="2992320" y="2687400"/>
                <a:ext cx="2189160" cy="1925640"/>
                <a:chOff x="2992320" y="2687400"/>
                <a:chExt cx="2189160" cy="1925640"/>
              </a:xfrm>
            </p:grpSpPr>
            <p:sp>
              <p:nvSpPr>
                <p:cNvPr id="451" name="Line 21"/>
                <p:cNvSpPr/>
                <p:nvPr/>
              </p:nvSpPr>
              <p:spPr>
                <a:xfrm>
                  <a:off x="4150080" y="3096000"/>
                  <a:ext cx="312120" cy="18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52" name="Group 110"/>
                <p:cNvGrpSpPr/>
                <p:nvPr/>
              </p:nvGrpSpPr>
              <p:grpSpPr>
                <a:xfrm>
                  <a:off x="2992320" y="2687400"/>
                  <a:ext cx="2189160" cy="1925640"/>
                  <a:chOff x="2992320" y="2687400"/>
                  <a:chExt cx="2189160" cy="1925640"/>
                </a:xfrm>
              </p:grpSpPr>
              <p:grpSp>
                <p:nvGrpSpPr>
                  <p:cNvPr id="453" name="Group 15"/>
                  <p:cNvGrpSpPr/>
                  <p:nvPr/>
                </p:nvGrpSpPr>
                <p:grpSpPr>
                  <a:xfrm>
                    <a:off x="2992320" y="4539600"/>
                    <a:ext cx="360360" cy="73440"/>
                    <a:chOff x="2992320" y="4539600"/>
                    <a:chExt cx="360360" cy="73440"/>
                  </a:xfrm>
                </p:grpSpPr>
                <p:sp>
                  <p:nvSpPr>
                    <p:cNvPr id="454" name="Line 16"/>
                    <p:cNvSpPr/>
                    <p:nvPr/>
                  </p:nvSpPr>
                  <p:spPr>
                    <a:xfrm>
                      <a:off x="2992320" y="461304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5" name="Line 17"/>
                    <p:cNvSpPr/>
                    <p:nvPr/>
                  </p:nvSpPr>
                  <p:spPr>
                    <a:xfrm flipV="1">
                      <a:off x="2992320" y="453960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6" name="Line 18"/>
                    <p:cNvSpPr/>
                    <p:nvPr/>
                  </p:nvSpPr>
                  <p:spPr>
                    <a:xfrm flipV="1">
                      <a:off x="3346200" y="453960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57" name="Group 22"/>
                  <p:cNvGrpSpPr/>
                  <p:nvPr/>
                </p:nvGrpSpPr>
                <p:grpSpPr>
                  <a:xfrm>
                    <a:off x="4442040" y="3198960"/>
                    <a:ext cx="312120" cy="245520"/>
                    <a:chOff x="4442040" y="3198960"/>
                    <a:chExt cx="312120" cy="245520"/>
                  </a:xfrm>
                </p:grpSpPr>
                <p:sp>
                  <p:nvSpPr>
                    <p:cNvPr id="458" name="Line 23"/>
                    <p:cNvSpPr/>
                    <p:nvPr/>
                  </p:nvSpPr>
                  <p:spPr>
                    <a:xfrm>
                      <a:off x="4442040" y="326412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59" name="Line 24"/>
                    <p:cNvSpPr/>
                    <p:nvPr/>
                  </p:nvSpPr>
                  <p:spPr>
                    <a:xfrm flipV="1">
                      <a:off x="4452120" y="3198960"/>
                      <a:ext cx="36360" cy="62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460" name="Text Box 106"/>
                  <p:cNvSpPr/>
                  <p:nvPr/>
                </p:nvSpPr>
                <p:spPr>
                  <a:xfrm>
                    <a:off x="4100400" y="2687400"/>
                    <a:ext cx="1081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市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461" name="Text Box 114"/>
          <p:cNvSpPr/>
          <p:nvPr/>
        </p:nvSpPr>
        <p:spPr>
          <a:xfrm>
            <a:off x="6258240" y="4191120"/>
            <a:ext cx="729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台风中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26"/>
          <p:cNvSpPr/>
          <p:nvPr/>
        </p:nvSpPr>
        <p:spPr>
          <a:xfrm>
            <a:off x="2649600" y="5775120"/>
            <a:ext cx="49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600÷20=3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时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直线连接符 21"/>
          <p:cNvSpPr/>
          <p:nvPr/>
        </p:nvSpPr>
        <p:spPr>
          <a:xfrm flipV="1">
            <a:off x="395280" y="162864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4" name="同侧圆角矩形 72"/>
          <p:cNvGrpSpPr/>
          <p:nvPr/>
        </p:nvGrpSpPr>
        <p:grpSpPr>
          <a:xfrm>
            <a:off x="396720" y="1054080"/>
            <a:ext cx="1998720" cy="519120"/>
            <a:chOff x="396720" y="1054080"/>
            <a:chExt cx="1998720" cy="519120"/>
          </a:xfrm>
        </p:grpSpPr>
        <p:pic>
          <p:nvPicPr>
            <p:cNvPr id="465" name="同侧圆角矩形 72" descr=""/>
            <p:cNvPicPr/>
            <p:nvPr/>
          </p:nvPicPr>
          <p:blipFill>
            <a:blip r:embed="rId1"/>
            <a:stretch/>
          </p:blipFill>
          <p:spPr>
            <a:xfrm>
              <a:off x="396720" y="105408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420840" y="1077840"/>
              <a:ext cx="19494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6"/>
          <p:cNvSpPr/>
          <p:nvPr/>
        </p:nvSpPr>
        <p:spPr>
          <a:xfrm>
            <a:off x="2558880" y="5090760"/>
            <a:ext cx="39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知道了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6" descr="23"/>
          <p:cNvPicPr/>
          <p:nvPr/>
        </p:nvPicPr>
        <p:blipFill>
          <a:blip r:embed="rId1"/>
          <a:stretch/>
        </p:blipFill>
        <p:spPr>
          <a:xfrm>
            <a:off x="544680" y="1619280"/>
            <a:ext cx="4413240" cy="29336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7"/>
          <p:cNvSpPr/>
          <p:nvPr/>
        </p:nvSpPr>
        <p:spPr>
          <a:xfrm>
            <a:off x="5076720" y="1484280"/>
            <a:ext cx="35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位于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北偏西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 °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、距离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km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在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正北方， 距离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km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请你在例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图中标出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、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市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0" name="同侧圆角矩形 8"/>
          <p:cNvGrpSpPr/>
          <p:nvPr/>
        </p:nvGrpSpPr>
        <p:grpSpPr>
          <a:xfrm>
            <a:off x="469800" y="1054080"/>
            <a:ext cx="1998720" cy="512280"/>
            <a:chOff x="469800" y="1054080"/>
            <a:chExt cx="1998720" cy="512280"/>
          </a:xfrm>
        </p:grpSpPr>
        <p:pic>
          <p:nvPicPr>
            <p:cNvPr id="471" name="同侧圆角矩形 8" descr=""/>
            <p:cNvPicPr/>
            <p:nvPr/>
          </p:nvPicPr>
          <p:blipFill>
            <a:blip r:embed="rId2"/>
            <a:stretch/>
          </p:blipFill>
          <p:spPr>
            <a:xfrm>
              <a:off x="469800" y="105408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93560" y="1077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情景导入</a:t>
              </a: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79"/>
          <p:cNvGrpSpPr/>
          <p:nvPr/>
        </p:nvGrpSpPr>
        <p:grpSpPr>
          <a:xfrm>
            <a:off x="3646440" y="3016080"/>
            <a:ext cx="912240" cy="732960"/>
            <a:chOff x="3646440" y="3016080"/>
            <a:chExt cx="912240" cy="732960"/>
          </a:xfrm>
        </p:grpSpPr>
        <p:grpSp>
          <p:nvGrpSpPr>
            <p:cNvPr id="475" name="Group 78"/>
            <p:cNvGrpSpPr/>
            <p:nvPr/>
          </p:nvGrpSpPr>
          <p:grpSpPr>
            <a:xfrm>
              <a:off x="3646440" y="3016080"/>
              <a:ext cx="912240" cy="732960"/>
              <a:chOff x="3646440" y="3016080"/>
              <a:chExt cx="912240" cy="732960"/>
            </a:xfrm>
          </p:grpSpPr>
          <p:sp>
            <p:nvSpPr>
              <p:cNvPr id="476" name="Text Box 73"/>
              <p:cNvSpPr/>
              <p:nvPr/>
            </p:nvSpPr>
            <p:spPr>
              <a:xfrm>
                <a:off x="3646440" y="3016080"/>
                <a:ext cx="7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r>
                  <a:rPr b="0" lang="zh-CN" sz="1800" spc="-1" strike="noStrike">
                    <a:solidFill>
                      <a:srgbClr val="ff0000"/>
                    </a:solidFill>
                    <a:latin typeface="Calibri"/>
                  </a:rPr>
                  <a:t>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Line 65"/>
              <p:cNvSpPr/>
              <p:nvPr/>
            </p:nvSpPr>
            <p:spPr>
              <a:xfrm flipH="1">
                <a:off x="4371480" y="3403440"/>
                <a:ext cx="61920" cy="35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Line 67"/>
              <p:cNvSpPr/>
              <p:nvPr/>
            </p:nvSpPr>
            <p:spPr>
              <a:xfrm flipH="1" flipV="1">
                <a:off x="4378680" y="3436920"/>
                <a:ext cx="180000" cy="312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Line 68"/>
              <p:cNvSpPr/>
              <p:nvPr/>
            </p:nvSpPr>
            <p:spPr>
              <a:xfrm flipH="1" flipV="1">
                <a:off x="4165920" y="3064320"/>
                <a:ext cx="208080" cy="365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0" name="Oval 69"/>
            <p:cNvSpPr/>
            <p:nvPr/>
          </p:nvSpPr>
          <p:spPr>
            <a:xfrm>
              <a:off x="4151160" y="3052800"/>
              <a:ext cx="7236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Group 12"/>
          <p:cNvGrpSpPr/>
          <p:nvPr/>
        </p:nvGrpSpPr>
        <p:grpSpPr>
          <a:xfrm>
            <a:off x="2712960" y="1820880"/>
            <a:ext cx="3968640" cy="3724200"/>
            <a:chOff x="2712960" y="1820880"/>
            <a:chExt cx="3968640" cy="3724200"/>
          </a:xfrm>
        </p:grpSpPr>
        <p:sp>
          <p:nvSpPr>
            <p:cNvPr id="482" name="Text Box 13"/>
            <p:cNvSpPr/>
            <p:nvPr/>
          </p:nvSpPr>
          <p:spPr>
            <a:xfrm>
              <a:off x="4802040" y="417168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3" name="Group 14"/>
            <p:cNvGrpSpPr/>
            <p:nvPr/>
          </p:nvGrpSpPr>
          <p:grpSpPr>
            <a:xfrm>
              <a:off x="2712960" y="1820880"/>
              <a:ext cx="3968640" cy="3724200"/>
              <a:chOff x="2712960" y="1820880"/>
              <a:chExt cx="3968640" cy="3724200"/>
            </a:xfrm>
          </p:grpSpPr>
          <p:grpSp>
            <p:nvGrpSpPr>
              <p:cNvPr id="484" name="Group 15"/>
              <p:cNvGrpSpPr/>
              <p:nvPr/>
            </p:nvGrpSpPr>
            <p:grpSpPr>
              <a:xfrm>
                <a:off x="2712960" y="1820880"/>
                <a:ext cx="3968640" cy="3724200"/>
                <a:chOff x="2712960" y="1820880"/>
                <a:chExt cx="3968640" cy="3724200"/>
              </a:xfrm>
            </p:grpSpPr>
            <p:grpSp>
              <p:nvGrpSpPr>
                <p:cNvPr id="485" name="Group 16"/>
                <p:cNvGrpSpPr/>
                <p:nvPr/>
              </p:nvGrpSpPr>
              <p:grpSpPr>
                <a:xfrm>
                  <a:off x="5193000" y="4030920"/>
                  <a:ext cx="312120" cy="245160"/>
                  <a:chOff x="5193000" y="4030920"/>
                  <a:chExt cx="312120" cy="245160"/>
                </a:xfrm>
              </p:grpSpPr>
              <p:sp>
                <p:nvSpPr>
                  <p:cNvPr id="486" name="Line 17"/>
                  <p:cNvSpPr/>
                  <p:nvPr/>
                </p:nvSpPr>
                <p:spPr>
                  <a:xfrm>
                    <a:off x="5193000" y="4096080"/>
                    <a:ext cx="312120" cy="180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7" name="Line 18"/>
                  <p:cNvSpPr/>
                  <p:nvPr/>
                </p:nvSpPr>
                <p:spPr>
                  <a:xfrm flipV="1">
                    <a:off x="5203080" y="4030920"/>
                    <a:ext cx="36360" cy="62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488" name="Group 19"/>
                <p:cNvGrpSpPr/>
                <p:nvPr/>
              </p:nvGrpSpPr>
              <p:grpSpPr>
                <a:xfrm>
                  <a:off x="2712960" y="1820880"/>
                  <a:ext cx="3968640" cy="3724200"/>
                  <a:chOff x="2712960" y="1820880"/>
                  <a:chExt cx="3968640" cy="3724200"/>
                </a:xfrm>
              </p:grpSpPr>
              <p:grpSp>
                <p:nvGrpSpPr>
                  <p:cNvPr id="489" name="Group 20"/>
                  <p:cNvGrpSpPr/>
                  <p:nvPr/>
                </p:nvGrpSpPr>
                <p:grpSpPr>
                  <a:xfrm>
                    <a:off x="5499360" y="4203360"/>
                    <a:ext cx="312120" cy="246240"/>
                    <a:chOff x="5499360" y="4203360"/>
                    <a:chExt cx="312120" cy="246240"/>
                  </a:xfrm>
                </p:grpSpPr>
                <p:sp>
                  <p:nvSpPr>
                    <p:cNvPr id="490" name="Line 21"/>
                    <p:cNvSpPr/>
                    <p:nvPr/>
                  </p:nvSpPr>
                  <p:spPr>
                    <a:xfrm>
                      <a:off x="5499360" y="426924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91" name="Line 22"/>
                    <p:cNvSpPr/>
                    <p:nvPr/>
                  </p:nvSpPr>
                  <p:spPr>
                    <a:xfrm flipV="1">
                      <a:off x="5509440" y="420336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92" name="Group 23"/>
                  <p:cNvGrpSpPr/>
                  <p:nvPr/>
                </p:nvGrpSpPr>
                <p:grpSpPr>
                  <a:xfrm>
                    <a:off x="5811840" y="4381200"/>
                    <a:ext cx="312120" cy="246240"/>
                    <a:chOff x="5811840" y="4381200"/>
                    <a:chExt cx="312120" cy="246240"/>
                  </a:xfrm>
                </p:grpSpPr>
                <p:sp>
                  <p:nvSpPr>
                    <p:cNvPr id="493" name="Line 24"/>
                    <p:cNvSpPr/>
                    <p:nvPr/>
                  </p:nvSpPr>
                  <p:spPr>
                    <a:xfrm>
                      <a:off x="5811840" y="444708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94" name="Line 25"/>
                    <p:cNvSpPr/>
                    <p:nvPr/>
                  </p:nvSpPr>
                  <p:spPr>
                    <a:xfrm flipV="1">
                      <a:off x="5821920" y="438120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95" name="Group 26"/>
                  <p:cNvGrpSpPr/>
                  <p:nvPr/>
                </p:nvGrpSpPr>
                <p:grpSpPr>
                  <a:xfrm>
                    <a:off x="6100920" y="4547880"/>
                    <a:ext cx="312120" cy="246240"/>
                    <a:chOff x="6100920" y="4547880"/>
                    <a:chExt cx="312120" cy="246240"/>
                  </a:xfrm>
                </p:grpSpPr>
                <p:sp>
                  <p:nvSpPr>
                    <p:cNvPr id="496" name="Line 27"/>
                    <p:cNvSpPr/>
                    <p:nvPr/>
                  </p:nvSpPr>
                  <p:spPr>
                    <a:xfrm>
                      <a:off x="6100920" y="461376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497" name="Line 28"/>
                    <p:cNvSpPr/>
                    <p:nvPr/>
                  </p:nvSpPr>
                  <p:spPr>
                    <a:xfrm flipV="1">
                      <a:off x="6111000" y="454788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498" name="Group 29"/>
                  <p:cNvGrpSpPr/>
                  <p:nvPr/>
                </p:nvGrpSpPr>
                <p:grpSpPr>
                  <a:xfrm>
                    <a:off x="2712960" y="1820880"/>
                    <a:ext cx="3968640" cy="3724200"/>
                    <a:chOff x="2712960" y="1820880"/>
                    <a:chExt cx="3968640" cy="3724200"/>
                  </a:xfrm>
                </p:grpSpPr>
                <p:sp>
                  <p:nvSpPr>
                    <p:cNvPr id="499" name="Arc 30"/>
                    <p:cNvSpPr/>
                    <p:nvPr/>
                  </p:nvSpPr>
                  <p:spPr>
                    <a:xfrm rot="2628000">
                      <a:off x="4870080" y="3755520"/>
                      <a:ext cx="71280" cy="157320"/>
                    </a:xfrm>
                    <a:custGeom>
                      <a:avLst/>
                      <a:gdLst>
                        <a:gd name="textAreaLeft" fmla="*/ 0 w 71280"/>
                        <a:gd name="textAreaRight" fmla="*/ 71640 w 71280"/>
                        <a:gd name="textAreaTop" fmla="*/ 0 h 157320"/>
                        <a:gd name="textAreaBottom" fmla="*/ 157680 h 157320"/>
                      </a:gdLst>
                      <a:ahLst/>
                      <a:rect l="textAreaLeft" t="textAreaTop" r="textAreaRight" b="textAreaBottom"/>
                      <a:pathLst>
                        <a:path fill="none" w="21600" h="23749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2317"/>
                            <a:pt x="21564" y="23034"/>
                            <a:pt x="21492" y="23748"/>
                          </a:cubicBezTo>
                        </a:path>
                        <a:path stroke="0" w="21600" h="23749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2317"/>
                            <a:pt x="21564" y="23034"/>
                            <a:pt x="21492" y="23748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00" name="Text Box 31"/>
                    <p:cNvSpPr/>
                    <p:nvPr/>
                  </p:nvSpPr>
                  <p:spPr>
                    <a:xfrm>
                      <a:off x="3286080" y="4844880"/>
                      <a:ext cx="122400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01" name="Text Box 32"/>
                    <p:cNvSpPr/>
                    <p:nvPr/>
                  </p:nvSpPr>
                  <p:spPr>
                    <a:xfrm>
                      <a:off x="5005080" y="3673440"/>
                      <a:ext cx="935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502" name="Group 33"/>
                    <p:cNvGrpSpPr/>
                    <p:nvPr/>
                  </p:nvGrpSpPr>
                  <p:grpSpPr>
                    <a:xfrm>
                      <a:off x="2712960" y="1820880"/>
                      <a:ext cx="3968640" cy="3724200"/>
                      <a:chOff x="2712960" y="1820880"/>
                      <a:chExt cx="3968640" cy="3724200"/>
                    </a:xfrm>
                  </p:grpSpPr>
                  <p:grpSp>
                    <p:nvGrpSpPr>
                      <p:cNvPr id="503" name="Group 34"/>
                      <p:cNvGrpSpPr/>
                      <p:nvPr/>
                    </p:nvGrpSpPr>
                    <p:grpSpPr>
                      <a:xfrm>
                        <a:off x="3093480" y="2233440"/>
                        <a:ext cx="3024360" cy="3024360"/>
                        <a:chOff x="3093480" y="2233440"/>
                        <a:chExt cx="3024360" cy="3024360"/>
                      </a:xfrm>
                    </p:grpSpPr>
                    <p:sp>
                      <p:nvSpPr>
                        <p:cNvPr id="504" name="Line 35"/>
                        <p:cNvSpPr/>
                        <p:nvPr/>
                      </p:nvSpPr>
                      <p:spPr>
                        <a:xfrm>
                          <a:off x="4582800" y="2233440"/>
                          <a:ext cx="0" cy="3024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505" name="Line 36"/>
                        <p:cNvSpPr/>
                        <p:nvPr/>
                      </p:nvSpPr>
                      <p:spPr>
                        <a:xfrm flipH="1">
                          <a:off x="3093480" y="3745080"/>
                          <a:ext cx="302436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miter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sp>
                    <p:nvSpPr>
                      <p:cNvPr id="506" name="Text Box 37"/>
                      <p:cNvSpPr/>
                      <p:nvPr/>
                    </p:nvSpPr>
                    <p:spPr>
                      <a:xfrm>
                        <a:off x="6032520" y="3467160"/>
                        <a:ext cx="6490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东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7" name="Text Box 38"/>
                      <p:cNvSpPr/>
                      <p:nvPr/>
                    </p:nvSpPr>
                    <p:spPr>
                      <a:xfrm>
                        <a:off x="4332240" y="1820880"/>
                        <a:ext cx="6490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北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8" name="Text Box 39"/>
                      <p:cNvSpPr/>
                      <p:nvPr/>
                    </p:nvSpPr>
                    <p:spPr>
                      <a:xfrm>
                        <a:off x="2712960" y="3457440"/>
                        <a:ext cx="64908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西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509" name="Text Box 40"/>
                      <p:cNvSpPr/>
                      <p:nvPr/>
                    </p:nvSpPr>
                    <p:spPr>
                      <a:xfrm>
                        <a:off x="4365360" y="5176800"/>
                        <a:ext cx="64944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zh-CN" sz="1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南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510" name="Oval 41"/>
                  <p:cNvSpPr/>
                  <p:nvPr/>
                </p:nvSpPr>
                <p:spPr>
                  <a:xfrm>
                    <a:off x="6395760" y="4738680"/>
                    <a:ext cx="7164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511" name="Group 42"/>
              <p:cNvGrpSpPr/>
              <p:nvPr/>
            </p:nvGrpSpPr>
            <p:grpSpPr>
              <a:xfrm>
                <a:off x="3430440" y="3341520"/>
                <a:ext cx="2189160" cy="1925640"/>
                <a:chOff x="3430440" y="3341520"/>
                <a:chExt cx="2189160" cy="1925640"/>
              </a:xfrm>
            </p:grpSpPr>
            <p:sp>
              <p:nvSpPr>
                <p:cNvPr id="512" name="Line 43"/>
                <p:cNvSpPr/>
                <p:nvPr/>
              </p:nvSpPr>
              <p:spPr>
                <a:xfrm>
                  <a:off x="4588200" y="3750120"/>
                  <a:ext cx="312120" cy="18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13" name="Group 44"/>
                <p:cNvGrpSpPr/>
                <p:nvPr/>
              </p:nvGrpSpPr>
              <p:grpSpPr>
                <a:xfrm>
                  <a:off x="3430440" y="3341520"/>
                  <a:ext cx="2189160" cy="1925640"/>
                  <a:chOff x="3430440" y="3341520"/>
                  <a:chExt cx="2189160" cy="1925640"/>
                </a:xfrm>
              </p:grpSpPr>
              <p:grpSp>
                <p:nvGrpSpPr>
                  <p:cNvPr id="514" name="Group 45"/>
                  <p:cNvGrpSpPr/>
                  <p:nvPr/>
                </p:nvGrpSpPr>
                <p:grpSpPr>
                  <a:xfrm>
                    <a:off x="3430440" y="5193720"/>
                    <a:ext cx="360360" cy="73440"/>
                    <a:chOff x="3430440" y="5193720"/>
                    <a:chExt cx="360360" cy="73440"/>
                  </a:xfrm>
                </p:grpSpPr>
                <p:sp>
                  <p:nvSpPr>
                    <p:cNvPr id="515" name="Line 46"/>
                    <p:cNvSpPr/>
                    <p:nvPr/>
                  </p:nvSpPr>
                  <p:spPr>
                    <a:xfrm>
                      <a:off x="3430440" y="526716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16" name="Line 47"/>
                    <p:cNvSpPr/>
                    <p:nvPr/>
                  </p:nvSpPr>
                  <p:spPr>
                    <a:xfrm flipV="1">
                      <a:off x="3430440" y="519372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17" name="Line 48"/>
                    <p:cNvSpPr/>
                    <p:nvPr/>
                  </p:nvSpPr>
                  <p:spPr>
                    <a:xfrm flipV="1">
                      <a:off x="3784320" y="519372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518" name="Group 49"/>
                  <p:cNvGrpSpPr/>
                  <p:nvPr/>
                </p:nvGrpSpPr>
                <p:grpSpPr>
                  <a:xfrm>
                    <a:off x="4880160" y="3853080"/>
                    <a:ext cx="312120" cy="245520"/>
                    <a:chOff x="4880160" y="3853080"/>
                    <a:chExt cx="312120" cy="245520"/>
                  </a:xfrm>
                </p:grpSpPr>
                <p:sp>
                  <p:nvSpPr>
                    <p:cNvPr id="519" name="Line 50"/>
                    <p:cNvSpPr/>
                    <p:nvPr/>
                  </p:nvSpPr>
                  <p:spPr>
                    <a:xfrm>
                      <a:off x="4880160" y="391824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20" name="Line 51"/>
                    <p:cNvSpPr/>
                    <p:nvPr/>
                  </p:nvSpPr>
                  <p:spPr>
                    <a:xfrm flipV="1">
                      <a:off x="4890240" y="3853080"/>
                      <a:ext cx="36360" cy="62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21" name="Text Box 52"/>
                  <p:cNvSpPr/>
                  <p:nvPr/>
                </p:nvSpPr>
                <p:spPr>
                  <a:xfrm>
                    <a:off x="4538520" y="3341520"/>
                    <a:ext cx="1081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市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grpSp>
        <p:nvGrpSpPr>
          <p:cNvPr id="522" name="Group 77"/>
          <p:cNvGrpSpPr/>
          <p:nvPr/>
        </p:nvGrpSpPr>
        <p:grpSpPr>
          <a:xfrm>
            <a:off x="3598560" y="2063160"/>
            <a:ext cx="1364040" cy="1683720"/>
            <a:chOff x="3598560" y="2063160"/>
            <a:chExt cx="1364040" cy="1683720"/>
          </a:xfrm>
        </p:grpSpPr>
        <p:sp>
          <p:nvSpPr>
            <p:cNvPr id="523" name="Line 54"/>
            <p:cNvSpPr/>
            <p:nvPr/>
          </p:nvSpPr>
          <p:spPr>
            <a:xfrm>
              <a:off x="3598560" y="2063160"/>
              <a:ext cx="966600" cy="1683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Arc 55"/>
            <p:cNvSpPr/>
            <p:nvPr/>
          </p:nvSpPr>
          <p:spPr>
            <a:xfrm rot="20102400">
              <a:off x="4402080" y="3381120"/>
              <a:ext cx="193680" cy="73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fill="none" w="19389" h="21600">
                  <a:moveTo>
                    <a:pt x="-1" y="0"/>
                  </a:moveTo>
                  <a:cubicBezTo>
                    <a:pt x="8237" y="0"/>
                    <a:pt x="15757" y="4685"/>
                    <a:pt x="19388" y="12079"/>
                  </a:cubicBezTo>
                </a:path>
                <a:path stroke="0" w="19389" h="21600">
                  <a:moveTo>
                    <a:pt x="-1" y="0"/>
                  </a:moveTo>
                  <a:cubicBezTo>
                    <a:pt x="8237" y="0"/>
                    <a:pt x="15757" y="4685"/>
                    <a:pt x="19388" y="12079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Text Box 56"/>
            <p:cNvSpPr/>
            <p:nvPr/>
          </p:nvSpPr>
          <p:spPr>
            <a:xfrm>
              <a:off x="4170240" y="2835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直线连接符 21"/>
          <p:cNvSpPr/>
          <p:nvPr/>
        </p:nvSpPr>
        <p:spPr>
          <a:xfrm flipV="1">
            <a:off x="395280" y="1628640"/>
            <a:ext cx="2071800" cy="504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同侧圆角矩形 63"/>
          <p:cNvGrpSpPr/>
          <p:nvPr/>
        </p:nvGrpSpPr>
        <p:grpSpPr>
          <a:xfrm>
            <a:off x="469800" y="1054080"/>
            <a:ext cx="1998720" cy="519120"/>
            <a:chOff x="469800" y="1054080"/>
            <a:chExt cx="1998720" cy="519120"/>
          </a:xfrm>
        </p:grpSpPr>
        <p:pic>
          <p:nvPicPr>
            <p:cNvPr id="528" name="同侧圆角矩形 63" descr=""/>
            <p:cNvPicPr/>
            <p:nvPr/>
          </p:nvPicPr>
          <p:blipFill>
            <a:blip r:embed="rId1"/>
            <a:stretch/>
          </p:blipFill>
          <p:spPr>
            <a:xfrm>
              <a:off x="469800" y="1054080"/>
              <a:ext cx="199872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93560" y="1077840"/>
              <a:ext cx="1949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探索新知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531" name="同侧圆角矩形 15"/>
          <p:cNvGrpSpPr/>
          <p:nvPr/>
        </p:nvGrpSpPr>
        <p:grpSpPr>
          <a:xfrm>
            <a:off x="396720" y="1127160"/>
            <a:ext cx="1998720" cy="512280"/>
            <a:chOff x="396720" y="1127160"/>
            <a:chExt cx="1998720" cy="512280"/>
          </a:xfrm>
        </p:grpSpPr>
        <p:pic>
          <p:nvPicPr>
            <p:cNvPr id="532" name="同侧圆角矩形 15" descr=""/>
            <p:cNvPicPr/>
            <p:nvPr/>
          </p:nvPicPr>
          <p:blipFill>
            <a:blip r:embed="rId2"/>
            <a:stretch/>
          </p:blipFill>
          <p:spPr>
            <a:xfrm>
              <a:off x="396720" y="112716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420840" y="1150560"/>
              <a:ext cx="1949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直线连接符 21"/>
          <p:cNvSpPr/>
          <p:nvPr/>
        </p:nvSpPr>
        <p:spPr>
          <a:xfrm flipV="1">
            <a:off x="395280" y="1699920"/>
            <a:ext cx="2071800" cy="612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1027080" y="174312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平面图上标出校园内各建筑物的位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537" name="RL99.eps" descr="id:2147502047;FounderCES"/>
          <p:cNvPicPr/>
          <p:nvPr/>
        </p:nvPicPr>
        <p:blipFill>
          <a:blip r:embed="rId4"/>
          <a:stretch/>
        </p:blipFill>
        <p:spPr>
          <a:xfrm>
            <a:off x="3048120" y="3794040"/>
            <a:ext cx="3743280" cy="24843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0"/>
          <p:cNvSpPr/>
          <p:nvPr/>
        </p:nvSpPr>
        <p:spPr>
          <a:xfrm>
            <a:off x="1089000" y="2817720"/>
            <a:ext cx="766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艺术楼在校门的正北方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书馆在校门的北偏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0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grpSp>
        <p:nvGrpSpPr>
          <p:cNvPr id="540" name="同侧圆角矩形 1"/>
          <p:cNvGrpSpPr/>
          <p:nvPr/>
        </p:nvGrpSpPr>
        <p:grpSpPr>
          <a:xfrm>
            <a:off x="469800" y="1054080"/>
            <a:ext cx="1998720" cy="512280"/>
            <a:chOff x="469800" y="1054080"/>
            <a:chExt cx="1998720" cy="512280"/>
          </a:xfrm>
        </p:grpSpPr>
        <p:pic>
          <p:nvPicPr>
            <p:cNvPr id="541" name="同侧圆角矩形 1" descr=""/>
            <p:cNvPicPr/>
            <p:nvPr/>
          </p:nvPicPr>
          <p:blipFill>
            <a:blip r:embed="rId2"/>
            <a:stretch/>
          </p:blipFill>
          <p:spPr>
            <a:xfrm>
              <a:off x="469800" y="1054080"/>
              <a:ext cx="1998720" cy="51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493560" y="1077480"/>
              <a:ext cx="1949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典题精讲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f3b56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1"/>
          <p:cNvSpPr/>
          <p:nvPr/>
        </p:nvSpPr>
        <p:spPr>
          <a:xfrm>
            <a:off x="1168560" y="2487600"/>
            <a:ext cx="6984720" cy="947160"/>
          </a:xfrm>
          <a:prstGeom prst="rect">
            <a:avLst/>
          </a:prstGeom>
          <a:solidFill>
            <a:srgbClr val="e48312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题中给出的单位长度表示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m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方向标确定出平面图是按照上北下南、左西右东绘制的。各种建筑物的观测点都是校门。艺术楼在校门的正北方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校门的正北方向上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cm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处标出一个点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个点就表示艺术楼的位置。图书馆的位置可以用相同的方法标出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14:37:31Z</dcterms:created>
  <dc:creator/>
  <dc:description/>
  <dc:language>en-US</dc:language>
  <cp:lastModifiedBy>陈 赫</cp:lastModifiedBy>
  <dcterms:modified xsi:type="dcterms:W3CDTF">2018-11-22T08:17:02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