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436-BC53-4D3F-AF7A-4F3DCD80B5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E7E-A0E4-4931-9AD2-5F0E9948D6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D2EF-2B11-4F4D-9BF2-E642CB46BD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5C3-8F64-460A-A14C-62A7EF17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F96-BBE2-4910-AD5A-198D6EBD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912-B2F4-4EF4-A286-8B65F2B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A87-F51F-48C6-8EDA-32EEA619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E05-E3C3-4836-ACFC-F2998827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CFB-60BF-4F3E-971E-B487C0A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EF3-9EF8-49C1-ACE0-AB535C6E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D22-B4B0-4A8D-9A11-8B94FF1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9C8-2E85-4C4E-9BC3-75159932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BC7-3EA1-4BE5-BE44-A1F1BDF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932-4DBB-4883-8C62-075CD544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A5E-BD5D-4B9D-842B-63F3502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14A2-659C-4FD3-AB94-49043A2331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 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线连接符 21"/>
          <p:cNvSpPr/>
          <p:nvPr/>
        </p:nvSpPr>
        <p:spPr>
          <a:xfrm>
            <a:off x="3348000" y="3484440"/>
            <a:ext cx="5040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3348000" y="2631960"/>
            <a:ext cx="48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3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比 的 应 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Text Box 10" descr=""/>
          <p:cNvPicPr/>
          <p:nvPr/>
        </p:nvPicPr>
        <p:blipFill>
          <a:blip r:embed="rId3"/>
          <a:stretch/>
        </p:blipFill>
        <p:spPr>
          <a:xfrm>
            <a:off x="1255680" y="2487600"/>
            <a:ext cx="692460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258920" y="24210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树苗按各班的人数比分给六年级的三个班。一班和二班分得树苗的棵数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∶3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班和三班分得树苗的棵数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∶7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班各分得树苗多少棵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7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1"/>
          <p:cNvSpPr/>
          <p:nvPr/>
        </p:nvSpPr>
        <p:spPr>
          <a:xfrm>
            <a:off x="1258920" y="2852640"/>
            <a:ext cx="6985080" cy="13737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“一班和二班分得树苗的棵数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∶3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班和三班分得树苗的棵数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∶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得到三个班分得树苗棵数的连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∶15∶21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于是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1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树苗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∶15∶2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分配就可以求出各班分得树苗的棵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Text Box 10" descr=""/>
          <p:cNvPicPr/>
          <p:nvPr/>
        </p:nvPicPr>
        <p:blipFill>
          <a:blip r:embed="rId3"/>
          <a:stretch/>
        </p:blipFill>
        <p:spPr>
          <a:xfrm>
            <a:off x="1378080" y="2341440"/>
            <a:ext cx="72295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651640" y="83520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88" name="矩形 10"/>
          <p:cNvSpPr/>
          <p:nvPr/>
        </p:nvSpPr>
        <p:spPr>
          <a:xfrm>
            <a:off x="1563840" y="1639800"/>
            <a:ext cx="482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块长方形的菜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块菜地的周长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且长与宽的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∶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块菜地的长和宽各是多少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"/>
          <p:cNvSpPr/>
          <p:nvPr/>
        </p:nvSpPr>
        <p:spPr>
          <a:xfrm rot="18297600">
            <a:off x="6817680" y="3789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矩形 13" descr=""/>
          <p:cNvPicPr/>
          <p:nvPr/>
        </p:nvPicPr>
        <p:blipFill>
          <a:blip r:embed="rId3"/>
          <a:stretch/>
        </p:blipFill>
        <p:spPr>
          <a:xfrm>
            <a:off x="1590840" y="3713040"/>
            <a:ext cx="5919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199" name="矩形 19"/>
          <p:cNvSpPr/>
          <p:nvPr/>
        </p:nvSpPr>
        <p:spPr>
          <a:xfrm>
            <a:off x="1042920" y="2997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想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是两个长和两个宽的总和。这道题应该先求出一个长与一个宽的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∶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行分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0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5"/>
          <p:cNvSpPr/>
          <p:nvPr/>
        </p:nvSpPr>
        <p:spPr>
          <a:xfrm rot="18297600">
            <a:off x="7034040" y="462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0"/>
          <p:cNvSpPr/>
          <p:nvPr/>
        </p:nvSpPr>
        <p:spPr>
          <a:xfrm rot="18297600">
            <a:off x="7176960" y="2588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矩形 18" descr=""/>
          <p:cNvPicPr/>
          <p:nvPr/>
        </p:nvPicPr>
        <p:blipFill>
          <a:blip r:embed="rId3"/>
          <a:stretch/>
        </p:blipFill>
        <p:spPr>
          <a:xfrm>
            <a:off x="1596960" y="1878120"/>
            <a:ext cx="5919840" cy="1785960"/>
          </a:xfrm>
          <a:prstGeom prst="rect">
            <a:avLst/>
          </a:prstGeom>
          <a:ln w="0">
            <a:noFill/>
          </a:ln>
        </p:spPr>
      </p:pic>
      <p:pic>
        <p:nvPicPr>
          <p:cNvPr id="208" name="矩形 19" descr=""/>
          <p:cNvPicPr/>
          <p:nvPr/>
        </p:nvPicPr>
        <p:blipFill>
          <a:blip r:embed="rId4"/>
          <a:stretch/>
        </p:blipFill>
        <p:spPr>
          <a:xfrm>
            <a:off x="1689120" y="4035600"/>
            <a:ext cx="59119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84160" y="2167920"/>
            <a:ext cx="77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农场计划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的地里播种大豆和玉米。播种面积的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 ∶ 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两种作物各播种多少公顷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98480" y="3197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622600" y="3989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分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318120" y="4781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豆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246480" y="56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玉米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432320" y="31258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﹙               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4719600" y="39178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﹙           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033520" y="4853160"/>
            <a:ext cx="20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﹙        ﹚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4811040" y="578952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﹙   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﹚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4863960" y="312588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00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公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5224320" y="39178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华文新魏"/>
                <a:ea typeface="华文新魏"/>
              </a:rPr>
              <a:t>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5533200" y="49258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5461560" y="57895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同侧圆角矩形 15"/>
          <p:cNvSpPr/>
          <p:nvPr/>
        </p:nvSpPr>
        <p:spPr>
          <a:xfrm>
            <a:off x="406440" y="8352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直线连接符 21"/>
          <p:cNvSpPr/>
          <p:nvPr/>
        </p:nvSpPr>
        <p:spPr>
          <a:xfrm flipV="1">
            <a:off x="366840" y="14760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老师"/>
          <p:cNvPicPr/>
          <p:nvPr/>
        </p:nvPicPr>
        <p:blipFill>
          <a:blip r:embed="rId1"/>
          <a:stretch/>
        </p:blipFill>
        <p:spPr>
          <a:xfrm>
            <a:off x="6885000" y="4605480"/>
            <a:ext cx="1833480" cy="19890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3"/>
          <p:cNvSpPr/>
          <p:nvPr/>
        </p:nvSpPr>
        <p:spPr>
          <a:xfrm>
            <a:off x="0" y="0"/>
            <a:ext cx="9144000" cy="2492280"/>
          </a:xfrm>
          <a:prstGeom prst="cloudCallout">
            <a:avLst>
              <a:gd name="adj1" fmla="val 27726"/>
              <a:gd name="adj2" fmla="val 1533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508120" y="861840"/>
            <a:ext cx="62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种铝铜合金是按铝和铜的质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 ∶ 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制而成的，现在有这种制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。制品中有铝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544040" y="2289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列解法哪个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162080" y="30654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089000" y="49658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Ｃ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３＋２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089000" y="41450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Ｂ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1089000" y="58006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Ｄ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86"/>
          <p:cNvGrpSpPr/>
          <p:nvPr/>
        </p:nvGrpSpPr>
        <p:grpSpPr>
          <a:xfrm>
            <a:off x="2938320" y="2820960"/>
            <a:ext cx="1655640" cy="1068840"/>
            <a:chOff x="2938320" y="2820960"/>
            <a:chExt cx="1655640" cy="1068840"/>
          </a:xfrm>
        </p:grpSpPr>
        <p:sp>
          <p:nvSpPr>
            <p:cNvPr id="233" name="Rectangle 87"/>
            <p:cNvSpPr/>
            <p:nvPr/>
          </p:nvSpPr>
          <p:spPr>
            <a:xfrm>
              <a:off x="2938320" y="2820960"/>
              <a:ext cx="1655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２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３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２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88"/>
            <p:cNvSpPr/>
            <p:nvPr/>
          </p:nvSpPr>
          <p:spPr>
            <a:xfrm>
              <a:off x="3218760" y="3364920"/>
              <a:ext cx="1096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86"/>
          <p:cNvGrpSpPr/>
          <p:nvPr/>
        </p:nvGrpSpPr>
        <p:grpSpPr>
          <a:xfrm>
            <a:off x="3242520" y="3940200"/>
            <a:ext cx="1027080" cy="1068840"/>
            <a:chOff x="3242520" y="3940200"/>
            <a:chExt cx="1027080" cy="1068840"/>
          </a:xfrm>
        </p:grpSpPr>
        <p:sp>
          <p:nvSpPr>
            <p:cNvPr id="236" name="Rectangle 87"/>
            <p:cNvSpPr/>
            <p:nvPr/>
          </p:nvSpPr>
          <p:spPr>
            <a:xfrm>
              <a:off x="3297960" y="3940200"/>
              <a:ext cx="912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３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２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88"/>
            <p:cNvSpPr/>
            <p:nvPr/>
          </p:nvSpPr>
          <p:spPr>
            <a:xfrm>
              <a:off x="3242520" y="4484160"/>
              <a:ext cx="102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86"/>
          <p:cNvGrpSpPr/>
          <p:nvPr/>
        </p:nvGrpSpPr>
        <p:grpSpPr>
          <a:xfrm>
            <a:off x="2943360" y="5499000"/>
            <a:ext cx="1621800" cy="1068840"/>
            <a:chOff x="2943360" y="5499000"/>
            <a:chExt cx="1621800" cy="1068840"/>
          </a:xfrm>
        </p:grpSpPr>
        <p:sp>
          <p:nvSpPr>
            <p:cNvPr id="239" name="Rectangle 87"/>
            <p:cNvSpPr/>
            <p:nvPr/>
          </p:nvSpPr>
          <p:spPr>
            <a:xfrm>
              <a:off x="2943360" y="5499000"/>
              <a:ext cx="162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３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３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＋２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3250440" y="6032160"/>
              <a:ext cx="1032840" cy="1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19"/>
          <p:cNvSpPr/>
          <p:nvPr/>
        </p:nvSpPr>
        <p:spPr>
          <a:xfrm>
            <a:off x="5695920" y="2236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Calibri"/>
              </a:rPr>
              <a:t>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6645240" y="2073240"/>
            <a:ext cx="43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4871880" y="2289240"/>
            <a:ext cx="36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﹙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　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同侧圆角矩形 21"/>
          <p:cNvSpPr/>
          <p:nvPr/>
        </p:nvSpPr>
        <p:spPr>
          <a:xfrm>
            <a:off x="406440" y="8352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直线连接符 21"/>
          <p:cNvSpPr/>
          <p:nvPr/>
        </p:nvSpPr>
        <p:spPr>
          <a:xfrm flipV="1">
            <a:off x="366840" y="14760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MP900444224[1]"/>
          <p:cNvPicPr/>
          <p:nvPr/>
        </p:nvPicPr>
        <p:blipFill>
          <a:blip r:embed="rId1"/>
          <a:stretch/>
        </p:blipFill>
        <p:spPr>
          <a:xfrm>
            <a:off x="5886360" y="981000"/>
            <a:ext cx="2844720" cy="23814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803160" y="1484280"/>
            <a:ext cx="50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座水库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∶ 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放养鲢鱼和鲤鱼，一共可放养鱼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，其中鲢鱼和鲤鱼的鱼苗各应放多少尾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940680" y="353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鲢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430080" y="3610080"/>
            <a:ext cx="17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495520" y="382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063880" y="36100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00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4985280" y="36100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519880" y="361008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3575160" y="4186080"/>
                <a:ext cx="5032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Text Box 12"/>
          <p:cNvSpPr/>
          <p:nvPr/>
        </p:nvSpPr>
        <p:spPr>
          <a:xfrm>
            <a:off x="1919160" y="4402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00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4006800" y="44020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804960" y="512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鲤鱼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1990800" y="51944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655280" y="5842080"/>
            <a:ext cx="55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鲢鱼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，鲤鱼放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尾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同侧圆角矩形 16"/>
          <p:cNvSpPr/>
          <p:nvPr/>
        </p:nvSpPr>
        <p:spPr>
          <a:xfrm>
            <a:off x="406440" y="8352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线连接符 21"/>
          <p:cNvSpPr/>
          <p:nvPr/>
        </p:nvSpPr>
        <p:spPr>
          <a:xfrm flipV="1">
            <a:off x="366840" y="14760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rcRect l="0" t="9513" r="0" b="10535"/>
          <a:stretch/>
        </p:blipFill>
        <p:spPr>
          <a:xfrm>
            <a:off x="6526080" y="5094360"/>
            <a:ext cx="2016360" cy="1184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996840" y="278136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按比分配的解题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"/>
          <p:cNvSpPr/>
          <p:nvPr/>
        </p:nvSpPr>
        <p:spPr>
          <a:xfrm>
            <a:off x="949320" y="17985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按比分配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27080" y="4162320"/>
            <a:ext cx="73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按比分配应用题的解题思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A024s"/>
          <p:cNvPicPr/>
          <p:nvPr/>
        </p:nvPicPr>
        <p:blipFill>
          <a:blip r:embed="rId1"/>
          <a:stretch/>
        </p:blipFill>
        <p:spPr>
          <a:xfrm>
            <a:off x="6156360" y="5037120"/>
            <a:ext cx="1378080" cy="1649520"/>
          </a:xfrm>
          <a:prstGeom prst="rect">
            <a:avLst/>
          </a:prstGeom>
          <a:ln w="0">
            <a:noFill/>
          </a:ln>
        </p:spPr>
      </p:pic>
      <p:sp>
        <p:nvSpPr>
          <p:cNvPr id="263" name="Freeform 3"/>
          <p:cNvSpPr/>
          <p:nvPr/>
        </p:nvSpPr>
        <p:spPr>
          <a:xfrm>
            <a:off x="3346560" y="5749920"/>
            <a:ext cx="3095640" cy="936720"/>
          </a:xfrm>
          <a:custGeom>
            <a:avLst/>
            <a:gdLst>
              <a:gd name="textAreaLeft" fmla="*/ 0 w 3095640"/>
              <a:gd name="textAreaRight" fmla="*/ 3096000 w 3095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3652" h="1593">
                <a:moveTo>
                  <a:pt x="46" y="1452"/>
                </a:moveTo>
                <a:cubicBezTo>
                  <a:pt x="86" y="1331"/>
                  <a:pt x="66" y="1200"/>
                  <a:pt x="106" y="1080"/>
                </a:cubicBezTo>
                <a:cubicBezTo>
                  <a:pt x="117" y="1048"/>
                  <a:pt x="147" y="1033"/>
                  <a:pt x="166" y="1008"/>
                </a:cubicBezTo>
                <a:cubicBezTo>
                  <a:pt x="266" y="879"/>
                  <a:pt x="168" y="982"/>
                  <a:pt x="250" y="900"/>
                </a:cubicBezTo>
                <a:cubicBezTo>
                  <a:pt x="276" y="822"/>
                  <a:pt x="325" y="740"/>
                  <a:pt x="370" y="672"/>
                </a:cubicBezTo>
                <a:cubicBezTo>
                  <a:pt x="386" y="648"/>
                  <a:pt x="394" y="616"/>
                  <a:pt x="418" y="600"/>
                </a:cubicBezTo>
                <a:cubicBezTo>
                  <a:pt x="442" y="584"/>
                  <a:pt x="470" y="572"/>
                  <a:pt x="490" y="552"/>
                </a:cubicBezTo>
                <a:cubicBezTo>
                  <a:pt x="502" y="540"/>
                  <a:pt x="513" y="526"/>
                  <a:pt x="526" y="516"/>
                </a:cubicBezTo>
                <a:cubicBezTo>
                  <a:pt x="576" y="477"/>
                  <a:pt x="632" y="456"/>
                  <a:pt x="682" y="420"/>
                </a:cubicBezTo>
                <a:cubicBezTo>
                  <a:pt x="718" y="394"/>
                  <a:pt x="743" y="346"/>
                  <a:pt x="766" y="312"/>
                </a:cubicBezTo>
                <a:cubicBezTo>
                  <a:pt x="777" y="295"/>
                  <a:pt x="856" y="246"/>
                  <a:pt x="874" y="228"/>
                </a:cubicBezTo>
                <a:cubicBezTo>
                  <a:pt x="981" y="121"/>
                  <a:pt x="816" y="242"/>
                  <a:pt x="982" y="132"/>
                </a:cubicBezTo>
                <a:cubicBezTo>
                  <a:pt x="996" y="123"/>
                  <a:pt x="1014" y="125"/>
                  <a:pt x="1030" y="120"/>
                </a:cubicBezTo>
                <a:cubicBezTo>
                  <a:pt x="1042" y="117"/>
                  <a:pt x="1054" y="111"/>
                  <a:pt x="1066" y="108"/>
                </a:cubicBezTo>
                <a:cubicBezTo>
                  <a:pt x="1106" y="99"/>
                  <a:pt x="1146" y="94"/>
                  <a:pt x="1186" y="84"/>
                </a:cubicBezTo>
                <a:cubicBezTo>
                  <a:pt x="1245" y="69"/>
                  <a:pt x="1311" y="63"/>
                  <a:pt x="1366" y="36"/>
                </a:cubicBezTo>
                <a:cubicBezTo>
                  <a:pt x="1425" y="6"/>
                  <a:pt x="1397" y="18"/>
                  <a:pt x="1450" y="0"/>
                </a:cubicBezTo>
                <a:cubicBezTo>
                  <a:pt x="1622" y="4"/>
                  <a:pt x="1794" y="5"/>
                  <a:pt x="1966" y="12"/>
                </a:cubicBezTo>
                <a:cubicBezTo>
                  <a:pt x="2018" y="14"/>
                  <a:pt x="2036" y="63"/>
                  <a:pt x="2074" y="84"/>
                </a:cubicBezTo>
                <a:cubicBezTo>
                  <a:pt x="2142" y="122"/>
                  <a:pt x="2228" y="125"/>
                  <a:pt x="2302" y="132"/>
                </a:cubicBezTo>
                <a:cubicBezTo>
                  <a:pt x="2324" y="147"/>
                  <a:pt x="2352" y="153"/>
                  <a:pt x="2374" y="168"/>
                </a:cubicBezTo>
                <a:cubicBezTo>
                  <a:pt x="2388" y="177"/>
                  <a:pt x="2397" y="193"/>
                  <a:pt x="2410" y="204"/>
                </a:cubicBezTo>
                <a:cubicBezTo>
                  <a:pt x="2478" y="261"/>
                  <a:pt x="2412" y="193"/>
                  <a:pt x="2494" y="252"/>
                </a:cubicBezTo>
                <a:cubicBezTo>
                  <a:pt x="2508" y="262"/>
                  <a:pt x="2517" y="278"/>
                  <a:pt x="2530" y="288"/>
                </a:cubicBezTo>
                <a:cubicBezTo>
                  <a:pt x="2553" y="306"/>
                  <a:pt x="2578" y="320"/>
                  <a:pt x="2602" y="336"/>
                </a:cubicBezTo>
                <a:cubicBezTo>
                  <a:pt x="2613" y="343"/>
                  <a:pt x="2679" y="358"/>
                  <a:pt x="2686" y="360"/>
                </a:cubicBezTo>
                <a:cubicBezTo>
                  <a:pt x="2808" y="397"/>
                  <a:pt x="2709" y="374"/>
                  <a:pt x="2818" y="396"/>
                </a:cubicBezTo>
                <a:cubicBezTo>
                  <a:pt x="2861" y="425"/>
                  <a:pt x="2896" y="461"/>
                  <a:pt x="2938" y="492"/>
                </a:cubicBezTo>
                <a:cubicBezTo>
                  <a:pt x="2978" y="611"/>
                  <a:pt x="3056" y="643"/>
                  <a:pt x="3154" y="708"/>
                </a:cubicBezTo>
                <a:cubicBezTo>
                  <a:pt x="3185" y="728"/>
                  <a:pt x="3226" y="723"/>
                  <a:pt x="3262" y="732"/>
                </a:cubicBezTo>
                <a:cubicBezTo>
                  <a:pt x="3371" y="813"/>
                  <a:pt x="3513" y="839"/>
                  <a:pt x="3610" y="936"/>
                </a:cubicBezTo>
                <a:cubicBezTo>
                  <a:pt x="3614" y="972"/>
                  <a:pt x="3613" y="1009"/>
                  <a:pt x="3622" y="1044"/>
                </a:cubicBezTo>
                <a:cubicBezTo>
                  <a:pt x="3625" y="1058"/>
                  <a:pt x="3644" y="1066"/>
                  <a:pt x="3646" y="1080"/>
                </a:cubicBezTo>
                <a:cubicBezTo>
                  <a:pt x="3652" y="1132"/>
                  <a:pt x="3646" y="1184"/>
                  <a:pt x="3646" y="1236"/>
                </a:cubicBezTo>
                <a:lnTo>
                  <a:pt x="3629" y="1593"/>
                </a:lnTo>
                <a:lnTo>
                  <a:pt x="0" y="1593"/>
                </a:lnTo>
                <a:lnTo>
                  <a:pt x="46" y="145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A009"/>
          <p:cNvPicPr/>
          <p:nvPr/>
        </p:nvPicPr>
        <p:blipFill>
          <a:blip r:embed="rId3"/>
          <a:stretch/>
        </p:blipFill>
        <p:spPr>
          <a:xfrm>
            <a:off x="1835280" y="5037120"/>
            <a:ext cx="174312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896760" y="1492200"/>
            <a:ext cx="77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校建幼儿园大楼时，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水泥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沙子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份石子配制一种混凝土。配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这种混凝土，需要水泥、沙子和石子各多少千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96760" y="34686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提示：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中谁被分了？分成了几部分？再观察一下单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381480" y="38797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水泥：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800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3346560" y="4527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沙子：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3417840" y="5175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石子：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000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千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同侧圆角矩形 12"/>
          <p:cNvSpPr/>
          <p:nvPr/>
        </p:nvSpPr>
        <p:spPr>
          <a:xfrm>
            <a:off x="406440" y="8352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线连接符 21"/>
          <p:cNvSpPr/>
          <p:nvPr/>
        </p:nvSpPr>
        <p:spPr>
          <a:xfrm flipV="1">
            <a:off x="366840" y="14760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200821612441429_2"/>
          <p:cNvPicPr/>
          <p:nvPr/>
        </p:nvPicPr>
        <p:blipFill>
          <a:blip r:embed="rId1"/>
          <a:stretch/>
        </p:blipFill>
        <p:spPr>
          <a:xfrm>
            <a:off x="755640" y="4498920"/>
            <a:ext cx="1865160" cy="17272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806400" y="1474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足球的表面是由黑色五边形和白色六边形皮围成的，黑色皮和白色皮块数的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 ∶ 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黑色皮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块，白色皮有多少块？一共有多少块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15880" y="37101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以前你知道吗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3768840" y="3710160"/>
            <a:ext cx="51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白色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÷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768840" y="4498920"/>
            <a:ext cx="44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一共：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＋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＝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32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块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同侧圆角矩形 9"/>
          <p:cNvSpPr/>
          <p:nvPr/>
        </p:nvSpPr>
        <p:spPr>
          <a:xfrm>
            <a:off x="406440" y="8352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线连接符 21"/>
          <p:cNvSpPr/>
          <p:nvPr/>
        </p:nvSpPr>
        <p:spPr>
          <a:xfrm flipV="1">
            <a:off x="366840" y="1476000"/>
            <a:ext cx="207144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282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AutoShape 27"/>
          <p:cNvSpPr/>
          <p:nvPr/>
        </p:nvSpPr>
        <p:spPr>
          <a:xfrm>
            <a:off x="5724360" y="1227240"/>
            <a:ext cx="2792520" cy="1554120"/>
          </a:xfrm>
          <a:prstGeom prst="wedgeRoundRectCallout">
            <a:avLst>
              <a:gd name="adj1" fmla="val -61912"/>
              <a:gd name="adj2" fmla="val -174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</a:t>
            </a:r>
            <a:r>
              <a:rPr b="0" lang="zh-CN" sz="2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找单位“</a:t>
            </a:r>
            <a:r>
              <a:rPr b="0" lang="en-US" sz="2200" spc="-1" strike="noStrike">
                <a:solidFill>
                  <a:srgbClr val="1c1c1c"/>
                </a:solidFill>
                <a:latin typeface="华文新魏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1c1c1c"/>
                </a:solidFill>
                <a:latin typeface="华文新魏"/>
                <a:ea typeface="华文新魏"/>
              </a:rPr>
              <a:t>”</a:t>
            </a:r>
            <a:r>
              <a:rPr b="0" lang="zh-CN" sz="2200" spc="-1" strike="noStrike">
                <a:solidFill>
                  <a:srgbClr val="1c1c1c"/>
                </a:solidFill>
                <a:latin typeface="华文新魏"/>
                <a:ea typeface="华文新魏"/>
              </a:rPr>
              <a:t>的方法是解答按比分配问题最常用的方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286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矩形 21"/>
          <p:cNvSpPr/>
          <p:nvPr/>
        </p:nvSpPr>
        <p:spPr>
          <a:xfrm>
            <a:off x="528480" y="3257640"/>
            <a:ext cx="8033040" cy="19227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按比分配问题的解题方法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整数乘、除法解决问题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一个总数按一定的比来分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各部分的比看作份数关系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先求出一份。解题步骤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①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出总份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②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出一份是多少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③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出各部分的数量。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分数乘法解决问题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各部分的比转化为总数的几分之几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直接求总数的几分之几是多少。解题步骤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①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出总份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②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出各部分量占总量的几分之几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;③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求出各部分的数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50800" y="1633680"/>
            <a:ext cx="828036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六年级一班男生人数和女生人数的比是 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 </a:t>
            </a:r>
            <a:r>
              <a:rPr b="0" lang="en-US" sz="3600" spc="-1" strike="noStrike">
                <a:solidFill>
                  <a:srgbClr val="4f81bd"/>
                </a:solidFill>
                <a:latin typeface="华文新魏"/>
                <a:ea typeface="华文新魏"/>
              </a:rPr>
              <a:t>∶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男生人数是女生人数的（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女生人数是男生人数的（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男生人数占全班人数的（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）女生人数占全班人数的（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6778800" y="2700360"/>
            <a:ext cx="624960" cy="973800"/>
            <a:chOff x="6778800" y="2700360"/>
            <a:chExt cx="624960" cy="973800"/>
          </a:xfrm>
        </p:grpSpPr>
        <p:grpSp>
          <p:nvGrpSpPr>
            <p:cNvPr id="60" name="Group 4"/>
            <p:cNvGrpSpPr/>
            <p:nvPr/>
          </p:nvGrpSpPr>
          <p:grpSpPr>
            <a:xfrm>
              <a:off x="6778800" y="2700360"/>
              <a:ext cx="624960" cy="973800"/>
              <a:chOff x="6778800" y="2700360"/>
              <a:chExt cx="624960" cy="973800"/>
            </a:xfrm>
          </p:grpSpPr>
          <p:sp>
            <p:nvSpPr>
              <p:cNvPr id="61" name="Text Box 5"/>
              <p:cNvSpPr/>
              <p:nvPr/>
            </p:nvSpPr>
            <p:spPr>
              <a:xfrm>
                <a:off x="6870600" y="270036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Text Box 6"/>
              <p:cNvSpPr/>
              <p:nvPr/>
            </p:nvSpPr>
            <p:spPr>
              <a:xfrm>
                <a:off x="6778800" y="30927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Line 7"/>
            <p:cNvSpPr/>
            <p:nvPr/>
          </p:nvSpPr>
          <p:spPr>
            <a:xfrm>
              <a:off x="6923160" y="3189240"/>
              <a:ext cx="380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6778800" y="3635280"/>
            <a:ext cx="624960" cy="973800"/>
            <a:chOff x="6778800" y="3635280"/>
            <a:chExt cx="624960" cy="973800"/>
          </a:xfrm>
        </p:grpSpPr>
        <p:grpSp>
          <p:nvGrpSpPr>
            <p:cNvPr id="65" name="Group 9"/>
            <p:cNvGrpSpPr/>
            <p:nvPr/>
          </p:nvGrpSpPr>
          <p:grpSpPr>
            <a:xfrm>
              <a:off x="6778800" y="3635280"/>
              <a:ext cx="624960" cy="973800"/>
              <a:chOff x="6778800" y="3635280"/>
              <a:chExt cx="624960" cy="973800"/>
            </a:xfrm>
          </p:grpSpPr>
          <p:sp>
            <p:nvSpPr>
              <p:cNvPr id="66" name="Text Box 10"/>
              <p:cNvSpPr/>
              <p:nvPr/>
            </p:nvSpPr>
            <p:spPr>
              <a:xfrm>
                <a:off x="6870600" y="363528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 Box 11"/>
              <p:cNvSpPr/>
              <p:nvPr/>
            </p:nvSpPr>
            <p:spPr>
              <a:xfrm>
                <a:off x="6778800" y="402768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Line 12"/>
            <p:cNvSpPr/>
            <p:nvPr/>
          </p:nvSpPr>
          <p:spPr>
            <a:xfrm>
              <a:off x="6923160" y="4124160"/>
              <a:ext cx="380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6729480" y="4500720"/>
            <a:ext cx="624960" cy="973440"/>
            <a:chOff x="6729480" y="4500720"/>
            <a:chExt cx="624960" cy="973440"/>
          </a:xfrm>
        </p:grpSpPr>
        <p:grpSp>
          <p:nvGrpSpPr>
            <p:cNvPr id="70" name="Group 14"/>
            <p:cNvGrpSpPr/>
            <p:nvPr/>
          </p:nvGrpSpPr>
          <p:grpSpPr>
            <a:xfrm>
              <a:off x="6729480" y="4500720"/>
              <a:ext cx="624960" cy="973440"/>
              <a:chOff x="6729480" y="4500720"/>
              <a:chExt cx="624960" cy="973440"/>
            </a:xfrm>
          </p:grpSpPr>
          <p:sp>
            <p:nvSpPr>
              <p:cNvPr id="71" name="Text Box 15"/>
              <p:cNvSpPr/>
              <p:nvPr/>
            </p:nvSpPr>
            <p:spPr>
              <a:xfrm>
                <a:off x="6821280" y="4500720"/>
                <a:ext cx="53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 Box 16"/>
              <p:cNvSpPr/>
              <p:nvPr/>
            </p:nvSpPr>
            <p:spPr>
              <a:xfrm>
                <a:off x="6729480" y="489276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" name="Line 17"/>
            <p:cNvSpPr/>
            <p:nvPr/>
          </p:nvSpPr>
          <p:spPr>
            <a:xfrm>
              <a:off x="6873840" y="4989240"/>
              <a:ext cx="3805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6657840" y="5508720"/>
            <a:ext cx="625680" cy="973440"/>
            <a:chOff x="6657840" y="5508720"/>
            <a:chExt cx="625680" cy="973440"/>
          </a:xfrm>
        </p:grpSpPr>
        <p:grpSp>
          <p:nvGrpSpPr>
            <p:cNvPr id="75" name="Group 19"/>
            <p:cNvGrpSpPr/>
            <p:nvPr/>
          </p:nvGrpSpPr>
          <p:grpSpPr>
            <a:xfrm>
              <a:off x="6657840" y="5508720"/>
              <a:ext cx="625680" cy="973440"/>
              <a:chOff x="6657840" y="5508720"/>
              <a:chExt cx="625680" cy="973440"/>
            </a:xfrm>
          </p:grpSpPr>
          <p:sp>
            <p:nvSpPr>
              <p:cNvPr id="76" name="Text Box 20"/>
              <p:cNvSpPr/>
              <p:nvPr/>
            </p:nvSpPr>
            <p:spPr>
              <a:xfrm>
                <a:off x="6750000" y="5508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xt Box 21"/>
              <p:cNvSpPr/>
              <p:nvPr/>
            </p:nvSpPr>
            <p:spPr>
              <a:xfrm>
                <a:off x="6657840" y="590076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" name="Line 22"/>
            <p:cNvSpPr/>
            <p:nvPr/>
          </p:nvSpPr>
          <p:spPr>
            <a:xfrm>
              <a:off x="6802560" y="5997240"/>
              <a:ext cx="380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同侧圆角矩形 22"/>
          <p:cNvSpPr/>
          <p:nvPr/>
        </p:nvSpPr>
        <p:spPr>
          <a:xfrm>
            <a:off x="468360" y="757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41408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48"/>
          <p:cNvPicPr/>
          <p:nvPr/>
        </p:nvPicPr>
        <p:blipFill>
          <a:blip r:embed="rId1"/>
          <a:stretch/>
        </p:blipFill>
        <p:spPr>
          <a:xfrm>
            <a:off x="1187280" y="1700280"/>
            <a:ext cx="6481800" cy="3681360"/>
          </a:xfrm>
          <a:prstGeom prst="rect">
            <a:avLst/>
          </a:prstGeom>
          <a:ln w="0">
            <a:noFill/>
          </a:ln>
        </p:spPr>
      </p:pic>
      <p:sp>
        <p:nvSpPr>
          <p:cNvPr id="82" name="同侧圆角矩形 2"/>
          <p:cNvSpPr/>
          <p:nvPr/>
        </p:nvSpPr>
        <p:spPr>
          <a:xfrm>
            <a:off x="468360" y="757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线连接符 21"/>
          <p:cNvSpPr/>
          <p:nvPr/>
        </p:nvSpPr>
        <p:spPr>
          <a:xfrm flipV="1">
            <a:off x="468360" y="141408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4"/>
          <p:cNvSpPr/>
          <p:nvPr/>
        </p:nvSpPr>
        <p:spPr>
          <a:xfrm>
            <a:off x="1619280" y="2174760"/>
            <a:ext cx="6192720" cy="3167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52760" y="256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工农业生产和日常生活中，有时并不是把一个数量平均分配的，而是按一定的比来进行分配。这种分配方法通常叫做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按比分配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同侧圆角矩形 4"/>
          <p:cNvSpPr/>
          <p:nvPr/>
        </p:nvSpPr>
        <p:spPr>
          <a:xfrm>
            <a:off x="468360" y="757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41408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89" name="Picture 7" descr="48"/>
          <p:cNvPicPr/>
          <p:nvPr/>
        </p:nvPicPr>
        <p:blipFill>
          <a:blip r:embed="rId1"/>
          <a:stretch/>
        </p:blipFill>
        <p:spPr>
          <a:xfrm>
            <a:off x="468360" y="1609560"/>
            <a:ext cx="4259160" cy="2475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8"/>
          <p:cNvGrpSpPr/>
          <p:nvPr/>
        </p:nvGrpSpPr>
        <p:grpSpPr>
          <a:xfrm>
            <a:off x="4827600" y="1685880"/>
            <a:ext cx="3651120" cy="1574640"/>
            <a:chOff x="4827600" y="1685880"/>
            <a:chExt cx="3651120" cy="1574640"/>
          </a:xfrm>
        </p:grpSpPr>
        <p:sp>
          <p:nvSpPr>
            <p:cNvPr id="91" name="Text Box 9"/>
            <p:cNvSpPr/>
            <p:nvPr/>
          </p:nvSpPr>
          <p:spPr>
            <a:xfrm>
              <a:off x="5927760" y="1685880"/>
              <a:ext cx="17272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500</a:t>
              </a: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毫升稀释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10"/>
            <p:cNvGrpSpPr/>
            <p:nvPr/>
          </p:nvGrpSpPr>
          <p:grpSpPr>
            <a:xfrm>
              <a:off x="4827600" y="2511360"/>
              <a:ext cx="863640" cy="704160"/>
              <a:chOff x="4827600" y="2511360"/>
              <a:chExt cx="863640" cy="704160"/>
            </a:xfrm>
          </p:grpSpPr>
          <p:sp>
            <p:nvSpPr>
              <p:cNvPr id="93" name="AutoShape 11"/>
              <p:cNvSpPr/>
              <p:nvPr/>
            </p:nvSpPr>
            <p:spPr>
              <a:xfrm flipV="1" rot="16200000">
                <a:off x="5117760" y="2259360"/>
                <a:ext cx="215280" cy="719280"/>
              </a:xfrm>
              <a:custGeom>
                <a:avLst/>
                <a:gdLst>
                  <a:gd name="textAreaLeft" fmla="*/ 137520 w 215280"/>
                  <a:gd name="textAreaRight" fmla="*/ 215640 w 215280"/>
                  <a:gd name="textAreaTop" fmla="*/ 18720 h 719280"/>
                  <a:gd name="textAreaBottom" fmla="*/ 700560 h 7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12"/>
              <p:cNvSpPr/>
              <p:nvPr/>
            </p:nvSpPr>
            <p:spPr>
              <a:xfrm>
                <a:off x="4827600" y="2634840"/>
                <a:ext cx="86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浓缩液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份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13"/>
            <p:cNvGrpSpPr/>
            <p:nvPr/>
          </p:nvGrpSpPr>
          <p:grpSpPr>
            <a:xfrm>
              <a:off x="4880160" y="2055600"/>
              <a:ext cx="3598560" cy="1204920"/>
              <a:chOff x="4880160" y="2055600"/>
              <a:chExt cx="3598560" cy="1204920"/>
            </a:xfrm>
          </p:grpSpPr>
          <p:grpSp>
            <p:nvGrpSpPr>
              <p:cNvPr id="96" name="Group 14"/>
              <p:cNvGrpSpPr/>
              <p:nvPr/>
            </p:nvGrpSpPr>
            <p:grpSpPr>
              <a:xfrm>
                <a:off x="4883040" y="2369160"/>
                <a:ext cx="3582720" cy="70920"/>
                <a:chOff x="4883040" y="2369160"/>
                <a:chExt cx="3582720" cy="70920"/>
              </a:xfrm>
            </p:grpSpPr>
            <p:grpSp>
              <p:nvGrpSpPr>
                <p:cNvPr id="97" name="Group 15"/>
                <p:cNvGrpSpPr/>
                <p:nvPr/>
              </p:nvGrpSpPr>
              <p:grpSpPr>
                <a:xfrm>
                  <a:off x="4883040" y="2369160"/>
                  <a:ext cx="718920" cy="70920"/>
                  <a:chOff x="4883040" y="2369160"/>
                  <a:chExt cx="718920" cy="70920"/>
                </a:xfrm>
              </p:grpSpPr>
              <p:sp>
                <p:nvSpPr>
                  <p:cNvPr id="98" name="Line 16"/>
                  <p:cNvSpPr/>
                  <p:nvPr/>
                </p:nvSpPr>
                <p:spPr>
                  <a:xfrm>
                    <a:off x="4883040" y="244008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" name="Line 17"/>
                  <p:cNvSpPr/>
                  <p:nvPr/>
                </p:nvSpPr>
                <p:spPr>
                  <a:xfrm>
                    <a:off x="4883040" y="236916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0" name="Group 18"/>
                <p:cNvGrpSpPr/>
                <p:nvPr/>
              </p:nvGrpSpPr>
              <p:grpSpPr>
                <a:xfrm>
                  <a:off x="5597280" y="2369160"/>
                  <a:ext cx="718920" cy="70920"/>
                  <a:chOff x="5597280" y="2369160"/>
                  <a:chExt cx="718920" cy="70920"/>
                </a:xfrm>
              </p:grpSpPr>
              <p:sp>
                <p:nvSpPr>
                  <p:cNvPr id="101" name="Line 19"/>
                  <p:cNvSpPr/>
                  <p:nvPr/>
                </p:nvSpPr>
                <p:spPr>
                  <a:xfrm>
                    <a:off x="5597280" y="244008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" name="Line 20"/>
                  <p:cNvSpPr/>
                  <p:nvPr/>
                </p:nvSpPr>
                <p:spPr>
                  <a:xfrm>
                    <a:off x="5597280" y="236916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3" name="Group 21"/>
                <p:cNvGrpSpPr/>
                <p:nvPr/>
              </p:nvGrpSpPr>
              <p:grpSpPr>
                <a:xfrm>
                  <a:off x="6311880" y="2369160"/>
                  <a:ext cx="718920" cy="70920"/>
                  <a:chOff x="6311880" y="2369160"/>
                  <a:chExt cx="718920" cy="70920"/>
                </a:xfrm>
              </p:grpSpPr>
              <p:sp>
                <p:nvSpPr>
                  <p:cNvPr id="104" name="Line 22"/>
                  <p:cNvSpPr/>
                  <p:nvPr/>
                </p:nvSpPr>
                <p:spPr>
                  <a:xfrm>
                    <a:off x="6311880" y="244008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" name="Line 23"/>
                  <p:cNvSpPr/>
                  <p:nvPr/>
                </p:nvSpPr>
                <p:spPr>
                  <a:xfrm>
                    <a:off x="6311880" y="236916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6" name="Group 24"/>
                <p:cNvGrpSpPr/>
                <p:nvPr/>
              </p:nvGrpSpPr>
              <p:grpSpPr>
                <a:xfrm>
                  <a:off x="7030800" y="2369160"/>
                  <a:ext cx="718920" cy="70920"/>
                  <a:chOff x="7030800" y="2369160"/>
                  <a:chExt cx="718920" cy="70920"/>
                </a:xfrm>
              </p:grpSpPr>
              <p:sp>
                <p:nvSpPr>
                  <p:cNvPr id="107" name="Line 25"/>
                  <p:cNvSpPr/>
                  <p:nvPr/>
                </p:nvSpPr>
                <p:spPr>
                  <a:xfrm>
                    <a:off x="7030800" y="244008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Line 26"/>
                  <p:cNvSpPr/>
                  <p:nvPr/>
                </p:nvSpPr>
                <p:spPr>
                  <a:xfrm>
                    <a:off x="7030800" y="236916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09" name="Group 27"/>
                <p:cNvGrpSpPr/>
                <p:nvPr/>
              </p:nvGrpSpPr>
              <p:grpSpPr>
                <a:xfrm>
                  <a:off x="7746840" y="2369160"/>
                  <a:ext cx="718920" cy="70920"/>
                  <a:chOff x="7746840" y="2369160"/>
                  <a:chExt cx="718920" cy="70920"/>
                </a:xfrm>
              </p:grpSpPr>
              <p:sp>
                <p:nvSpPr>
                  <p:cNvPr id="110" name="Line 28"/>
                  <p:cNvSpPr/>
                  <p:nvPr/>
                </p:nvSpPr>
                <p:spPr>
                  <a:xfrm>
                    <a:off x="7746840" y="244008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9"/>
                  <p:cNvSpPr/>
                  <p:nvPr/>
                </p:nvSpPr>
                <p:spPr>
                  <a:xfrm>
                    <a:off x="7746840" y="2369160"/>
                    <a:ext cx="0" cy="7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2" name="Line 30"/>
                <p:cNvSpPr/>
                <p:nvPr/>
              </p:nvSpPr>
              <p:spPr>
                <a:xfrm>
                  <a:off x="8461080" y="2369160"/>
                  <a:ext cx="0" cy="7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3" name="AutoShape 31"/>
              <p:cNvSpPr/>
              <p:nvPr/>
            </p:nvSpPr>
            <p:spPr>
              <a:xfrm rot="5400000">
                <a:off x="6571800" y="363600"/>
                <a:ext cx="215280" cy="3598560"/>
              </a:xfrm>
              <a:custGeom>
                <a:avLst/>
                <a:gdLst>
                  <a:gd name="textAreaLeft" fmla="*/ 137520 w 215280"/>
                  <a:gd name="textAreaRight" fmla="*/ 215640 w 215280"/>
                  <a:gd name="textAreaTop" fmla="*/ 93600 h 3598560"/>
                  <a:gd name="textAreaBottom" fmla="*/ 3504960 h 359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utoShape 32"/>
              <p:cNvSpPr/>
              <p:nvPr/>
            </p:nvSpPr>
            <p:spPr>
              <a:xfrm flipV="1" rot="16200000">
                <a:off x="6918120" y="1195560"/>
                <a:ext cx="215280" cy="2879640"/>
              </a:xfrm>
              <a:custGeom>
                <a:avLst/>
                <a:gdLst>
                  <a:gd name="textAreaLeft" fmla="*/ 137520 w 215280"/>
                  <a:gd name="textAreaRight" fmla="*/ 215640 w 215280"/>
                  <a:gd name="textAreaTop" fmla="*/ 74880 h 2879640"/>
                  <a:gd name="textAreaBottom" fmla="*/ 2804760 h 28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 Box 33"/>
              <p:cNvSpPr/>
              <p:nvPr/>
            </p:nvSpPr>
            <p:spPr>
              <a:xfrm>
                <a:off x="6604200" y="2679840"/>
                <a:ext cx="863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水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4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份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" name="Rectangle 34"/>
          <p:cNvSpPr/>
          <p:nvPr/>
        </p:nvSpPr>
        <p:spPr>
          <a:xfrm>
            <a:off x="1908000" y="2060640"/>
            <a:ext cx="172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同侧圆角矩形 35"/>
          <p:cNvSpPr/>
          <p:nvPr/>
        </p:nvSpPr>
        <p:spPr>
          <a:xfrm>
            <a:off x="468360" y="757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线连接符 21"/>
          <p:cNvSpPr/>
          <p:nvPr/>
        </p:nvSpPr>
        <p:spPr>
          <a:xfrm flipV="1">
            <a:off x="468360" y="141408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23800" y="4316400"/>
            <a:ext cx="3888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一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份数：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份是：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÷5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L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浓缩液有：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×1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L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有：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×4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L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4745160" y="4400640"/>
            <a:ext cx="4319640" cy="1807200"/>
            <a:chOff x="4745160" y="4400640"/>
            <a:chExt cx="4319640" cy="1807200"/>
          </a:xfrm>
        </p:grpSpPr>
        <p:sp>
          <p:nvSpPr>
            <p:cNvPr id="121" name="Text Box 10"/>
            <p:cNvSpPr/>
            <p:nvPr/>
          </p:nvSpPr>
          <p:spPr>
            <a:xfrm>
              <a:off x="4745160" y="4400640"/>
              <a:ext cx="431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方法二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①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总份数：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＋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②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浓缩液有：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500×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mL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③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水有：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0×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＝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00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mL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2" name="Group 11"/>
            <p:cNvGrpSpPr/>
            <p:nvPr/>
          </p:nvGrpSpPr>
          <p:grpSpPr>
            <a:xfrm>
              <a:off x="6878880" y="5061240"/>
              <a:ext cx="530280" cy="745200"/>
              <a:chOff x="6878880" y="5061240"/>
              <a:chExt cx="530280" cy="745200"/>
            </a:xfrm>
          </p:grpSpPr>
          <p:sp>
            <p:nvSpPr>
              <p:cNvPr id="123" name="Text Box 12"/>
              <p:cNvSpPr/>
              <p:nvPr/>
            </p:nvSpPr>
            <p:spPr>
              <a:xfrm>
                <a:off x="6904080" y="53834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Text Box 13"/>
              <p:cNvSpPr/>
              <p:nvPr/>
            </p:nvSpPr>
            <p:spPr>
              <a:xfrm>
                <a:off x="6878880" y="5061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4"/>
              <p:cNvSpPr/>
              <p:nvPr/>
            </p:nvSpPr>
            <p:spPr>
              <a:xfrm>
                <a:off x="6923160" y="54468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" name="Group 15"/>
            <p:cNvGrpSpPr/>
            <p:nvPr/>
          </p:nvGrpSpPr>
          <p:grpSpPr>
            <a:xfrm>
              <a:off x="6458040" y="5477040"/>
              <a:ext cx="504720" cy="730800"/>
              <a:chOff x="6458040" y="5477040"/>
              <a:chExt cx="504720" cy="730800"/>
            </a:xfrm>
          </p:grpSpPr>
          <p:sp>
            <p:nvSpPr>
              <p:cNvPr id="127" name="Text Box 16"/>
              <p:cNvSpPr/>
              <p:nvPr/>
            </p:nvSpPr>
            <p:spPr>
              <a:xfrm>
                <a:off x="6458040" y="57848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Text Box 17"/>
              <p:cNvSpPr/>
              <p:nvPr/>
            </p:nvSpPr>
            <p:spPr>
              <a:xfrm>
                <a:off x="6461280" y="5477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496200" y="58485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3"/>
          <p:cNvSpPr/>
          <p:nvPr/>
        </p:nvSpPr>
        <p:spPr>
          <a:xfrm>
            <a:off x="1042920" y="0"/>
            <a:ext cx="6697800" cy="64533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D013s"/>
          <p:cNvPicPr/>
          <p:nvPr/>
        </p:nvPicPr>
        <p:blipFill>
          <a:blip r:embed="rId1"/>
          <a:stretch/>
        </p:blipFill>
        <p:spPr>
          <a:xfrm>
            <a:off x="7667640" y="4941720"/>
            <a:ext cx="1104840" cy="1505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843280" y="7081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什么，有多少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6"/>
          <p:cNvSpPr/>
          <p:nvPr/>
        </p:nvSpPr>
        <p:spPr>
          <a:xfrm rot="16200000">
            <a:off x="4102560" y="95400"/>
            <a:ext cx="71640" cy="2448000"/>
          </a:xfrm>
          <a:custGeom>
            <a:avLst/>
            <a:gdLst>
              <a:gd name="textAreaLeft" fmla="*/ 45720 w 71640"/>
              <a:gd name="textAreaRight" fmla="*/ 72000 w 7164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853440" y="14270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数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282920" y="200340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858840" y="2363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708360" y="29401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（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（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3361320" y="4019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平均分的总份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474920" y="53164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求出每份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5082480" y="5316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分数乘法求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4356000" y="351648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3130560" y="466884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5435640" y="4740120"/>
            <a:ext cx="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859200" y="4740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Calibri"/>
                <a:ea typeface="楷体_GB2312"/>
              </a:rPr>
              <a:t>转化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900840" y="1668960"/>
            <a:ext cx="10335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决按比分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的一般步骤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隶书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482920" y="585000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忘了检验做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同侧圆角矩形 18"/>
          <p:cNvSpPr/>
          <p:nvPr/>
        </p:nvSpPr>
        <p:spPr>
          <a:xfrm>
            <a:off x="468360" y="7570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8360" y="141408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231920" y="2852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长方体的棱长和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、宽、高的比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∶3∶2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的表面积是多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1"/>
          <p:cNvSpPr/>
          <p:nvPr/>
        </p:nvSpPr>
        <p:spPr>
          <a:xfrm>
            <a:off x="1278000" y="2649600"/>
            <a:ext cx="6985080" cy="9471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的棱长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是长、宽、高和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以求出长、宽、高的和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÷4=18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因为长、宽、高的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∶3∶2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∶3∶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配可以求出长方体的长、宽、高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方体的表面积也就可以求出来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4:39:17Z</dcterms:created>
  <dc:creator/>
  <dc:description/>
  <dc:language>en-US</dc:language>
  <cp:lastModifiedBy/>
  <dcterms:modified xsi:type="dcterms:W3CDTF">2016-11-07T10:43:48Z</dcterms:modified>
  <cp:revision>0</cp:revision>
  <dc:subject/>
  <dc:title/>
</cp:coreProperties>
</file>