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39.wmf" ContentType="image/x-wmf"/>
  <Override PartName="/ppt/media/image34.wmf" ContentType="image/x-wmf"/>
  <Override PartName="/ppt/media/image35.wmf" ContentType="image/x-wmf"/>
  <Override PartName="/ppt/media/image41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12.png" ContentType="image/png"/>
  <Override PartName="/ppt/media/image40.wmf" ContentType="image/x-wmf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42.wmf" ContentType="image/x-wmf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  <p:sldId id="28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slide" Target="slides/slide2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29696-89F4-44C5-8FDD-750AD7B673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74AF0-F5F8-4BBC-A053-67D1E64E473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65092-856A-4FEC-8375-ABEED114C97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79801-FD51-4C40-A3A5-9962C98F759F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452-437C-4079-B801-E6E3549C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724-7631-4673-A0BD-F54766E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097-6610-4185-A406-EE65A26B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74A-72B7-46B5-978D-6493F0C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257-AB78-4DFC-99B9-88CB011E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D375-7624-42FD-8746-B32CBD9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833F-3DD0-423B-B190-692A4E28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66D-8EFB-4440-AED6-5A174008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9BBC-E3C5-40CD-9D9F-C86CE04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CA61-D2FF-409F-AA53-2560CD8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F4FB-3D47-4F08-A9D8-F02D0A1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DBE-A8B8-432D-A351-56C3A40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D51B-2FF5-4767-BA8C-2E836F87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B521-0723-47EF-BB0F-6254465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9155-6D43-4978-AFFD-882D7AA7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6CC-BB83-43D3-A695-1BB3E2F0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D71D-4BA9-4117-9006-9767B00E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521D-0DD5-4A5F-8562-162F282D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C94B-322D-442A-87D8-F0A04F93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2366-F8AB-4067-AF2C-783074F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2262-514B-432D-8884-18B1513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BB44-04A0-4767-B3DA-6F781C24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81C-35C7-4A85-B3AB-1068449F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FF8D-3876-4D8A-9B39-CB66814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BFB4-D7FF-4B0E-B0D9-95F9489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27B4-01E3-45A9-B437-4042690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E2EB-C3B5-4420-B3DB-6B984EA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5EA4-3C89-436A-B13C-DCE62019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C963-F8F8-4524-94EE-CA8316FE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600A-90ED-46A6-8996-975B40DE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BC84-63FA-4CDC-8DB6-D42C6A0F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230C-F776-40CA-9AA7-F053D2FF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6AD0-762D-4B7A-A812-CDB75FF9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71F-0DB7-4074-8D0F-1F7D1A2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0839-1EE7-4CF1-95E7-89AA14D5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B68F-B987-40D4-9CC3-1EA2261C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D851-AA70-48E8-B06A-A7AFB3E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0AC5-0945-4609-8AF4-35E29D1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D285-4B7B-44BA-8C70-8A08EE2D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34A1-B794-42E4-911C-07893333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978D-8103-4371-A2EA-2E79D58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81A7-C0CF-4140-945E-3C0FEF61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FF77-23D6-428B-8E83-564346BA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2063-CDD5-4890-AAB1-166B9320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7D4-728C-45E5-B074-80B117F8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67D6-24D3-4A14-A274-6D4BC36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DF14-500E-4BBB-8509-7E770AF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A5B0-901D-4667-BA24-0BB4827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1B88E-003E-4EC1-9810-2587BC9B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B947-B63E-482D-BB24-6EC798C2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0FD8-6F09-4A52-B579-C1165CD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A0F77-DC16-491E-8326-3E26821C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7944-B94F-47E4-9CBC-42766C67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666B-3FD5-4ED1-8AA2-2B61837C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1550-E6CE-4DFA-9276-BA24A77D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686-5EAB-428E-8FE3-7797BF5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60D7-06A6-45E6-92E5-6F37CC08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00692-602A-4085-BA1A-E22D0845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2A2B-34B9-45F0-B120-783E0235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5AEB-9A66-4410-B3C1-84F2A5D4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051E-CD37-402A-B7A6-A23939C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6F5C-4733-4261-AC1A-2B864A4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835FE-D6E1-4D89-9F73-2D7A7AE1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2C49-68B6-4F3C-8EAF-7D56C83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CFA1-C3EE-4E12-A47C-12F335F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F30C-9291-4FB3-B541-D33565D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309-50EA-41C7-9B25-079B1F8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15BF-5BDD-4F68-B466-691C172E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424A-9D6C-41EB-ACBC-6CDF28E7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CCF0A-A370-4A35-8ABD-C669B106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7556D-9435-4D6D-8E62-468CA442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DF0F0-7822-49B6-9C46-A8A06F5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FB212-1EDB-4C19-A49C-37DEC0B9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8F28-E120-4798-9701-D4CA6DD8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43A5-7322-4388-93C4-FD839173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AE81-6DA9-4B9A-B8B0-E3B791D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FE50-4A4C-46A7-BB41-E3628A1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10D-5969-4229-B565-699149C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D5897-7D38-4DC5-9FEF-528422C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64F5-F968-45AA-9285-89F73B8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1714-0B51-44FF-943B-4D0DEF8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3F7F-6CCA-4902-A9CB-0883733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CBC6E-A82C-4CCD-9CD0-BD938235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165-81E0-4EAE-A290-2775F93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E67A4-11B0-44BD-B8D9-E3E0C8431820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5C4FD-EEEC-450B-AFEF-B62249F3F1C3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EE980-DD2E-43B9-B731-D4F3312548EA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B6BC9-9413-44DF-8B25-1BB907D8BD6D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C8690-786F-47BF-BB43-046469ECA7C5}" type="slidenum">
              <a:rPr b="0" lang="zh-CN" sz="1000" spc="-1" strike="noStrike">
                <a:solidFill>
                  <a:srgbClr val="637052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C247D-3DBA-4B43-80CF-8928EE569958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675BC-E5CE-4318-B84E-5CE78A2415A8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image" Target="../media/image18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1047600" y="2852640"/>
            <a:ext cx="5168880" cy="3524400"/>
          </a:xfrm>
          <a:prstGeom prst="rect">
            <a:avLst/>
          </a:prstGeom>
          <a:ln w="0">
            <a:noFill/>
          </a:ln>
        </p:spPr>
      </p:pic>
      <p:sp>
        <p:nvSpPr>
          <p:cNvPr id="1378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直线连接符 21"/>
          <p:cNvSpPr/>
          <p:nvPr/>
        </p:nvSpPr>
        <p:spPr>
          <a:xfrm flipV="1">
            <a:off x="4284720" y="3455640"/>
            <a:ext cx="3311640" cy="284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矩形 6"/>
          <p:cNvSpPr/>
          <p:nvPr/>
        </p:nvSpPr>
        <p:spPr>
          <a:xfrm>
            <a:off x="4284720" y="262404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扇  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1529" name="同侧圆角矩形 1"/>
          <p:cNvGrpSpPr/>
          <p:nvPr/>
        </p:nvGrpSpPr>
        <p:grpSpPr>
          <a:xfrm>
            <a:off x="480960" y="1225440"/>
            <a:ext cx="2000160" cy="510840"/>
            <a:chOff x="480960" y="1225440"/>
            <a:chExt cx="2000160" cy="510840"/>
          </a:xfrm>
        </p:grpSpPr>
        <p:pic>
          <p:nvPicPr>
            <p:cNvPr id="1530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80960" y="1225440"/>
              <a:ext cx="20001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"/>
            <p:cNvSpPr/>
            <p:nvPr/>
          </p:nvSpPr>
          <p:spPr>
            <a:xfrm>
              <a:off x="506520" y="1248840"/>
              <a:ext cx="1949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2" name="直线连接符 21"/>
          <p:cNvSpPr/>
          <p:nvPr/>
        </p:nvSpPr>
        <p:spPr>
          <a:xfrm flipV="1">
            <a:off x="539640" y="178092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3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3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5" name="矩形 3"/>
          <p:cNvSpPr/>
          <p:nvPr/>
        </p:nvSpPr>
        <p:spPr>
          <a:xfrm>
            <a:off x="1468440" y="2463840"/>
            <a:ext cx="57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一张边长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正方形纸上画一个最大的扇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1537" name="同侧圆角矩形 1"/>
          <p:cNvGrpSpPr/>
          <p:nvPr/>
        </p:nvGrpSpPr>
        <p:grpSpPr>
          <a:xfrm>
            <a:off x="469800" y="1116000"/>
            <a:ext cx="1998720" cy="510840"/>
            <a:chOff x="469800" y="1116000"/>
            <a:chExt cx="1998720" cy="510840"/>
          </a:xfrm>
        </p:grpSpPr>
        <p:pic>
          <p:nvPicPr>
            <p:cNvPr id="1538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1600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9" name=""/>
            <p:cNvSpPr/>
            <p:nvPr/>
          </p:nvSpPr>
          <p:spPr>
            <a:xfrm>
              <a:off x="495360" y="113796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1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21"/>
          <p:cNvSpPr/>
          <p:nvPr/>
        </p:nvSpPr>
        <p:spPr>
          <a:xfrm>
            <a:off x="1258920" y="2649600"/>
            <a:ext cx="6985080" cy="137376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扇形是由两条半径和圆上的一段弧线组成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边长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正方形中画一个最大的扇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考虑扇形的圆心角要最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需要以正方形的一个顶点为圆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边长为半径作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就可以找到最大的扇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546" name="同侧圆角矩形 15"/>
          <p:cNvGrpSpPr/>
          <p:nvPr/>
        </p:nvGrpSpPr>
        <p:grpSpPr>
          <a:xfrm>
            <a:off x="487440" y="1109520"/>
            <a:ext cx="2006640" cy="510840"/>
            <a:chOff x="487440" y="1109520"/>
            <a:chExt cx="2006640" cy="510840"/>
          </a:xfrm>
        </p:grpSpPr>
        <p:pic>
          <p:nvPicPr>
            <p:cNvPr id="1547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87440" y="1109520"/>
              <a:ext cx="200664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"/>
            <p:cNvSpPr/>
            <p:nvPr/>
          </p:nvSpPr>
          <p:spPr>
            <a:xfrm>
              <a:off x="51588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0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ext Box 23"/>
          <p:cNvSpPr/>
          <p:nvPr/>
        </p:nvSpPr>
        <p:spPr>
          <a:xfrm>
            <a:off x="3379680" y="4892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d582c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bd582c"/>
                </a:solidFill>
                <a:latin typeface="华文新魏"/>
                <a:ea typeface="华文新魏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RL25.eps" descr="id:2147507626;FounderCES"/>
          <p:cNvPicPr/>
          <p:nvPr/>
        </p:nvPicPr>
        <p:blipFill>
          <a:blip r:embed="rId4"/>
          <a:stretch/>
        </p:blipFill>
        <p:spPr>
          <a:xfrm>
            <a:off x="3106800" y="2781360"/>
            <a:ext cx="2201760" cy="21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1555" name="同侧圆角矩形 1"/>
          <p:cNvGrpSpPr/>
          <p:nvPr/>
        </p:nvGrpSpPr>
        <p:grpSpPr>
          <a:xfrm>
            <a:off x="469800" y="1047600"/>
            <a:ext cx="1998720" cy="512640"/>
            <a:chOff x="469800" y="1047600"/>
            <a:chExt cx="1998720" cy="512640"/>
          </a:xfrm>
        </p:grpSpPr>
        <p:pic>
          <p:nvPicPr>
            <p:cNvPr id="1556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047600"/>
              <a:ext cx="19987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7" name=""/>
            <p:cNvSpPr/>
            <p:nvPr/>
          </p:nvSpPr>
          <p:spPr>
            <a:xfrm>
              <a:off x="493560" y="10713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6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61" name="矩形 3"/>
          <p:cNvSpPr/>
          <p:nvPr/>
        </p:nvSpPr>
        <p:spPr>
          <a:xfrm>
            <a:off x="1116000" y="195732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一把扇子的扇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带有绘画的纸质部分看成一个半圆形的扇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它的面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2" name="RL23.eps" descr="id:2147507589;FounderCES"/>
          <p:cNvPicPr/>
          <p:nvPr/>
        </p:nvPicPr>
        <p:blipFill>
          <a:blip r:embed="rId4"/>
          <a:stretch/>
        </p:blipFill>
        <p:spPr>
          <a:xfrm>
            <a:off x="2987640" y="3576600"/>
            <a:ext cx="35416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1564" name="同侧圆角矩形 1"/>
          <p:cNvGrpSpPr/>
          <p:nvPr/>
        </p:nvGrpSpPr>
        <p:grpSpPr>
          <a:xfrm>
            <a:off x="469800" y="1090440"/>
            <a:ext cx="1998720" cy="512640"/>
            <a:chOff x="469800" y="1090440"/>
            <a:chExt cx="1998720" cy="512640"/>
          </a:xfrm>
        </p:grpSpPr>
        <p:pic>
          <p:nvPicPr>
            <p:cNvPr id="1565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090440"/>
              <a:ext cx="19987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6" name=""/>
            <p:cNvSpPr/>
            <p:nvPr/>
          </p:nvSpPr>
          <p:spPr>
            <a:xfrm>
              <a:off x="493560" y="11142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571" name="TextBox 21" descr=""/>
          <p:cNvPicPr/>
          <p:nvPr/>
        </p:nvPicPr>
        <p:blipFill>
          <a:blip r:embed="rId4"/>
          <a:stretch/>
        </p:blipFill>
        <p:spPr>
          <a:xfrm>
            <a:off x="1170000" y="2639880"/>
            <a:ext cx="668808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573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1574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9" name="Text Box 23" descr=""/>
          <p:cNvPicPr/>
          <p:nvPr/>
        </p:nvPicPr>
        <p:blipFill>
          <a:blip r:embed="rId4"/>
          <a:stretch/>
        </p:blipFill>
        <p:spPr>
          <a:xfrm>
            <a:off x="1731960" y="2651040"/>
            <a:ext cx="6199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651640" y="83520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158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83" name="矩形 10"/>
          <p:cNvSpPr/>
          <p:nvPr/>
        </p:nvSpPr>
        <p:spPr>
          <a:xfrm>
            <a:off x="1609560" y="182880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扇形是一把扇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顶点和圆心角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4" name="同侧圆角矩形 11"/>
          <p:cNvGrpSpPr/>
          <p:nvPr/>
        </p:nvGrpSpPr>
        <p:grpSpPr>
          <a:xfrm>
            <a:off x="450720" y="1109520"/>
            <a:ext cx="2006640" cy="510840"/>
            <a:chOff x="450720" y="1109520"/>
            <a:chExt cx="2006640" cy="510840"/>
          </a:xfrm>
        </p:grpSpPr>
        <p:pic>
          <p:nvPicPr>
            <p:cNvPr id="1585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450720" y="1109520"/>
              <a:ext cx="200664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6" name=""/>
            <p:cNvSpPr/>
            <p:nvPr/>
          </p:nvSpPr>
          <p:spPr>
            <a:xfrm>
              <a:off x="47952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矩形 1"/>
          <p:cNvSpPr/>
          <p:nvPr/>
        </p:nvSpPr>
        <p:spPr>
          <a:xfrm rot="18297600">
            <a:off x="6817680" y="378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矩形 13"/>
          <p:cNvSpPr/>
          <p:nvPr/>
        </p:nvSpPr>
        <p:spPr>
          <a:xfrm>
            <a:off x="4576680" y="225756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3" name="同侧圆角矩形 15"/>
          <p:cNvGrpSpPr/>
          <p:nvPr/>
        </p:nvGrpSpPr>
        <p:grpSpPr>
          <a:xfrm>
            <a:off x="469800" y="1109520"/>
            <a:ext cx="1998720" cy="510840"/>
            <a:chOff x="469800" y="1109520"/>
            <a:chExt cx="1998720" cy="510840"/>
          </a:xfrm>
        </p:grpSpPr>
        <p:pic>
          <p:nvPicPr>
            <p:cNvPr id="1594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0952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5" name=""/>
            <p:cNvSpPr/>
            <p:nvPr/>
          </p:nvSpPr>
          <p:spPr>
            <a:xfrm>
              <a:off x="493560" y="1131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598" name="矩形 19"/>
          <p:cNvSpPr/>
          <p:nvPr/>
        </p:nvSpPr>
        <p:spPr>
          <a:xfrm>
            <a:off x="1042920" y="28414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对扇形的概念理解不清。扇形的形状像把扇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每一个扇形都有一个顶点和一个圆心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顶点是扇形所在圆的圆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0" name="矩形 22"/>
          <p:cNvSpPr/>
          <p:nvPr/>
        </p:nvSpPr>
        <p:spPr>
          <a:xfrm>
            <a:off x="1835280" y="3882960"/>
            <a:ext cx="48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扇形是一把扇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顶点和圆心角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矩形 14"/>
          <p:cNvSpPr/>
          <p:nvPr/>
        </p:nvSpPr>
        <p:spPr>
          <a:xfrm>
            <a:off x="1609560" y="186372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扇形是一把扇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顶点和圆心角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1604" name="同侧圆角矩形 12"/>
          <p:cNvGrpSpPr/>
          <p:nvPr/>
        </p:nvGrpSpPr>
        <p:grpSpPr>
          <a:xfrm>
            <a:off x="469800" y="1116000"/>
            <a:ext cx="1998720" cy="510840"/>
            <a:chOff x="469800" y="1116000"/>
            <a:chExt cx="1998720" cy="510840"/>
          </a:xfrm>
        </p:grpSpPr>
        <p:pic>
          <p:nvPicPr>
            <p:cNvPr id="1605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111600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493560" y="11379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15"/>
          <p:cNvSpPr/>
          <p:nvPr/>
        </p:nvSpPr>
        <p:spPr>
          <a:xfrm rot="18297600">
            <a:off x="6246720" y="4483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矩形 20"/>
          <p:cNvSpPr/>
          <p:nvPr/>
        </p:nvSpPr>
        <p:spPr>
          <a:xfrm rot="18297600">
            <a:off x="5865840" y="2282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18"/>
          <p:cNvSpPr/>
          <p:nvPr/>
        </p:nvSpPr>
        <p:spPr>
          <a:xfrm>
            <a:off x="4572000" y="234144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矩形 21"/>
          <p:cNvSpPr/>
          <p:nvPr/>
        </p:nvSpPr>
        <p:spPr>
          <a:xfrm>
            <a:off x="4908600" y="431316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Text Box 3"/>
          <p:cNvSpPr/>
          <p:nvPr/>
        </p:nvSpPr>
        <p:spPr>
          <a:xfrm>
            <a:off x="2671920" y="105264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涂色的部分，哪些是扇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3" name="Picture 4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7856640" cy="19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4" name="Object 5"/>
          <p:cNvGraphicFramePr/>
          <p:nvPr/>
        </p:nvGraphicFramePr>
        <p:xfrm>
          <a:off x="755640" y="4076640"/>
          <a:ext cx="7777080" cy="20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076640"/>
                    <a:ext cx="7777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Text Box 6"/>
          <p:cNvSpPr/>
          <p:nvPr/>
        </p:nvSpPr>
        <p:spPr>
          <a:xfrm>
            <a:off x="3419640" y="3573360"/>
            <a:ext cx="5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Text Box 7"/>
          <p:cNvSpPr/>
          <p:nvPr/>
        </p:nvSpPr>
        <p:spPr>
          <a:xfrm>
            <a:off x="7405560" y="3581280"/>
            <a:ext cx="5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 Box 8"/>
          <p:cNvSpPr/>
          <p:nvPr/>
        </p:nvSpPr>
        <p:spPr>
          <a:xfrm>
            <a:off x="1428840" y="61009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 Box 9"/>
          <p:cNvSpPr/>
          <p:nvPr/>
        </p:nvSpPr>
        <p:spPr>
          <a:xfrm>
            <a:off x="1447920" y="35812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 Box 10"/>
          <p:cNvSpPr/>
          <p:nvPr/>
        </p:nvSpPr>
        <p:spPr>
          <a:xfrm>
            <a:off x="5481720" y="358128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Text Box 11"/>
          <p:cNvSpPr/>
          <p:nvPr/>
        </p:nvSpPr>
        <p:spPr>
          <a:xfrm>
            <a:off x="3419640" y="610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Text Box 12"/>
          <p:cNvSpPr/>
          <p:nvPr/>
        </p:nvSpPr>
        <p:spPr>
          <a:xfrm>
            <a:off x="5410080" y="6100920"/>
            <a:ext cx="3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Text Box 13"/>
          <p:cNvSpPr/>
          <p:nvPr/>
        </p:nvSpPr>
        <p:spPr>
          <a:xfrm>
            <a:off x="7426440" y="610092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4" name="同侧圆角矩形 13"/>
          <p:cNvGrpSpPr/>
          <p:nvPr/>
        </p:nvGrpSpPr>
        <p:grpSpPr>
          <a:xfrm>
            <a:off x="407880" y="963720"/>
            <a:ext cx="2000520" cy="510840"/>
            <a:chOff x="407880" y="963720"/>
            <a:chExt cx="2000520" cy="510840"/>
          </a:xfrm>
        </p:grpSpPr>
        <p:pic>
          <p:nvPicPr>
            <p:cNvPr id="1625" name="同侧圆角矩形 13" descr=""/>
            <p:cNvPicPr/>
            <p:nvPr/>
          </p:nvPicPr>
          <p:blipFill>
            <a:blip r:embed="rId4"/>
            <a:stretch/>
          </p:blipFill>
          <p:spPr>
            <a:xfrm>
              <a:off x="407880" y="963720"/>
              <a:ext cx="20005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6" name=""/>
            <p:cNvSpPr/>
            <p:nvPr/>
          </p:nvSpPr>
          <p:spPr>
            <a:xfrm>
              <a:off x="431640" y="985320"/>
              <a:ext cx="1949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7" name="直线连接符 21"/>
          <p:cNvSpPr/>
          <p:nvPr/>
        </p:nvSpPr>
        <p:spPr>
          <a:xfrm flipV="1">
            <a:off x="366840" y="147600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1" name="同侧圆角矩形 23"/>
          <p:cNvGrpSpPr/>
          <p:nvPr/>
        </p:nvGrpSpPr>
        <p:grpSpPr>
          <a:xfrm>
            <a:off x="450720" y="1238400"/>
            <a:ext cx="2000520" cy="517320"/>
            <a:chOff x="450720" y="1238400"/>
            <a:chExt cx="2000520" cy="517320"/>
          </a:xfrm>
        </p:grpSpPr>
        <p:pic>
          <p:nvPicPr>
            <p:cNvPr id="1382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1238400"/>
              <a:ext cx="20005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"/>
            <p:cNvSpPr/>
            <p:nvPr/>
          </p:nvSpPr>
          <p:spPr>
            <a:xfrm>
              <a:off x="477720" y="1265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rcRect l="0" t="9513" r="0" b="10535"/>
          <a:stretch/>
        </p:blipFill>
        <p:spPr>
          <a:xfrm>
            <a:off x="6526080" y="5094360"/>
            <a:ext cx="2016360" cy="11840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7"/>
          <p:cNvSpPr/>
          <p:nvPr/>
        </p:nvSpPr>
        <p:spPr>
          <a:xfrm>
            <a:off x="936720" y="307800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圆弧和圆心角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矩形 1"/>
          <p:cNvSpPr/>
          <p:nvPr/>
        </p:nvSpPr>
        <p:spPr>
          <a:xfrm>
            <a:off x="949320" y="17985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扇形的特征、扇形的组成部分、扇形与圆的关系、在圆中画扇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直线连接符 21"/>
          <p:cNvSpPr/>
          <p:nvPr/>
        </p:nvSpPr>
        <p:spPr>
          <a:xfrm flipV="1">
            <a:off x="484200" y="177948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6"/>
          <p:cNvSpPr/>
          <p:nvPr/>
        </p:nvSpPr>
        <p:spPr>
          <a:xfrm>
            <a:off x="949320" y="3976560"/>
            <a:ext cx="73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扇形的大小与圆心角的关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Text Box 3"/>
          <p:cNvSpPr/>
          <p:nvPr/>
        </p:nvSpPr>
        <p:spPr>
          <a:xfrm>
            <a:off x="2771640" y="1049400"/>
            <a:ext cx="52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哪些角是圆心角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9" name="Picture 4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7856640" cy="1923840"/>
          </a:xfrm>
          <a:prstGeom prst="rect">
            <a:avLst/>
          </a:prstGeom>
          <a:ln w="0">
            <a:noFill/>
          </a:ln>
        </p:spPr>
      </p:pic>
      <p:sp>
        <p:nvSpPr>
          <p:cNvPr id="1630" name="Text Box 5"/>
          <p:cNvSpPr/>
          <p:nvPr/>
        </p:nvSpPr>
        <p:spPr>
          <a:xfrm>
            <a:off x="7426440" y="3573360"/>
            <a:ext cx="5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 Box 6"/>
          <p:cNvSpPr/>
          <p:nvPr/>
        </p:nvSpPr>
        <p:spPr>
          <a:xfrm>
            <a:off x="1428840" y="61009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 Box 7"/>
          <p:cNvSpPr/>
          <p:nvPr/>
        </p:nvSpPr>
        <p:spPr>
          <a:xfrm>
            <a:off x="5481720" y="358128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 Box 8"/>
          <p:cNvSpPr/>
          <p:nvPr/>
        </p:nvSpPr>
        <p:spPr>
          <a:xfrm>
            <a:off x="3419640" y="610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 Box 9"/>
          <p:cNvSpPr/>
          <p:nvPr/>
        </p:nvSpPr>
        <p:spPr>
          <a:xfrm>
            <a:off x="5410080" y="6100920"/>
            <a:ext cx="3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 Box 10"/>
          <p:cNvSpPr/>
          <p:nvPr/>
        </p:nvSpPr>
        <p:spPr>
          <a:xfrm>
            <a:off x="7426440" y="610092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 Box 11"/>
          <p:cNvSpPr/>
          <p:nvPr/>
        </p:nvSpPr>
        <p:spPr>
          <a:xfrm rot="5400000">
            <a:off x="1852560" y="2491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 Box 12"/>
          <p:cNvSpPr/>
          <p:nvPr/>
        </p:nvSpPr>
        <p:spPr>
          <a:xfrm rot="5400000">
            <a:off x="3725640" y="242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Text Box 13"/>
          <p:cNvSpPr/>
          <p:nvPr/>
        </p:nvSpPr>
        <p:spPr>
          <a:xfrm rot="5400000">
            <a:off x="5391000" y="241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Text Box 14"/>
          <p:cNvSpPr/>
          <p:nvPr/>
        </p:nvSpPr>
        <p:spPr>
          <a:xfrm rot="12060000">
            <a:off x="7336440" y="2633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0" name="Object 15"/>
          <p:cNvGraphicFramePr/>
          <p:nvPr/>
        </p:nvGraphicFramePr>
        <p:xfrm>
          <a:off x="757080" y="4078440"/>
          <a:ext cx="7704360" cy="20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078440"/>
                    <a:ext cx="770436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2" name="Text Box 16"/>
          <p:cNvSpPr/>
          <p:nvPr/>
        </p:nvSpPr>
        <p:spPr>
          <a:xfrm rot="13020000">
            <a:off x="1136160" y="5091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Text Box 17"/>
          <p:cNvSpPr/>
          <p:nvPr/>
        </p:nvSpPr>
        <p:spPr>
          <a:xfrm rot="20460000">
            <a:off x="3304080" y="502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 Box 18"/>
          <p:cNvSpPr/>
          <p:nvPr/>
        </p:nvSpPr>
        <p:spPr>
          <a:xfrm rot="19980000">
            <a:off x="5552280" y="5085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Text Box 19"/>
          <p:cNvSpPr/>
          <p:nvPr/>
        </p:nvSpPr>
        <p:spPr>
          <a:xfrm>
            <a:off x="1447920" y="350208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Text Box 20"/>
          <p:cNvSpPr/>
          <p:nvPr/>
        </p:nvSpPr>
        <p:spPr>
          <a:xfrm>
            <a:off x="3348000" y="357336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7" name="同侧圆角矩形 20"/>
          <p:cNvGrpSpPr/>
          <p:nvPr/>
        </p:nvGrpSpPr>
        <p:grpSpPr>
          <a:xfrm>
            <a:off x="407880" y="981000"/>
            <a:ext cx="2000520" cy="512640"/>
            <a:chOff x="407880" y="981000"/>
            <a:chExt cx="2000520" cy="512640"/>
          </a:xfrm>
        </p:grpSpPr>
        <p:pic>
          <p:nvPicPr>
            <p:cNvPr id="1648" name="同侧圆角矩形 20" descr=""/>
            <p:cNvPicPr/>
            <p:nvPr/>
          </p:nvPicPr>
          <p:blipFill>
            <a:blip r:embed="rId4"/>
            <a:stretch/>
          </p:blipFill>
          <p:spPr>
            <a:xfrm>
              <a:off x="407880" y="981000"/>
              <a:ext cx="20005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9" name=""/>
            <p:cNvSpPr/>
            <p:nvPr/>
          </p:nvSpPr>
          <p:spPr>
            <a:xfrm>
              <a:off x="431640" y="1004400"/>
              <a:ext cx="1949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0" name="直线连接符 21"/>
          <p:cNvSpPr/>
          <p:nvPr/>
        </p:nvSpPr>
        <p:spPr>
          <a:xfrm flipV="1">
            <a:off x="366840" y="152856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Text Box 2"/>
          <p:cNvSpPr/>
          <p:nvPr/>
        </p:nvSpPr>
        <p:spPr>
          <a:xfrm>
            <a:off x="900000" y="1484280"/>
            <a:ext cx="7559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弧是圆上任意两点之间的线段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圆心角大的扇形面积大。（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顶点在圆心的角是圆心角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半径大的扇形面积大。 （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半圆也是一个扇形。 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圆心角为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扇形的面积是它所在圆的面积的  。        （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Text Box 3"/>
          <p:cNvSpPr/>
          <p:nvPr/>
        </p:nvSpPr>
        <p:spPr>
          <a:xfrm>
            <a:off x="927000" y="5029200"/>
            <a:ext cx="75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圆心角为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扇形的面积比圆心角为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扇形面积大。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3" name="Object 4"/>
              <p:cNvSpPr txBox="1"/>
              <p:nvPr/>
            </p:nvSpPr>
            <p:spPr>
              <a:xfrm>
                <a:off x="4113360" y="3321000"/>
                <a:ext cx="91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4" name="同侧圆角矩形 4"/>
          <p:cNvGrpSpPr/>
          <p:nvPr/>
        </p:nvGrpSpPr>
        <p:grpSpPr>
          <a:xfrm>
            <a:off x="401760" y="969840"/>
            <a:ext cx="2000160" cy="510840"/>
            <a:chOff x="401760" y="969840"/>
            <a:chExt cx="2000160" cy="510840"/>
          </a:xfrm>
        </p:grpSpPr>
        <p:pic>
          <p:nvPicPr>
            <p:cNvPr id="1655" name="同侧圆角矩形 4" descr=""/>
            <p:cNvPicPr/>
            <p:nvPr/>
          </p:nvPicPr>
          <p:blipFill>
            <a:blip r:embed="rId1"/>
            <a:stretch/>
          </p:blipFill>
          <p:spPr>
            <a:xfrm>
              <a:off x="401760" y="969840"/>
              <a:ext cx="20001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6" name=""/>
            <p:cNvSpPr/>
            <p:nvPr/>
          </p:nvSpPr>
          <p:spPr>
            <a:xfrm>
              <a:off x="426960" y="993240"/>
              <a:ext cx="1949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7" name="直线连接符 21"/>
          <p:cNvSpPr/>
          <p:nvPr/>
        </p:nvSpPr>
        <p:spPr>
          <a:xfrm flipV="1">
            <a:off x="366840" y="152676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Text Box 19"/>
          <p:cNvSpPr/>
          <p:nvPr/>
        </p:nvSpPr>
        <p:spPr>
          <a:xfrm>
            <a:off x="5940360" y="3141720"/>
            <a:ext cx="6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Text Box 19"/>
          <p:cNvSpPr/>
          <p:nvPr/>
        </p:nvSpPr>
        <p:spPr>
          <a:xfrm>
            <a:off x="5508720" y="364500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6335640" y="281772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Text Box 19"/>
          <p:cNvSpPr/>
          <p:nvPr/>
        </p:nvSpPr>
        <p:spPr>
          <a:xfrm>
            <a:off x="5999040" y="227664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Text Box 19"/>
          <p:cNvSpPr/>
          <p:nvPr/>
        </p:nvSpPr>
        <p:spPr>
          <a:xfrm>
            <a:off x="6966000" y="184464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 Box 19"/>
          <p:cNvSpPr/>
          <p:nvPr/>
        </p:nvSpPr>
        <p:spPr>
          <a:xfrm>
            <a:off x="3535200" y="4465800"/>
            <a:ext cx="6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 Box 19"/>
          <p:cNvSpPr/>
          <p:nvPr/>
        </p:nvSpPr>
        <p:spPr>
          <a:xfrm>
            <a:off x="4522680" y="550692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5" name="对象 2"/>
          <p:cNvGraphicFramePr/>
          <p:nvPr/>
        </p:nvGraphicFramePr>
        <p:xfrm>
          <a:off x="2050920" y="4670280"/>
          <a:ext cx="13968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6" name="对象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4670280"/>
                    <a:ext cx="139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1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Text Box 5"/>
          <p:cNvSpPr/>
          <p:nvPr/>
        </p:nvSpPr>
        <p:spPr>
          <a:xfrm>
            <a:off x="1547640" y="1628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下列各图阴影部分的面积和周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8" name="Object 6"/>
          <p:cNvGraphicFramePr/>
          <p:nvPr/>
        </p:nvGraphicFramePr>
        <p:xfrm>
          <a:off x="5148360" y="2924280"/>
          <a:ext cx="277020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924280"/>
                    <a:ext cx="277020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0" name="Object 7"/>
          <p:cNvGraphicFramePr/>
          <p:nvPr/>
        </p:nvGraphicFramePr>
        <p:xfrm>
          <a:off x="1403280" y="2924280"/>
          <a:ext cx="273708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24280"/>
                    <a:ext cx="2737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2" name="同侧圆角矩形 7"/>
          <p:cNvGrpSpPr/>
          <p:nvPr/>
        </p:nvGrpSpPr>
        <p:grpSpPr>
          <a:xfrm>
            <a:off x="365040" y="1090440"/>
            <a:ext cx="2000160" cy="519120"/>
            <a:chOff x="365040" y="1090440"/>
            <a:chExt cx="2000160" cy="519120"/>
          </a:xfrm>
        </p:grpSpPr>
        <p:pic>
          <p:nvPicPr>
            <p:cNvPr id="1673" name="同侧圆角矩形 7" descr=""/>
            <p:cNvPicPr/>
            <p:nvPr/>
          </p:nvPicPr>
          <p:blipFill>
            <a:blip r:embed="rId5"/>
            <a:stretch/>
          </p:blipFill>
          <p:spPr>
            <a:xfrm>
              <a:off x="365040" y="109044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4" name=""/>
            <p:cNvSpPr/>
            <p:nvPr/>
          </p:nvSpPr>
          <p:spPr>
            <a:xfrm>
              <a:off x="392040" y="111924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5" name="直线连接符 21"/>
          <p:cNvSpPr/>
          <p:nvPr/>
        </p:nvSpPr>
        <p:spPr>
          <a:xfrm flipV="1">
            <a:off x="366840" y="162360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4068720" y="2708280"/>
            <a:ext cx="4032000" cy="3096720"/>
            <a:chOff x="4068720" y="2708280"/>
            <a:chExt cx="4032000" cy="3096720"/>
          </a:xfrm>
        </p:grpSpPr>
        <mc:AlternateContent>
          <mc:Choice xmlns:a14="http://schemas.microsoft.com/office/drawing/2010/main" Requires="a14">
            <p:sp>
              <p:nvSpPr>
                <p:cNvPr id="1677" name="Object 3"/>
                <p:cNvSpPr txBox="1"/>
                <p:nvPr/>
              </p:nvSpPr>
              <p:spPr>
                <a:xfrm>
                  <a:off x="4068720" y="2708280"/>
                  <a:ext cx="2751480" cy="53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（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弧</m:t>
                          </m:r>
                        </m:sub>
                      </m:sSub>
                      <m:r>
                        <m:t xml:space="preserve">）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8" name="Object 4"/>
                <p:cNvSpPr txBox="1"/>
                <p:nvPr/>
              </p:nvSpPr>
              <p:spPr>
                <a:xfrm>
                  <a:off x="4614480" y="3120840"/>
                  <a:ext cx="2447280" cy="93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1679" name="Object 5"/>
            <p:cNvGraphicFramePr/>
            <p:nvPr/>
          </p:nvGraphicFramePr>
          <p:xfrm>
            <a:off x="4612680" y="3882960"/>
            <a:ext cx="3488040" cy="192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12680" y="3882960"/>
                      <a:ext cx="3488040" cy="192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81" name="Object 6"/>
          <p:cNvGraphicFramePr/>
          <p:nvPr/>
        </p:nvGraphicFramePr>
        <p:xfrm>
          <a:off x="684360" y="1917720"/>
          <a:ext cx="3022560" cy="28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17720"/>
                    <a:ext cx="30225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3" name="Group 7"/>
          <p:cNvGrpSpPr/>
          <p:nvPr/>
        </p:nvGrpSpPr>
        <p:grpSpPr>
          <a:xfrm>
            <a:off x="3348000" y="431640"/>
            <a:ext cx="4464000" cy="2277720"/>
            <a:chOff x="3348000" y="431640"/>
            <a:chExt cx="4464000" cy="2277720"/>
          </a:xfrm>
        </p:grpSpPr>
        <mc:AlternateContent>
          <mc:Choice xmlns:a14="http://schemas.microsoft.com/office/drawing/2010/main" Requires="a14">
            <p:sp>
              <p:nvSpPr>
                <p:cNvPr id="1684" name="Object 8"/>
                <p:cNvSpPr txBox="1"/>
                <p:nvPr/>
              </p:nvSpPr>
              <p:spPr>
                <a:xfrm>
                  <a:off x="3348000" y="431640"/>
                  <a:ext cx="4023000" cy="94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解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圆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正方形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85" name="Object 9"/>
            <p:cNvGraphicFramePr/>
            <p:nvPr/>
          </p:nvGraphicFramePr>
          <p:xfrm>
            <a:off x="4600440" y="1303560"/>
            <a:ext cx="3211560" cy="93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86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00440" y="1303560"/>
                      <a:ext cx="3211560" cy="93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87" name="Object 10"/>
                <p:cNvSpPr txBox="1"/>
                <p:nvPr/>
              </p:nvSpPr>
              <p:spPr>
                <a:xfrm>
                  <a:off x="4600440" y="2281680"/>
                  <a:ext cx="1485720" cy="42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π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8" name="Group 11"/>
          <p:cNvGrpSpPr/>
          <p:nvPr/>
        </p:nvGrpSpPr>
        <p:grpSpPr>
          <a:xfrm>
            <a:off x="612720" y="5864400"/>
            <a:ext cx="8352000" cy="581400"/>
            <a:chOff x="612720" y="5864400"/>
            <a:chExt cx="8352000" cy="581400"/>
          </a:xfrm>
        </p:grpSpPr>
        <p:sp>
          <p:nvSpPr>
            <p:cNvPr id="1689" name="Text Box 12"/>
            <p:cNvSpPr/>
            <p:nvPr/>
          </p:nvSpPr>
          <p:spPr>
            <a:xfrm>
              <a:off x="612720" y="5864400"/>
              <a:ext cx="83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答：阴影部分面积为                 ， 周长为             。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0" name="Object 13"/>
                <p:cNvSpPr txBox="1"/>
                <p:nvPr/>
              </p:nvSpPr>
              <p:spPr>
                <a:xfrm>
                  <a:off x="3851640" y="5901840"/>
                  <a:ext cx="1436760" cy="50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π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91" name="Object 14"/>
            <p:cNvGraphicFramePr/>
            <p:nvPr/>
          </p:nvGraphicFramePr>
          <p:xfrm>
            <a:off x="6731640" y="5888880"/>
            <a:ext cx="1439640" cy="52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92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31640" y="5888880"/>
                      <a:ext cx="1439640" cy="52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3" name="同侧圆角矩形 14"/>
          <p:cNvGrpSpPr/>
          <p:nvPr/>
        </p:nvGrpSpPr>
        <p:grpSpPr>
          <a:xfrm>
            <a:off x="384120" y="1090440"/>
            <a:ext cx="1998720" cy="519120"/>
            <a:chOff x="384120" y="1090440"/>
            <a:chExt cx="1998720" cy="519120"/>
          </a:xfrm>
        </p:grpSpPr>
        <p:pic>
          <p:nvPicPr>
            <p:cNvPr id="1694" name="同侧圆角矩形 14" descr=""/>
            <p:cNvPicPr/>
            <p:nvPr/>
          </p:nvPicPr>
          <p:blipFill>
            <a:blip r:embed="rId9"/>
            <a:stretch/>
          </p:blipFill>
          <p:spPr>
            <a:xfrm>
              <a:off x="384120" y="10904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5" name=""/>
            <p:cNvSpPr/>
            <p:nvPr/>
          </p:nvSpPr>
          <p:spPr>
            <a:xfrm>
              <a:off x="407880" y="111924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6" name="直线连接符 21"/>
          <p:cNvSpPr/>
          <p:nvPr/>
        </p:nvSpPr>
        <p:spPr>
          <a:xfrm flipV="1">
            <a:off x="33480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7" name="Object 2"/>
          <p:cNvGraphicFramePr/>
          <p:nvPr/>
        </p:nvGraphicFramePr>
        <p:xfrm>
          <a:off x="1187280" y="1628640"/>
          <a:ext cx="169236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169236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9" name="Group 3"/>
          <p:cNvGrpSpPr/>
          <p:nvPr/>
        </p:nvGrpSpPr>
        <p:grpSpPr>
          <a:xfrm>
            <a:off x="4125960" y="476280"/>
            <a:ext cx="4257720" cy="3501720"/>
            <a:chOff x="4125960" y="476280"/>
            <a:chExt cx="4257720" cy="3501720"/>
          </a:xfrm>
        </p:grpSpPr>
        <mc:AlternateContent>
          <mc:Choice xmlns:a14="http://schemas.microsoft.com/office/drawing/2010/main" Requires="a14">
            <p:sp>
              <p:nvSpPr>
                <p:cNvPr id="1700" name="Object 4"/>
                <p:cNvSpPr txBox="1"/>
                <p:nvPr/>
              </p:nvSpPr>
              <p:spPr>
                <a:xfrm>
                  <a:off x="4125960" y="476280"/>
                  <a:ext cx="3649680" cy="10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解：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大圆</m:t>
                          </m:r>
                        </m:sub>
                      </m:sSub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小圆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01" name="Object 5"/>
            <p:cNvGraphicFramePr/>
            <p:nvPr/>
          </p:nvGraphicFramePr>
          <p:xfrm>
            <a:off x="5346720" y="1441440"/>
            <a:ext cx="3036960" cy="95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2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46720" y="1441440"/>
                      <a:ext cx="303696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3" name="Object 6"/>
            <p:cNvGraphicFramePr/>
            <p:nvPr/>
          </p:nvGraphicFramePr>
          <p:xfrm>
            <a:off x="5491080" y="2317680"/>
            <a:ext cx="1595160" cy="96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91080" y="2317680"/>
                      <a:ext cx="159516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5" name="Object 7"/>
            <p:cNvGraphicFramePr/>
            <p:nvPr/>
          </p:nvGraphicFramePr>
          <p:xfrm>
            <a:off x="5209920" y="3024360"/>
            <a:ext cx="1176480" cy="95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06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9920" y="3024360"/>
                      <a:ext cx="1176480" cy="95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7" name="Group 8"/>
          <p:cNvGrpSpPr/>
          <p:nvPr/>
        </p:nvGrpSpPr>
        <p:grpSpPr>
          <a:xfrm>
            <a:off x="395280" y="3139920"/>
            <a:ext cx="6119640" cy="3600360"/>
            <a:chOff x="395280" y="3139920"/>
            <a:chExt cx="6119640" cy="3600360"/>
          </a:xfrm>
        </p:grpSpPr>
        <mc:AlternateContent>
          <mc:Choice xmlns:a14="http://schemas.microsoft.com/office/drawing/2010/main" Requires="a14">
            <p:sp>
              <p:nvSpPr>
                <p:cNvPr id="1708" name="Object 9"/>
                <p:cNvSpPr txBox="1"/>
                <p:nvPr/>
              </p:nvSpPr>
              <p:spPr>
                <a:xfrm>
                  <a:off x="395280" y="3139920"/>
                  <a:ext cx="3961080" cy="90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小圆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大圆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09" name="Object 10"/>
            <p:cNvGraphicFramePr/>
            <p:nvPr/>
          </p:nvGraphicFramePr>
          <p:xfrm>
            <a:off x="897840" y="3967560"/>
            <a:ext cx="5617080" cy="277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10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97840" y="3967560"/>
                      <a:ext cx="5617080" cy="277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11" name="Group 11"/>
          <p:cNvGrpSpPr/>
          <p:nvPr/>
        </p:nvGrpSpPr>
        <p:grpSpPr>
          <a:xfrm>
            <a:off x="3564000" y="5081760"/>
            <a:ext cx="4859280" cy="1349280"/>
            <a:chOff x="3564000" y="5081760"/>
            <a:chExt cx="4859280" cy="1349280"/>
          </a:xfrm>
        </p:grpSpPr>
        <p:grpSp>
          <p:nvGrpSpPr>
            <p:cNvPr id="1712" name="Group 12"/>
            <p:cNvGrpSpPr/>
            <p:nvPr/>
          </p:nvGrpSpPr>
          <p:grpSpPr>
            <a:xfrm>
              <a:off x="3564000" y="5081760"/>
              <a:ext cx="4837680" cy="585720"/>
              <a:chOff x="3564000" y="5081760"/>
              <a:chExt cx="4837680" cy="585720"/>
            </a:xfrm>
          </p:grpSpPr>
          <p:sp>
            <p:nvSpPr>
              <p:cNvPr id="1713" name="Text Box 13"/>
              <p:cNvSpPr/>
              <p:nvPr/>
            </p:nvSpPr>
            <p:spPr>
              <a:xfrm>
                <a:off x="3564000" y="5081760"/>
                <a:ext cx="4837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答：阴影部分的面积为      ，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aphicFrame>
            <p:nvGraphicFramePr>
              <p:cNvPr id="1714" name="Object 14"/>
              <p:cNvGraphicFramePr/>
              <p:nvPr/>
            </p:nvGraphicFramePr>
            <p:xfrm>
              <a:off x="7668360" y="5162760"/>
              <a:ext cx="649800" cy="504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15" name="Object 1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668360" y="5162760"/>
                        <a:ext cx="64980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716" name="Text Box 15"/>
            <p:cNvSpPr/>
            <p:nvPr/>
          </p:nvSpPr>
          <p:spPr>
            <a:xfrm>
              <a:off x="4190400" y="5658840"/>
              <a:ext cx="423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周长为            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717" name="Object 16"/>
            <p:cNvGraphicFramePr/>
            <p:nvPr/>
          </p:nvGraphicFramePr>
          <p:xfrm>
            <a:off x="5436000" y="5465520"/>
            <a:ext cx="1295640" cy="965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18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36000" y="5465520"/>
                      <a:ext cx="1295640" cy="96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19" name="同侧圆角矩形 16"/>
          <p:cNvGrpSpPr/>
          <p:nvPr/>
        </p:nvGrpSpPr>
        <p:grpSpPr>
          <a:xfrm>
            <a:off x="401760" y="1011240"/>
            <a:ext cx="2000160" cy="519120"/>
            <a:chOff x="401760" y="1011240"/>
            <a:chExt cx="2000160" cy="519120"/>
          </a:xfrm>
        </p:grpSpPr>
        <p:pic>
          <p:nvPicPr>
            <p:cNvPr id="1720" name="同侧圆角矩形 16" descr=""/>
            <p:cNvPicPr/>
            <p:nvPr/>
          </p:nvPicPr>
          <p:blipFill>
            <a:blip r:embed="rId15"/>
            <a:stretch/>
          </p:blipFill>
          <p:spPr>
            <a:xfrm>
              <a:off x="401760" y="101124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426960" y="10368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2" name="直线连接符 21"/>
          <p:cNvSpPr/>
          <p:nvPr/>
        </p:nvSpPr>
        <p:spPr>
          <a:xfrm flipV="1">
            <a:off x="366840" y="1528560"/>
            <a:ext cx="207144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同侧圆角矩形 12"/>
          <p:cNvGrpSpPr/>
          <p:nvPr/>
        </p:nvGrpSpPr>
        <p:grpSpPr>
          <a:xfrm>
            <a:off x="457200" y="1109520"/>
            <a:ext cx="2000160" cy="510840"/>
            <a:chOff x="457200" y="1109520"/>
            <a:chExt cx="2000160" cy="510840"/>
          </a:xfrm>
        </p:grpSpPr>
        <p:pic>
          <p:nvPicPr>
            <p:cNvPr id="1724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57200" y="1109520"/>
              <a:ext cx="200016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>
              <a:off x="48420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6" name="直线连接符 21"/>
          <p:cNvSpPr/>
          <p:nvPr/>
        </p:nvSpPr>
        <p:spPr>
          <a:xfrm flipV="1">
            <a:off x="468360" y="176508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7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1728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0" name="AutoShape 27"/>
          <p:cNvSpPr/>
          <p:nvPr/>
        </p:nvSpPr>
        <p:spPr>
          <a:xfrm>
            <a:off x="5848200" y="1622520"/>
            <a:ext cx="2792520" cy="1158840"/>
          </a:xfrm>
          <a:prstGeom prst="wedgeRoundRectCallout">
            <a:avLst>
              <a:gd name="adj1" fmla="val -61407"/>
              <a:gd name="adj2" fmla="val -33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成扇形的曲线叫做弧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弧所对的角叫做圆心角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1" name="Group 23"/>
          <p:cNvGrpSpPr/>
          <p:nvPr/>
        </p:nvGrpSpPr>
        <p:grpSpPr>
          <a:xfrm>
            <a:off x="3276720" y="1332000"/>
            <a:ext cx="2447280" cy="1871640"/>
            <a:chOff x="3276720" y="1332000"/>
            <a:chExt cx="2447280" cy="1871640"/>
          </a:xfrm>
        </p:grpSpPr>
        <p:pic>
          <p:nvPicPr>
            <p:cNvPr id="1732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33200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46088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4" name="矩形 21"/>
          <p:cNvSpPr/>
          <p:nvPr/>
        </p:nvSpPr>
        <p:spPr>
          <a:xfrm>
            <a:off x="612720" y="3532320"/>
            <a:ext cx="803268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由一条曲线和两条半径组成的图形就是扇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5" name="矩形 13" descr=""/>
          <p:cNvPicPr/>
          <p:nvPr/>
        </p:nvPicPr>
        <p:blipFill>
          <a:blip r:embed="rId4"/>
          <a:stretch/>
        </p:blipFill>
        <p:spPr>
          <a:xfrm>
            <a:off x="542880" y="4290840"/>
            <a:ext cx="8034480" cy="10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组合 6"/>
          <p:cNvGrpSpPr/>
          <p:nvPr/>
        </p:nvGrpSpPr>
        <p:grpSpPr>
          <a:xfrm>
            <a:off x="1187280" y="2349360"/>
            <a:ext cx="3519720" cy="3519720"/>
            <a:chOff x="1187280" y="2349360"/>
            <a:chExt cx="3519720" cy="3519720"/>
          </a:xfrm>
        </p:grpSpPr>
        <p:sp>
          <p:nvSpPr>
            <p:cNvPr id="1390" name="椭圆 2"/>
            <p:cNvSpPr/>
            <p:nvPr/>
          </p:nvSpPr>
          <p:spPr>
            <a:xfrm>
              <a:off x="1187280" y="2349360"/>
              <a:ext cx="3519720" cy="3519720"/>
            </a:xfrm>
            <a:prstGeom prst="ellipse">
              <a:avLst/>
            </a:prstGeom>
            <a:noFill/>
            <a:ln w="572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椭圆 3"/>
            <p:cNvSpPr/>
            <p:nvPr/>
          </p:nvSpPr>
          <p:spPr>
            <a:xfrm>
              <a:off x="2944800" y="4110120"/>
              <a:ext cx="36360" cy="36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2" name="TextBox 4"/>
          <p:cNvSpPr/>
          <p:nvPr/>
        </p:nvSpPr>
        <p:spPr>
          <a:xfrm>
            <a:off x="2890800" y="3575160"/>
            <a:ext cx="27468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直接连接符 5"/>
          <p:cNvSpPr/>
          <p:nvPr/>
        </p:nvSpPr>
        <p:spPr>
          <a:xfrm flipV="1">
            <a:off x="2981160" y="4076280"/>
            <a:ext cx="1725840" cy="46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6"/>
          <p:cNvSpPr/>
          <p:nvPr/>
        </p:nvSpPr>
        <p:spPr>
          <a:xfrm>
            <a:off x="3780000" y="3573360"/>
            <a:ext cx="293400" cy="5205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直接连接符 7"/>
          <p:cNvSpPr/>
          <p:nvPr/>
        </p:nvSpPr>
        <p:spPr>
          <a:xfrm>
            <a:off x="1719360" y="2865600"/>
            <a:ext cx="2487600" cy="24876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TextBox 8"/>
          <p:cNvSpPr/>
          <p:nvPr/>
        </p:nvSpPr>
        <p:spPr>
          <a:xfrm>
            <a:off x="2124000" y="3625920"/>
            <a:ext cx="293760" cy="5205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椭圆 1"/>
          <p:cNvSpPr/>
          <p:nvPr/>
        </p:nvSpPr>
        <p:spPr>
          <a:xfrm>
            <a:off x="2916360" y="4060800"/>
            <a:ext cx="8892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8" name="Group 12"/>
          <p:cNvGrpSpPr/>
          <p:nvPr/>
        </p:nvGrpSpPr>
        <p:grpSpPr>
          <a:xfrm>
            <a:off x="3635280" y="1557360"/>
            <a:ext cx="4910400" cy="1279440"/>
            <a:chOff x="3635280" y="1557360"/>
            <a:chExt cx="4910400" cy="1279440"/>
          </a:xfrm>
        </p:grpSpPr>
        <p:pic>
          <p:nvPicPr>
            <p:cNvPr id="1399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021440" y="1557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0" name="AutoShape 27"/>
            <p:cNvSpPr/>
            <p:nvPr/>
          </p:nvSpPr>
          <p:spPr>
            <a:xfrm>
              <a:off x="3635280" y="1701720"/>
              <a:ext cx="3354480" cy="936720"/>
            </a:xfrm>
            <a:prstGeom prst="wedgeRoundRectCallout">
              <a:avLst>
                <a:gd name="adj1" fmla="val 56388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指出这个圆的圆心、半径和直径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1" name="同侧圆角矩形 14"/>
          <p:cNvGrpSpPr/>
          <p:nvPr/>
        </p:nvGrpSpPr>
        <p:grpSpPr>
          <a:xfrm>
            <a:off x="414360" y="1047600"/>
            <a:ext cx="2004840" cy="519120"/>
            <a:chOff x="414360" y="1047600"/>
            <a:chExt cx="2004840" cy="519120"/>
          </a:xfrm>
        </p:grpSpPr>
        <p:pic>
          <p:nvPicPr>
            <p:cNvPr id="1402" name="同侧圆角矩形 14" descr=""/>
            <p:cNvPicPr/>
            <p:nvPr/>
          </p:nvPicPr>
          <p:blipFill>
            <a:blip r:embed="rId2"/>
            <a:stretch/>
          </p:blipFill>
          <p:spPr>
            <a:xfrm>
              <a:off x="414360" y="1047600"/>
              <a:ext cx="20048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3" name=""/>
            <p:cNvSpPr/>
            <p:nvPr/>
          </p:nvSpPr>
          <p:spPr>
            <a:xfrm>
              <a:off x="442800" y="10746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直线连接符 21"/>
          <p:cNvSpPr/>
          <p:nvPr/>
        </p:nvSpPr>
        <p:spPr>
          <a:xfrm flipV="1">
            <a:off x="419040" y="169668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5"/>
          <p:cNvSpPr/>
          <p:nvPr/>
        </p:nvSpPr>
        <p:spPr>
          <a:xfrm>
            <a:off x="1322280" y="1528920"/>
            <a:ext cx="72900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底面是圆形的蒙古包，沿地面量得周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.12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的占地面积是多少平方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TextBox 1"/>
          <p:cNvSpPr/>
          <p:nvPr/>
        </p:nvSpPr>
        <p:spPr>
          <a:xfrm>
            <a:off x="3103560" y="2743200"/>
            <a:ext cx="370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.12÷3.1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TextBox 5"/>
          <p:cNvSpPr/>
          <p:nvPr/>
        </p:nvSpPr>
        <p:spPr>
          <a:xfrm>
            <a:off x="3094200" y="4170240"/>
            <a:ext cx="604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它的占地面积是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.2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²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4"/>
          <p:cNvSpPr/>
          <p:nvPr/>
        </p:nvSpPr>
        <p:spPr>
          <a:xfrm>
            <a:off x="3132000" y="3165480"/>
            <a:ext cx="345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÷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矩形 7"/>
          <p:cNvSpPr/>
          <p:nvPr/>
        </p:nvSpPr>
        <p:spPr>
          <a:xfrm>
            <a:off x="3094200" y="3687840"/>
            <a:ext cx="424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14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.2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0" name="Picture 8" descr="73"/>
          <p:cNvPicPr/>
          <p:nvPr/>
        </p:nvPicPr>
        <p:blipFill>
          <a:blip r:embed="rId1"/>
          <a:stretch/>
        </p:blipFill>
        <p:spPr>
          <a:xfrm>
            <a:off x="0" y="4645080"/>
            <a:ext cx="3249720" cy="1798560"/>
          </a:xfrm>
          <a:prstGeom prst="rect">
            <a:avLst/>
          </a:prstGeom>
          <a:ln w="0">
            <a:noFill/>
          </a:ln>
        </p:spPr>
      </p:pic>
      <p:grpSp>
        <p:nvGrpSpPr>
          <p:cNvPr id="1411" name="同侧圆角矩形 8"/>
          <p:cNvGrpSpPr/>
          <p:nvPr/>
        </p:nvGrpSpPr>
        <p:grpSpPr>
          <a:xfrm>
            <a:off x="365040" y="1146240"/>
            <a:ext cx="2000160" cy="510840"/>
            <a:chOff x="365040" y="1146240"/>
            <a:chExt cx="2000160" cy="510840"/>
          </a:xfrm>
        </p:grpSpPr>
        <p:pic>
          <p:nvPicPr>
            <p:cNvPr id="1412" name="同侧圆角矩形 8" descr=""/>
            <p:cNvPicPr/>
            <p:nvPr/>
          </p:nvPicPr>
          <p:blipFill>
            <a:blip r:embed="rId2"/>
            <a:stretch/>
          </p:blipFill>
          <p:spPr>
            <a:xfrm>
              <a:off x="365040" y="1146240"/>
              <a:ext cx="20001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388800" y="11682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4" name="直线连接符 21"/>
          <p:cNvSpPr/>
          <p:nvPr/>
        </p:nvSpPr>
        <p:spPr>
          <a:xfrm flipV="1">
            <a:off x="387360" y="169992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3" descr="76"/>
          <p:cNvPicPr/>
          <p:nvPr/>
        </p:nvPicPr>
        <p:blipFill>
          <a:blip r:embed="rId1"/>
          <a:stretch/>
        </p:blipFill>
        <p:spPr>
          <a:xfrm>
            <a:off x="5919840" y="1628640"/>
            <a:ext cx="1820880" cy="161928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" descr="74"/>
          <p:cNvPicPr/>
          <p:nvPr/>
        </p:nvPicPr>
        <p:blipFill>
          <a:blip r:embed="rId2"/>
          <a:stretch/>
        </p:blipFill>
        <p:spPr>
          <a:xfrm>
            <a:off x="1042920" y="1628640"/>
            <a:ext cx="1608120" cy="179892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5" descr="75"/>
          <p:cNvPicPr/>
          <p:nvPr/>
        </p:nvPicPr>
        <p:blipFill>
          <a:blip r:embed="rId3"/>
          <a:stretch/>
        </p:blipFill>
        <p:spPr>
          <a:xfrm>
            <a:off x="3511440" y="1628640"/>
            <a:ext cx="1594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418" name="Group 6"/>
          <p:cNvGrpSpPr/>
          <p:nvPr/>
        </p:nvGrpSpPr>
        <p:grpSpPr>
          <a:xfrm>
            <a:off x="324000" y="3573360"/>
            <a:ext cx="3743280" cy="1279440"/>
            <a:chOff x="324000" y="3573360"/>
            <a:chExt cx="3743280" cy="1279440"/>
          </a:xfrm>
        </p:grpSpPr>
        <p:pic>
          <p:nvPicPr>
            <p:cNvPr id="1419" name="Picture 19" descr="女天使副本"/>
            <p:cNvPicPr/>
            <p:nvPr/>
          </p:nvPicPr>
          <p:blipFill>
            <a:blip r:embed="rId4"/>
            <a:stretch/>
          </p:blipFill>
          <p:spPr>
            <a:xfrm>
              <a:off x="324000" y="3573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AutoShape 27"/>
            <p:cNvSpPr/>
            <p:nvPr/>
          </p:nvSpPr>
          <p:spPr>
            <a:xfrm>
              <a:off x="1981440" y="3862080"/>
              <a:ext cx="2085840" cy="574920"/>
            </a:xfrm>
            <a:prstGeom prst="wedgeRoundRectCallout">
              <a:avLst>
                <a:gd name="adj1" fmla="val -62708"/>
                <a:gd name="adj2" fmla="val 5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什么是扇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1" name="Group 9"/>
          <p:cNvGrpSpPr/>
          <p:nvPr/>
        </p:nvGrpSpPr>
        <p:grpSpPr>
          <a:xfrm>
            <a:off x="4238640" y="3716280"/>
            <a:ext cx="4941720" cy="1798560"/>
            <a:chOff x="4238640" y="3716280"/>
            <a:chExt cx="4941720" cy="1798560"/>
          </a:xfrm>
        </p:grpSpPr>
        <p:sp>
          <p:nvSpPr>
            <p:cNvPr id="1422" name="AutoShape 27"/>
            <p:cNvSpPr/>
            <p:nvPr/>
          </p:nvSpPr>
          <p:spPr>
            <a:xfrm>
              <a:off x="4238640" y="3859200"/>
              <a:ext cx="3130560" cy="938160"/>
            </a:xfrm>
            <a:prstGeom prst="wedgeRoundRectCallout">
              <a:avLst>
                <a:gd name="adj1" fmla="val 56847"/>
                <a:gd name="adj2" fmla="val -1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些物体的外形有什么相同的地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3" name="Picture 11" descr="68"/>
            <p:cNvPicPr/>
            <p:nvPr/>
          </p:nvPicPr>
          <p:blipFill>
            <a:blip r:embed="rId5"/>
            <a:stretch/>
          </p:blipFill>
          <p:spPr>
            <a:xfrm>
              <a:off x="7549920" y="3716280"/>
              <a:ext cx="163044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4" name="Group 12"/>
          <p:cNvGrpSpPr/>
          <p:nvPr/>
        </p:nvGrpSpPr>
        <p:grpSpPr>
          <a:xfrm>
            <a:off x="539640" y="4869000"/>
            <a:ext cx="4679640" cy="1800000"/>
            <a:chOff x="539640" y="4869000"/>
            <a:chExt cx="4679640" cy="1800000"/>
          </a:xfrm>
        </p:grpSpPr>
        <p:sp>
          <p:nvSpPr>
            <p:cNvPr id="1425" name="AutoShape 27"/>
            <p:cNvSpPr/>
            <p:nvPr/>
          </p:nvSpPr>
          <p:spPr>
            <a:xfrm>
              <a:off x="1850760" y="4869000"/>
              <a:ext cx="3368520" cy="576000"/>
            </a:xfrm>
            <a:prstGeom prst="wedgeRoundRectCallout">
              <a:avLst>
                <a:gd name="adj1" fmla="val -57587"/>
                <a:gd name="adj2" fmla="val 546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它们的外形都是扇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6" name="Picture 14" descr="67"/>
            <p:cNvPicPr/>
            <p:nvPr/>
          </p:nvPicPr>
          <p:blipFill>
            <a:blip r:embed="rId6"/>
            <a:stretch/>
          </p:blipFill>
          <p:spPr>
            <a:xfrm>
              <a:off x="539640" y="486900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7" name="同侧圆角矩形 14"/>
          <p:cNvGrpSpPr/>
          <p:nvPr/>
        </p:nvGrpSpPr>
        <p:grpSpPr>
          <a:xfrm>
            <a:off x="469800" y="974880"/>
            <a:ext cx="1998720" cy="519120"/>
            <a:chOff x="469800" y="974880"/>
            <a:chExt cx="1998720" cy="519120"/>
          </a:xfrm>
        </p:grpSpPr>
        <p:pic>
          <p:nvPicPr>
            <p:cNvPr id="1428" name="同侧圆角矩形 14" descr=""/>
            <p:cNvPicPr/>
            <p:nvPr/>
          </p:nvPicPr>
          <p:blipFill>
            <a:blip r:embed="rId7"/>
            <a:stretch/>
          </p:blipFill>
          <p:spPr>
            <a:xfrm>
              <a:off x="469800" y="97488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493560" y="100188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0" name="直线连接符 21"/>
          <p:cNvSpPr/>
          <p:nvPr/>
        </p:nvSpPr>
        <p:spPr>
          <a:xfrm flipV="1">
            <a:off x="468360" y="16236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弧形 29"/>
          <p:cNvSpPr/>
          <p:nvPr/>
        </p:nvSpPr>
        <p:spPr>
          <a:xfrm>
            <a:off x="585720" y="1800360"/>
            <a:ext cx="4286160" cy="4214520"/>
          </a:xfrm>
          <a:custGeom>
            <a:avLst/>
            <a:gdLst>
              <a:gd name="textAreaLeft" fmla="*/ 0 w 4286160"/>
              <a:gd name="textAreaRight" fmla="*/ 4286520 w 4286160"/>
              <a:gd name="textAreaTop" fmla="*/ 0 h 4214520"/>
              <a:gd name="textAreaBottom" fmla="*/ 4214880 h 4214520"/>
            </a:gdLst>
            <a:ahLst/>
            <a:rect l="textAreaLeft" t="textAreaTop" r="textAreaRight" b="textAreaBottom"/>
            <a:pathLst>
              <a:path stroke="0" w="4286250" h="4214813">
                <a:moveTo>
                  <a:pt x="3168031" y="256609"/>
                </a:moveTo>
                <a:lnTo>
                  <a:pt x="3168031" y="256608"/>
                </a:lnTo>
                <a:cubicBezTo>
                  <a:pt x="3857277" y="625672"/>
                  <a:pt x="4286250" y="1335678"/>
                  <a:pt x="4286250" y="2107407"/>
                </a:cubicBezTo>
                <a:cubicBezTo>
                  <a:pt x="4286250" y="2531426"/>
                  <a:pt x="4156173" y="2945584"/>
                  <a:pt x="3913019" y="3295760"/>
                </a:cubicBezTo>
                <a:lnTo>
                  <a:pt x="2143125" y="2107407"/>
                </a:lnTo>
                <a:lnTo>
                  <a:pt x="3168031" y="256609"/>
                </a:lnTo>
                <a:close/>
              </a:path>
              <a:path fill="none" w="4286250" h="4214813">
                <a:moveTo>
                  <a:pt x="3168031" y="256609"/>
                </a:moveTo>
                <a:lnTo>
                  <a:pt x="3168031" y="256608"/>
                </a:lnTo>
                <a:cubicBezTo>
                  <a:pt x="3857277" y="625672"/>
                  <a:pt x="4286250" y="1335678"/>
                  <a:pt x="4286250" y="2107407"/>
                </a:cubicBezTo>
                <a:cubicBezTo>
                  <a:pt x="4286250" y="2531426"/>
                  <a:pt x="4156173" y="2945584"/>
                  <a:pt x="3913019" y="329576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2" name="组合 6"/>
          <p:cNvGrpSpPr/>
          <p:nvPr/>
        </p:nvGrpSpPr>
        <p:grpSpPr>
          <a:xfrm>
            <a:off x="539640" y="1763640"/>
            <a:ext cx="4343400" cy="4380120"/>
            <a:chOff x="539640" y="1763640"/>
            <a:chExt cx="4343400" cy="4380120"/>
          </a:xfrm>
        </p:grpSpPr>
        <p:sp>
          <p:nvSpPr>
            <p:cNvPr id="1433" name="椭圆 1"/>
            <p:cNvSpPr/>
            <p:nvPr/>
          </p:nvSpPr>
          <p:spPr>
            <a:xfrm>
              <a:off x="539640" y="1763640"/>
              <a:ext cx="4343400" cy="4380120"/>
            </a:xfrm>
            <a:prstGeom prst="ellipse">
              <a:avLst/>
            </a:prstGeom>
            <a:noFill/>
            <a:ln w="57240">
              <a:solidFill>
                <a:srgbClr val="bd58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椭圆 5"/>
            <p:cNvSpPr/>
            <p:nvPr/>
          </p:nvSpPr>
          <p:spPr>
            <a:xfrm>
              <a:off x="2708280" y="3952800"/>
              <a:ext cx="45720" cy="47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5" name="TextBox 12"/>
          <p:cNvSpPr/>
          <p:nvPr/>
        </p:nvSpPr>
        <p:spPr>
          <a:xfrm>
            <a:off x="3813480" y="1500120"/>
            <a:ext cx="349920" cy="398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4670640" y="4857840"/>
            <a:ext cx="349920" cy="398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TextBox 14"/>
          <p:cNvSpPr/>
          <p:nvPr/>
        </p:nvSpPr>
        <p:spPr>
          <a:xfrm>
            <a:off x="2396880" y="365112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直接连接符 15"/>
          <p:cNvSpPr/>
          <p:nvPr/>
        </p:nvSpPr>
        <p:spPr>
          <a:xfrm flipV="1">
            <a:off x="2696400" y="2023920"/>
            <a:ext cx="1103400" cy="191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直接连接符 16"/>
          <p:cNvSpPr/>
          <p:nvPr/>
        </p:nvSpPr>
        <p:spPr>
          <a:xfrm>
            <a:off x="2697120" y="3902040"/>
            <a:ext cx="1871640" cy="12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弧形 4"/>
          <p:cNvSpPr/>
          <p:nvPr/>
        </p:nvSpPr>
        <p:spPr>
          <a:xfrm rot="367200">
            <a:off x="2646360" y="3687480"/>
            <a:ext cx="338040" cy="404640"/>
          </a:xfrm>
          <a:custGeom>
            <a:avLst/>
            <a:gdLst>
              <a:gd name="textAreaLeft" fmla="*/ 0 w 338040"/>
              <a:gd name="textAreaRight" fmla="*/ 338400 w 3380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stroke="0" w="338137" h="404812">
                <a:moveTo>
                  <a:pt x="169069" y="0"/>
                </a:moveTo>
                <a:lnTo>
                  <a:pt x="169068" y="0"/>
                </a:lnTo>
                <a:cubicBezTo>
                  <a:pt x="262443" y="0"/>
                  <a:pt x="338138" y="90620"/>
                  <a:pt x="338138" y="202406"/>
                </a:cubicBezTo>
                <a:cubicBezTo>
                  <a:pt x="338138" y="246856"/>
                  <a:pt x="325915" y="290070"/>
                  <a:pt x="303358" y="325376"/>
                </a:cubicBezTo>
                <a:lnTo>
                  <a:pt x="169069" y="202406"/>
                </a:lnTo>
                <a:lnTo>
                  <a:pt x="169069" y="0"/>
                </a:lnTo>
                <a:close/>
              </a:path>
              <a:path fill="none" w="338137" h="404812">
                <a:moveTo>
                  <a:pt x="169069" y="0"/>
                </a:moveTo>
                <a:lnTo>
                  <a:pt x="169068" y="0"/>
                </a:lnTo>
                <a:cubicBezTo>
                  <a:pt x="262443" y="0"/>
                  <a:pt x="338138" y="90620"/>
                  <a:pt x="338138" y="202406"/>
                </a:cubicBezTo>
                <a:cubicBezTo>
                  <a:pt x="338138" y="246856"/>
                  <a:pt x="325915" y="290070"/>
                  <a:pt x="303358" y="3253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TextBox 18"/>
          <p:cNvSpPr/>
          <p:nvPr/>
        </p:nvSpPr>
        <p:spPr>
          <a:xfrm>
            <a:off x="3217320" y="350028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心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椭圆 22"/>
          <p:cNvSpPr/>
          <p:nvPr/>
        </p:nvSpPr>
        <p:spPr>
          <a:xfrm>
            <a:off x="3765600" y="2025720"/>
            <a:ext cx="46080" cy="46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17"/>
          <p:cNvSpPr/>
          <p:nvPr/>
        </p:nvSpPr>
        <p:spPr>
          <a:xfrm rot="1924200">
            <a:off x="2568600" y="4565160"/>
            <a:ext cx="171432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20"/>
          <p:cNvSpPr/>
          <p:nvPr/>
        </p:nvSpPr>
        <p:spPr>
          <a:xfrm rot="18053400">
            <a:off x="2074320" y="2656080"/>
            <a:ext cx="171432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24"/>
          <p:cNvSpPr/>
          <p:nvPr/>
        </p:nvSpPr>
        <p:spPr>
          <a:xfrm>
            <a:off x="4769640" y="2948040"/>
            <a:ext cx="333000" cy="398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弧形 26"/>
          <p:cNvSpPr/>
          <p:nvPr/>
        </p:nvSpPr>
        <p:spPr>
          <a:xfrm>
            <a:off x="596880" y="1785960"/>
            <a:ext cx="4286160" cy="4357800"/>
          </a:xfrm>
          <a:custGeom>
            <a:avLst/>
            <a:gdLst>
              <a:gd name="textAreaLeft" fmla="*/ 0 w 4286160"/>
              <a:gd name="textAreaRight" fmla="*/ 4286520 w 4286160"/>
              <a:gd name="textAreaTop" fmla="*/ 0 h 4357800"/>
              <a:gd name="textAreaBottom" fmla="*/ 4358160 h 4357800"/>
            </a:gdLst>
            <a:ahLst/>
            <a:rect l="textAreaLeft" t="textAreaTop" r="textAreaRight" b="textAreaBottom"/>
            <a:pathLst>
              <a:path stroke="0" w="4286250" h="4357687">
                <a:moveTo>
                  <a:pt x="3211968" y="290316"/>
                </a:moveTo>
                <a:lnTo>
                  <a:pt x="3211967" y="290316"/>
                </a:lnTo>
                <a:cubicBezTo>
                  <a:pt x="3876585" y="679109"/>
                  <a:pt x="4286250" y="1399277"/>
                  <a:pt x="4286250" y="2178844"/>
                </a:cubicBezTo>
                <a:cubicBezTo>
                  <a:pt x="4286250" y="2579597"/>
                  <a:pt x="4177535" y="2972587"/>
                  <a:pt x="3972062" y="3314588"/>
                </a:cubicBezTo>
                <a:lnTo>
                  <a:pt x="2143125" y="2178844"/>
                </a:lnTo>
                <a:lnTo>
                  <a:pt x="3211968" y="290316"/>
                </a:lnTo>
                <a:close/>
              </a:path>
              <a:path fill="none" w="4286250" h="4357687">
                <a:moveTo>
                  <a:pt x="3211968" y="290316"/>
                </a:moveTo>
                <a:lnTo>
                  <a:pt x="3211967" y="290316"/>
                </a:lnTo>
                <a:cubicBezTo>
                  <a:pt x="3876585" y="679109"/>
                  <a:pt x="4286250" y="1399277"/>
                  <a:pt x="4286250" y="2178844"/>
                </a:cubicBezTo>
                <a:cubicBezTo>
                  <a:pt x="4286250" y="2579597"/>
                  <a:pt x="4177535" y="2972587"/>
                  <a:pt x="3972062" y="331458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椭圆 21"/>
          <p:cNvSpPr/>
          <p:nvPr/>
        </p:nvSpPr>
        <p:spPr>
          <a:xfrm flipH="1">
            <a:off x="2711520" y="3862440"/>
            <a:ext cx="46080" cy="66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28"/>
          <p:cNvSpPr/>
          <p:nvPr/>
        </p:nvSpPr>
        <p:spPr>
          <a:xfrm>
            <a:off x="5076720" y="1700280"/>
            <a:ext cx="3934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上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点之间的部分叫做弧，读作“弧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30"/>
          <p:cNvSpPr/>
          <p:nvPr/>
        </p:nvSpPr>
        <p:spPr>
          <a:xfrm>
            <a:off x="5219640" y="2997360"/>
            <a:ext cx="36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弧和经过这条弧两端的两条半径所围成的图形叫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扇形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32"/>
          <p:cNvSpPr/>
          <p:nvPr/>
        </p:nvSpPr>
        <p:spPr>
          <a:xfrm>
            <a:off x="5292720" y="495792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顶点在圆心的角叫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圆心角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椭圆 23"/>
          <p:cNvSpPr/>
          <p:nvPr/>
        </p:nvSpPr>
        <p:spPr>
          <a:xfrm>
            <a:off x="4525920" y="5097600"/>
            <a:ext cx="46080" cy="46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2" name="同侧圆角矩形 27"/>
          <p:cNvGrpSpPr/>
          <p:nvPr/>
        </p:nvGrpSpPr>
        <p:grpSpPr>
          <a:xfrm>
            <a:off x="457200" y="1176480"/>
            <a:ext cx="2000160" cy="519120"/>
            <a:chOff x="457200" y="1176480"/>
            <a:chExt cx="2000160" cy="519120"/>
          </a:xfrm>
        </p:grpSpPr>
        <p:pic>
          <p:nvPicPr>
            <p:cNvPr id="1453" name="同侧圆角矩形 27" descr=""/>
            <p:cNvPicPr/>
            <p:nvPr/>
          </p:nvPicPr>
          <p:blipFill>
            <a:blip r:embed="rId1"/>
            <a:stretch/>
          </p:blipFill>
          <p:spPr>
            <a:xfrm>
              <a:off x="457200" y="117648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4" name=""/>
            <p:cNvSpPr/>
            <p:nvPr/>
          </p:nvSpPr>
          <p:spPr>
            <a:xfrm>
              <a:off x="484200" y="120168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5" name="直线连接符 21"/>
          <p:cNvSpPr/>
          <p:nvPr/>
        </p:nvSpPr>
        <p:spPr>
          <a:xfrm flipV="1">
            <a:off x="458640" y="169344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6" name="Group 2"/>
          <p:cNvGrpSpPr/>
          <p:nvPr/>
        </p:nvGrpSpPr>
        <p:grpSpPr>
          <a:xfrm>
            <a:off x="1042920" y="2205000"/>
            <a:ext cx="6757920" cy="4319640"/>
            <a:chOff x="1042920" y="2205000"/>
            <a:chExt cx="6757920" cy="4319640"/>
          </a:xfrm>
        </p:grpSpPr>
        <p:pic>
          <p:nvPicPr>
            <p:cNvPr id="1457" name="Picture 3" descr="80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67579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Text Box 4"/>
            <p:cNvSpPr/>
            <p:nvPr/>
          </p:nvSpPr>
          <p:spPr>
            <a:xfrm>
              <a:off x="1477800" y="25164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楷体_GB2312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Text Box 5"/>
            <p:cNvSpPr/>
            <p:nvPr/>
          </p:nvSpPr>
          <p:spPr>
            <a:xfrm>
              <a:off x="1484280" y="47959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楷体_GB2312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Text Box 6"/>
            <p:cNvSpPr/>
            <p:nvPr/>
          </p:nvSpPr>
          <p:spPr>
            <a:xfrm>
              <a:off x="4868640" y="25639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楷体_GB2312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Text Box 7"/>
            <p:cNvSpPr/>
            <p:nvPr/>
          </p:nvSpPr>
          <p:spPr>
            <a:xfrm>
              <a:off x="4868640" y="48578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楷体_GB2312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Text Box 8"/>
            <p:cNvSpPr/>
            <p:nvPr/>
          </p:nvSpPr>
          <p:spPr>
            <a:xfrm>
              <a:off x="3092400" y="3025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Text Box 9"/>
            <p:cNvSpPr/>
            <p:nvPr/>
          </p:nvSpPr>
          <p:spPr>
            <a:xfrm>
              <a:off x="3193920" y="5156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Text Box 10"/>
            <p:cNvSpPr/>
            <p:nvPr/>
          </p:nvSpPr>
          <p:spPr>
            <a:xfrm>
              <a:off x="6441840" y="30304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Text Box 11"/>
            <p:cNvSpPr/>
            <p:nvPr/>
          </p:nvSpPr>
          <p:spPr>
            <a:xfrm>
              <a:off x="6432480" y="508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6" name="TextBox 3"/>
          <p:cNvSpPr/>
          <p:nvPr/>
        </p:nvSpPr>
        <p:spPr>
          <a:xfrm>
            <a:off x="900000" y="1557360"/>
            <a:ext cx="52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图中，哪些角是圆心角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TextBox 4"/>
          <p:cNvSpPr/>
          <p:nvPr/>
        </p:nvSpPr>
        <p:spPr>
          <a:xfrm>
            <a:off x="1401840" y="25160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TextBox 5"/>
          <p:cNvSpPr/>
          <p:nvPr/>
        </p:nvSpPr>
        <p:spPr>
          <a:xfrm>
            <a:off x="4653000" y="48610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Oval 16"/>
          <p:cNvSpPr/>
          <p:nvPr/>
        </p:nvSpPr>
        <p:spPr>
          <a:xfrm>
            <a:off x="6459480" y="3241800"/>
            <a:ext cx="36720" cy="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Oval 17"/>
          <p:cNvSpPr/>
          <p:nvPr/>
        </p:nvSpPr>
        <p:spPr>
          <a:xfrm>
            <a:off x="3097080" y="3255840"/>
            <a:ext cx="36720" cy="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Oval 18"/>
          <p:cNvSpPr/>
          <p:nvPr/>
        </p:nvSpPr>
        <p:spPr>
          <a:xfrm>
            <a:off x="6497640" y="5373720"/>
            <a:ext cx="36360" cy="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Oval 19"/>
          <p:cNvSpPr/>
          <p:nvPr/>
        </p:nvSpPr>
        <p:spPr>
          <a:xfrm>
            <a:off x="3203640" y="5475240"/>
            <a:ext cx="36360" cy="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3" name="同侧圆角矩形 19"/>
          <p:cNvGrpSpPr/>
          <p:nvPr/>
        </p:nvGrpSpPr>
        <p:grpSpPr>
          <a:xfrm>
            <a:off x="457200" y="1017720"/>
            <a:ext cx="2000160" cy="519120"/>
            <a:chOff x="457200" y="1017720"/>
            <a:chExt cx="2000160" cy="519120"/>
          </a:xfrm>
        </p:grpSpPr>
        <p:pic>
          <p:nvPicPr>
            <p:cNvPr id="1474" name="同侧圆角矩形 19" descr=""/>
            <p:cNvPicPr/>
            <p:nvPr/>
          </p:nvPicPr>
          <p:blipFill>
            <a:blip r:embed="rId2"/>
            <a:stretch/>
          </p:blipFill>
          <p:spPr>
            <a:xfrm>
              <a:off x="457200" y="1017720"/>
              <a:ext cx="20001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5" name=""/>
            <p:cNvSpPr/>
            <p:nvPr/>
          </p:nvSpPr>
          <p:spPr>
            <a:xfrm>
              <a:off x="484200" y="104148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6" name="直线连接符 21"/>
          <p:cNvSpPr/>
          <p:nvPr/>
        </p:nvSpPr>
        <p:spPr>
          <a:xfrm flipV="1">
            <a:off x="458640" y="159372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Group 3"/>
          <p:cNvGrpSpPr/>
          <p:nvPr/>
        </p:nvGrpSpPr>
        <p:grpSpPr>
          <a:xfrm>
            <a:off x="468360" y="3429000"/>
            <a:ext cx="4938840" cy="1800000"/>
            <a:chOff x="468360" y="3429000"/>
            <a:chExt cx="4938840" cy="1800000"/>
          </a:xfrm>
        </p:grpSpPr>
        <p:sp>
          <p:nvSpPr>
            <p:cNvPr id="1478" name="AutoShape 27"/>
            <p:cNvSpPr/>
            <p:nvPr/>
          </p:nvSpPr>
          <p:spPr>
            <a:xfrm>
              <a:off x="1806840" y="3644640"/>
              <a:ext cx="3600360" cy="935280"/>
            </a:xfrm>
            <a:prstGeom prst="wedgeRoundRectCallout">
              <a:avLst>
                <a:gd name="adj1" fmla="val -54981"/>
                <a:gd name="adj2" fmla="val -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同一个圆中，扇形的大小与什么有关系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9" name="Picture 5" descr="67"/>
            <p:cNvPicPr/>
            <p:nvPr/>
          </p:nvPicPr>
          <p:blipFill>
            <a:blip r:embed="rId1"/>
            <a:stretch/>
          </p:blipFill>
          <p:spPr>
            <a:xfrm>
              <a:off x="468360" y="342900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0" name="Group 6"/>
          <p:cNvGrpSpPr/>
          <p:nvPr/>
        </p:nvGrpSpPr>
        <p:grpSpPr>
          <a:xfrm>
            <a:off x="3348000" y="4653000"/>
            <a:ext cx="5230800" cy="2015640"/>
            <a:chOff x="3348000" y="4653000"/>
            <a:chExt cx="5230800" cy="2015640"/>
          </a:xfrm>
        </p:grpSpPr>
        <p:sp>
          <p:nvSpPr>
            <p:cNvPr id="1481" name="AutoShape 27"/>
            <p:cNvSpPr/>
            <p:nvPr/>
          </p:nvSpPr>
          <p:spPr>
            <a:xfrm>
              <a:off x="3348000" y="4653000"/>
              <a:ext cx="3529080" cy="1419480"/>
            </a:xfrm>
            <a:prstGeom prst="wedgeRoundRectCallout">
              <a:avLst>
                <a:gd name="adj1" fmla="val 56972"/>
                <a:gd name="adj2" fmla="val -9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发现在同一个圆中，扇形的大小与这个扇形的圆心角的大小有关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82" name="Picture 8" descr="68"/>
            <p:cNvPicPr/>
            <p:nvPr/>
          </p:nvPicPr>
          <p:blipFill>
            <a:blip r:embed="rId2"/>
            <a:stretch/>
          </p:blipFill>
          <p:spPr>
            <a:xfrm>
              <a:off x="6948360" y="4803120"/>
              <a:ext cx="1630440" cy="186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3" name="Group 9"/>
          <p:cNvGrpSpPr/>
          <p:nvPr/>
        </p:nvGrpSpPr>
        <p:grpSpPr>
          <a:xfrm>
            <a:off x="3059280" y="1628640"/>
            <a:ext cx="1627200" cy="1638360"/>
            <a:chOff x="3059280" y="1628640"/>
            <a:chExt cx="1627200" cy="1638360"/>
          </a:xfrm>
        </p:grpSpPr>
        <p:sp>
          <p:nvSpPr>
            <p:cNvPr id="1484" name="Oval 10"/>
            <p:cNvSpPr/>
            <p:nvPr/>
          </p:nvSpPr>
          <p:spPr>
            <a:xfrm>
              <a:off x="3841920" y="2401920"/>
              <a:ext cx="72720" cy="71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5" name="Group 11"/>
            <p:cNvGrpSpPr/>
            <p:nvPr/>
          </p:nvGrpSpPr>
          <p:grpSpPr>
            <a:xfrm>
              <a:off x="3059280" y="1628640"/>
              <a:ext cx="1627200" cy="1638360"/>
              <a:chOff x="3059280" y="1628640"/>
              <a:chExt cx="1627200" cy="1638360"/>
            </a:xfrm>
          </p:grpSpPr>
          <p:grpSp>
            <p:nvGrpSpPr>
              <p:cNvPr id="1486" name="Group 12"/>
              <p:cNvGrpSpPr/>
              <p:nvPr/>
            </p:nvGrpSpPr>
            <p:grpSpPr>
              <a:xfrm>
                <a:off x="3059280" y="1628640"/>
                <a:ext cx="1627200" cy="1638360"/>
                <a:chOff x="3059280" y="1628640"/>
                <a:chExt cx="1627200" cy="1638360"/>
              </a:xfrm>
            </p:grpSpPr>
            <p:sp>
              <p:nvSpPr>
                <p:cNvPr id="1487" name="Oval 13"/>
                <p:cNvSpPr/>
                <p:nvPr/>
              </p:nvSpPr>
              <p:spPr>
                <a:xfrm>
                  <a:off x="3059280" y="1647720"/>
                  <a:ext cx="1619280" cy="16192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8" name="Line 14"/>
                <p:cNvSpPr/>
                <p:nvPr/>
              </p:nvSpPr>
              <p:spPr>
                <a:xfrm>
                  <a:off x="3859200" y="2449440"/>
                  <a:ext cx="827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9" name="Line 15"/>
                <p:cNvSpPr/>
                <p:nvPr/>
              </p:nvSpPr>
              <p:spPr>
                <a:xfrm flipV="1">
                  <a:off x="3868920" y="1628640"/>
                  <a:ext cx="0" cy="82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0" name="Line 16"/>
                <p:cNvSpPr/>
                <p:nvPr/>
              </p:nvSpPr>
              <p:spPr>
                <a:xfrm flipV="1">
                  <a:off x="3363480" y="2442600"/>
                  <a:ext cx="502920" cy="65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1" name="Group 17"/>
              <p:cNvGrpSpPr/>
              <p:nvPr/>
            </p:nvGrpSpPr>
            <p:grpSpPr>
              <a:xfrm>
                <a:off x="3861000" y="2257560"/>
                <a:ext cx="196560" cy="193680"/>
                <a:chOff x="3861000" y="2257560"/>
                <a:chExt cx="196560" cy="193680"/>
              </a:xfrm>
            </p:grpSpPr>
            <p:sp>
              <p:nvSpPr>
                <p:cNvPr id="1492" name="Line 18"/>
                <p:cNvSpPr/>
                <p:nvPr/>
              </p:nvSpPr>
              <p:spPr>
                <a:xfrm>
                  <a:off x="3861000" y="2259360"/>
                  <a:ext cx="1936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3" name="Line 19"/>
                <p:cNvSpPr/>
                <p:nvPr/>
              </p:nvSpPr>
              <p:spPr>
                <a:xfrm flipV="1">
                  <a:off x="4057560" y="2257560"/>
                  <a:ext cx="0" cy="1936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94" name="Arc 20"/>
              <p:cNvSpPr/>
              <p:nvPr/>
            </p:nvSpPr>
            <p:spPr>
              <a:xfrm flipH="1" rot="18014400">
                <a:off x="3543840" y="2321640"/>
                <a:ext cx="393480" cy="201240"/>
              </a:xfrm>
              <a:custGeom>
                <a:avLst/>
                <a:gdLst>
                  <a:gd name="textAreaLeft" fmla="*/ -360 w 393480"/>
                  <a:gd name="textAreaRight" fmla="*/ 393480 w 3934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fill="none" w="42088" h="23141">
                    <a:moveTo>
                      <a:pt x="-1" y="14758"/>
                    </a:moveTo>
                    <a:cubicBezTo>
                      <a:pt x="2943" y="5944"/>
                      <a:pt x="11194" y="-1"/>
                      <a:pt x="20488" y="0"/>
                    </a:cubicBezTo>
                    <a:cubicBezTo>
                      <a:pt x="32417" y="0"/>
                      <a:pt x="42088" y="9670"/>
                      <a:pt x="42088" y="21600"/>
                    </a:cubicBezTo>
                    <a:cubicBezTo>
                      <a:pt x="42088" y="22114"/>
                      <a:pt x="42069" y="22628"/>
                      <a:pt x="42032" y="23140"/>
                    </a:cubicBezTo>
                  </a:path>
                  <a:path stroke="0" w="42088" h="23141">
                    <a:moveTo>
                      <a:pt x="-1" y="14758"/>
                    </a:moveTo>
                    <a:cubicBezTo>
                      <a:pt x="2943" y="5944"/>
                      <a:pt x="11194" y="-1"/>
                      <a:pt x="20488" y="0"/>
                    </a:cubicBezTo>
                    <a:cubicBezTo>
                      <a:pt x="32417" y="0"/>
                      <a:pt x="42088" y="9670"/>
                      <a:pt x="42088" y="21600"/>
                    </a:cubicBezTo>
                    <a:cubicBezTo>
                      <a:pt x="42088" y="22114"/>
                      <a:pt x="42069" y="22628"/>
                      <a:pt x="42032" y="23140"/>
                    </a:cubicBezTo>
                    <a:lnTo>
                      <a:pt x="20488" y="21600"/>
                    </a:lnTo>
                    <a:lnTo>
                      <a:pt x="-1" y="14758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Arc 21"/>
              <p:cNvSpPr/>
              <p:nvPr/>
            </p:nvSpPr>
            <p:spPr>
              <a:xfrm flipH="1" rot="9396000">
                <a:off x="3709800" y="2503440"/>
                <a:ext cx="360360" cy="15372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fill="none" w="42225" h="23141">
                    <a:moveTo>
                      <a:pt x="-1" y="15183"/>
                    </a:moveTo>
                    <a:cubicBezTo>
                      <a:pt x="2809" y="6152"/>
                      <a:pt x="11167" y="-1"/>
                      <a:pt x="20625" y="0"/>
                    </a:cubicBezTo>
                    <a:cubicBezTo>
                      <a:pt x="32554" y="0"/>
                      <a:pt x="42225" y="9670"/>
                      <a:pt x="42225" y="21600"/>
                    </a:cubicBezTo>
                    <a:cubicBezTo>
                      <a:pt x="42225" y="22114"/>
                      <a:pt x="42206" y="22628"/>
                      <a:pt x="42169" y="23140"/>
                    </a:cubicBezTo>
                  </a:path>
                  <a:path stroke="0" w="42225" h="23141">
                    <a:moveTo>
                      <a:pt x="-1" y="15183"/>
                    </a:moveTo>
                    <a:cubicBezTo>
                      <a:pt x="2809" y="6152"/>
                      <a:pt x="11167" y="-1"/>
                      <a:pt x="20625" y="0"/>
                    </a:cubicBezTo>
                    <a:cubicBezTo>
                      <a:pt x="32554" y="0"/>
                      <a:pt x="42225" y="9670"/>
                      <a:pt x="42225" y="21600"/>
                    </a:cubicBezTo>
                    <a:cubicBezTo>
                      <a:pt x="42225" y="22114"/>
                      <a:pt x="42206" y="22628"/>
                      <a:pt x="42169" y="23140"/>
                    </a:cubicBezTo>
                    <a:lnTo>
                      <a:pt x="20625" y="21600"/>
                    </a:lnTo>
                    <a:lnTo>
                      <a:pt x="-1" y="15183"/>
                    </a:lnTo>
                    <a:close/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6" name="同侧圆角矩形 21"/>
          <p:cNvGrpSpPr/>
          <p:nvPr/>
        </p:nvGrpSpPr>
        <p:grpSpPr>
          <a:xfrm>
            <a:off x="450720" y="1011240"/>
            <a:ext cx="2000520" cy="519120"/>
            <a:chOff x="450720" y="1011240"/>
            <a:chExt cx="2000520" cy="519120"/>
          </a:xfrm>
        </p:grpSpPr>
        <p:pic>
          <p:nvPicPr>
            <p:cNvPr id="1497" name="同侧圆角矩形 21" descr=""/>
            <p:cNvPicPr/>
            <p:nvPr/>
          </p:nvPicPr>
          <p:blipFill>
            <a:blip r:embed="rId3"/>
            <a:stretch/>
          </p:blipFill>
          <p:spPr>
            <a:xfrm>
              <a:off x="450720" y="101124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"/>
            <p:cNvSpPr/>
            <p:nvPr/>
          </p:nvSpPr>
          <p:spPr>
            <a:xfrm>
              <a:off x="474840" y="103824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9" name="直线连接符 21"/>
          <p:cNvSpPr/>
          <p:nvPr/>
        </p:nvSpPr>
        <p:spPr>
          <a:xfrm flipV="1">
            <a:off x="468360" y="165384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TextBox 9"/>
          <p:cNvSpPr/>
          <p:nvPr/>
        </p:nvSpPr>
        <p:spPr>
          <a:xfrm>
            <a:off x="2577960" y="42642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Box 10"/>
          <p:cNvSpPr/>
          <p:nvPr/>
        </p:nvSpPr>
        <p:spPr>
          <a:xfrm>
            <a:off x="5851440" y="42829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Picture 5" descr="77"/>
          <p:cNvPicPr/>
          <p:nvPr/>
        </p:nvPicPr>
        <p:blipFill>
          <a:blip r:embed="rId1"/>
          <a:stretch/>
        </p:blipFill>
        <p:spPr>
          <a:xfrm>
            <a:off x="1908000" y="2827440"/>
            <a:ext cx="1928880" cy="144144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6" descr="78"/>
          <p:cNvPicPr/>
          <p:nvPr/>
        </p:nvPicPr>
        <p:blipFill>
          <a:blip r:embed="rId2"/>
          <a:stretch/>
        </p:blipFill>
        <p:spPr>
          <a:xfrm>
            <a:off x="5315040" y="2637000"/>
            <a:ext cx="1633320" cy="1620720"/>
          </a:xfrm>
          <a:prstGeom prst="rect">
            <a:avLst/>
          </a:prstGeom>
          <a:ln w="0">
            <a:noFill/>
          </a:ln>
        </p:spPr>
      </p:pic>
      <p:grpSp>
        <p:nvGrpSpPr>
          <p:cNvPr id="1504" name="Group 7"/>
          <p:cNvGrpSpPr/>
          <p:nvPr/>
        </p:nvGrpSpPr>
        <p:grpSpPr>
          <a:xfrm>
            <a:off x="324000" y="1268280"/>
            <a:ext cx="6913080" cy="1433880"/>
            <a:chOff x="324000" y="1268280"/>
            <a:chExt cx="6913080" cy="1433880"/>
          </a:xfrm>
        </p:grpSpPr>
        <p:pic>
          <p:nvPicPr>
            <p:cNvPr id="1505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324000" y="1268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6" name="Group 9"/>
            <p:cNvGrpSpPr/>
            <p:nvPr/>
          </p:nvGrpSpPr>
          <p:grpSpPr>
            <a:xfrm>
              <a:off x="2268360" y="1484280"/>
              <a:ext cx="4968720" cy="1217880"/>
              <a:chOff x="2268360" y="1484280"/>
              <a:chExt cx="4968720" cy="1217880"/>
            </a:xfrm>
          </p:grpSpPr>
          <p:sp>
            <p:nvSpPr>
              <p:cNvPr id="1507" name="AutoShape 27"/>
              <p:cNvSpPr/>
              <p:nvPr/>
            </p:nvSpPr>
            <p:spPr>
              <a:xfrm>
                <a:off x="2268360" y="1484280"/>
                <a:ext cx="4968720" cy="1152000"/>
              </a:xfrm>
              <a:prstGeom prst="wedgeRoundRectCallout">
                <a:avLst>
                  <a:gd name="adj1" fmla="val -57254"/>
                  <a:gd name="adj2" fmla="val -1666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以半圆为弧的扇形的圆心角是多少度？以   圆为弧的扇形呢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08" name="Group 11"/>
              <p:cNvGrpSpPr/>
              <p:nvPr/>
            </p:nvGrpSpPr>
            <p:grpSpPr>
              <a:xfrm>
                <a:off x="3247920" y="1887120"/>
                <a:ext cx="510840" cy="815040"/>
                <a:chOff x="3247920" y="1887120"/>
                <a:chExt cx="510840" cy="815040"/>
              </a:xfrm>
            </p:grpSpPr>
            <p:sp>
              <p:nvSpPr>
                <p:cNvPr id="1509" name="Text Box 12"/>
                <p:cNvSpPr/>
                <p:nvPr/>
              </p:nvSpPr>
              <p:spPr>
                <a:xfrm>
                  <a:off x="3254040" y="2242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0" name="Text Box 13"/>
                <p:cNvSpPr/>
                <p:nvPr/>
              </p:nvSpPr>
              <p:spPr>
                <a:xfrm>
                  <a:off x="3247920" y="1887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1" name="Line 14"/>
                <p:cNvSpPr/>
                <p:nvPr/>
              </p:nvSpPr>
              <p:spPr>
                <a:xfrm>
                  <a:off x="3292200" y="230616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512" name="Group 15"/>
          <p:cNvGrpSpPr/>
          <p:nvPr/>
        </p:nvGrpSpPr>
        <p:grpSpPr>
          <a:xfrm>
            <a:off x="185760" y="4724280"/>
            <a:ext cx="4098960" cy="1800360"/>
            <a:chOff x="185760" y="4724280"/>
            <a:chExt cx="4098960" cy="1800360"/>
          </a:xfrm>
        </p:grpSpPr>
        <p:sp>
          <p:nvSpPr>
            <p:cNvPr id="1513" name="AutoShape 27"/>
            <p:cNvSpPr/>
            <p:nvPr/>
          </p:nvSpPr>
          <p:spPr>
            <a:xfrm>
              <a:off x="1523880" y="4940280"/>
              <a:ext cx="2760840" cy="934920"/>
            </a:xfrm>
            <a:prstGeom prst="wedgeRoundRectCallout">
              <a:avLst>
                <a:gd name="adj1" fmla="val -56499"/>
                <a:gd name="adj2" fmla="val -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以半圆为弧的扇形的圆心角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0°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4" name="Picture 17" descr="67"/>
            <p:cNvPicPr/>
            <p:nvPr/>
          </p:nvPicPr>
          <p:blipFill>
            <a:blip r:embed="rId4"/>
            <a:stretch/>
          </p:blipFill>
          <p:spPr>
            <a:xfrm>
              <a:off x="185760" y="472428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5" name="Group 18"/>
          <p:cNvGrpSpPr/>
          <p:nvPr/>
        </p:nvGrpSpPr>
        <p:grpSpPr>
          <a:xfrm>
            <a:off x="4489560" y="4732200"/>
            <a:ext cx="4293720" cy="2087640"/>
            <a:chOff x="4489560" y="4732200"/>
            <a:chExt cx="4293720" cy="2087640"/>
          </a:xfrm>
        </p:grpSpPr>
        <p:sp>
          <p:nvSpPr>
            <p:cNvPr id="1516" name="AutoShape 27"/>
            <p:cNvSpPr/>
            <p:nvPr/>
          </p:nvSpPr>
          <p:spPr>
            <a:xfrm>
              <a:off x="4489560" y="4732200"/>
              <a:ext cx="2879640" cy="865080"/>
            </a:xfrm>
            <a:prstGeom prst="wedgeRoundRectCallout">
              <a:avLst>
                <a:gd name="adj1" fmla="val 54245"/>
                <a:gd name="adj2" fmla="val 30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7" name="Picture 20" descr="68"/>
            <p:cNvPicPr/>
            <p:nvPr/>
          </p:nvPicPr>
          <p:blipFill>
            <a:blip r:embed="rId5"/>
            <a:stretch/>
          </p:blipFill>
          <p:spPr>
            <a:xfrm>
              <a:off x="7153200" y="5021280"/>
              <a:ext cx="1630080" cy="17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8" name="Group 21"/>
            <p:cNvGrpSpPr/>
            <p:nvPr/>
          </p:nvGrpSpPr>
          <p:grpSpPr>
            <a:xfrm>
              <a:off x="4776840" y="4732200"/>
              <a:ext cx="2952360" cy="815400"/>
              <a:chOff x="4776840" y="4732200"/>
              <a:chExt cx="2952360" cy="815400"/>
            </a:xfrm>
          </p:grpSpPr>
          <p:sp>
            <p:nvSpPr>
              <p:cNvPr id="1519" name="Text Box 22"/>
              <p:cNvSpPr/>
              <p:nvPr/>
            </p:nvSpPr>
            <p:spPr>
              <a:xfrm>
                <a:off x="4776840" y="4948200"/>
                <a:ext cx="29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6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9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度）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20" name="Group 23"/>
              <p:cNvGrpSpPr/>
              <p:nvPr/>
            </p:nvGrpSpPr>
            <p:grpSpPr>
              <a:xfrm>
                <a:off x="5501880" y="4732200"/>
                <a:ext cx="510480" cy="815400"/>
                <a:chOff x="5501880" y="4732200"/>
                <a:chExt cx="510480" cy="815400"/>
              </a:xfrm>
            </p:grpSpPr>
            <p:sp>
              <p:nvSpPr>
                <p:cNvPr id="1521" name="Text Box 24"/>
                <p:cNvSpPr/>
                <p:nvPr/>
              </p:nvSpPr>
              <p:spPr>
                <a:xfrm>
                  <a:off x="5507640" y="5087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2" name="Text Box 25"/>
                <p:cNvSpPr/>
                <p:nvPr/>
              </p:nvSpPr>
              <p:spPr>
                <a:xfrm>
                  <a:off x="5501880" y="473220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alibri"/>
                      <a:ea typeface="楷体_GB2312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3" name="Line 26"/>
                <p:cNvSpPr/>
                <p:nvPr/>
              </p:nvSpPr>
              <p:spPr>
                <a:xfrm>
                  <a:off x="5545800" y="5151600"/>
                  <a:ext cx="2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524" name="同侧圆角矩形 26"/>
          <p:cNvGrpSpPr/>
          <p:nvPr/>
        </p:nvGrpSpPr>
        <p:grpSpPr>
          <a:xfrm>
            <a:off x="2073240" y="480960"/>
            <a:ext cx="1998720" cy="518760"/>
            <a:chOff x="2073240" y="480960"/>
            <a:chExt cx="1998720" cy="518760"/>
          </a:xfrm>
        </p:grpSpPr>
        <p:pic>
          <p:nvPicPr>
            <p:cNvPr id="1525" name="同侧圆角矩形 26" descr=""/>
            <p:cNvPicPr/>
            <p:nvPr/>
          </p:nvPicPr>
          <p:blipFill>
            <a:blip r:embed="rId6"/>
            <a:stretch/>
          </p:blipFill>
          <p:spPr>
            <a:xfrm>
              <a:off x="2073240" y="48096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"/>
            <p:cNvSpPr/>
            <p:nvPr/>
          </p:nvSpPr>
          <p:spPr>
            <a:xfrm>
              <a:off x="2100240" y="509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直线连接符 21"/>
          <p:cNvSpPr/>
          <p:nvPr/>
        </p:nvSpPr>
        <p:spPr>
          <a:xfrm flipV="1">
            <a:off x="2104920" y="103968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1-24T08:00:14Z</dcterms:modified>
  <cp:revision>4</cp:revision>
  <dc:subject/>
  <dc:title>幻灯片 1</dc:title>
</cp:coreProperties>
</file>