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69F1-6E32-4273-9728-EBDA2753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1B2A-C496-4152-96D6-58D83455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3DC17-4D11-4F4D-80C9-78A15D28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E476EC-DB68-4805-B201-24358957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D594E-B683-4956-B04B-98B1A257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55E74-3C59-4B62-B9FE-D1302EA7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61139-1220-45EF-87BA-7F153B68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B4C33-E951-4892-8258-33CFEE04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40EA0-3D95-44F7-9E6D-A491B7EE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4922F-E2B8-401B-AD92-132562E1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23BF6-A14C-4561-AFA1-E8029E82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6B168-BB24-4276-8C8E-030D6366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3D75-89DA-449F-84B3-D45A208D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49D7B-BF67-472C-94C7-1E5E0E75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8AD05-0005-4198-8739-34F88C56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35411-E889-444A-835A-40E01E53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F9DFE8-1B81-4F04-8BEB-CDD7FC75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19B1F4-BB32-4438-ADD8-4F6F4EB6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4B943-351C-45CB-9C05-2D42A114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6ACBB-8403-4A2A-A2B3-E4BFC1D6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A9A714-AFDC-4293-8E32-54C35A9D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D2A5C-5E32-47F1-81B0-B4B030D1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7534D-73DB-4A10-B536-22BFCF9F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B8F0-E7E5-4E52-B2F7-833D50573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E665F-4EEB-4C89-8E3F-176961007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499D-A13F-4325-B13E-70EF9170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1199-6842-4D20-9E32-27B4D2ED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43F2-EEAB-4B94-A004-2F425E8C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E298-EAC4-4715-ACD9-75553686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24B1-7232-4CF5-A68C-A60808EF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71C3-4FC6-4FAC-82E0-2901772A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EC51-1B4F-4384-9021-86094426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31B7-4DEE-43FA-ABFE-706A338C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C9F0-E784-4F2D-B80E-863D1B42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AD77-94F4-4CE2-9BAB-5D0E6581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CA7D-443A-492E-AD58-F9CDD50B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095B-0484-4535-9A85-57EB66E66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54F8-1FEC-432B-933F-CA8A18C10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09077-CC83-4886-A4DC-D08F063C5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2E9DC-B4A6-4A3C-9F8F-E9436CBC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4A6C1-7400-41FD-9796-EF2551BB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32C18-3C6A-4931-BDA1-51981BD0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FB83D-DC69-4CB2-ABE5-74532EA1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8626-1BA9-42DD-8704-5E6BF9AB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C5AF8-ECB6-4AB3-9F29-5EFD04E1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3F736-5C60-4560-B1B6-E2548F50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8B7D7-7495-4AC3-9B7F-C4212CFF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CC09C-DCAD-42E0-86C8-3CA11E10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EBD68-4A67-42E6-B56F-FB0EE993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A0900-D27B-4DF7-96D7-A56DE3E3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3AEBA-FCCA-4747-A7F7-B6589B1A6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AE3F6-6263-4C2C-9C39-03AAA90DF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CA80F-48F7-44DD-AE59-B04620C6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571A5-1A39-4C17-BD33-34755EE5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4B86-369C-4025-9474-04B5ED81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B27B1-D0AA-4C43-B952-3C582638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CCCDC-6F00-4AB4-8FBD-066CEB95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534B1-C2EC-41E8-959E-5314C179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CB7ED-3A82-4771-BFC6-FCF2A1B7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829EC-A380-40FE-A14D-DE2209F2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341F1-741F-425E-B53A-AF362FC3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3F029-F0C0-4A10-AAB3-4AA42C55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0448E-9E3B-43D5-8649-1FC4667C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1BF64-4820-413F-969C-385860A1F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C1741-14A9-4474-AE78-6E2CA6BF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6880-3DAC-4CAA-BBC8-3F2FE7ED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FF3CA-5420-4BEA-A865-1F5AE13A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26F36-0ADB-46EB-8439-27E36D19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46E94-3C48-4641-BE33-EFB441C0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D2A95-C5EA-449C-A345-5B240C7B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C552A-6636-4FCF-A3DC-5F8FDDE3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2657C-AFBF-4D5F-9B75-996229CD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8718F-5782-413A-9454-7CA46D9C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437E4-D411-475F-A500-4DA139DB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6F133-6823-4CD6-93B1-4717CE6B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FEB49-E038-4FD7-BF3F-722A51995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F66E-CF20-49F2-A288-904C20A0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539B9-62D2-42AF-BB33-69F98935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446FB-C0D8-47E2-8215-A2E764F9D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7C200-95F9-4384-8049-CA704875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634AD-3C99-473A-8F82-1145E5EB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728AB-D770-46E7-8493-E0044B26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CC8B6-6ADB-4632-AD37-C783C1F9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4FBE5-04FD-4E91-A79F-723A439A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D5BA8-F36D-4E01-9B43-EA5C4D11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C300D-4DF1-4923-B7E1-CE4D2A47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FE8BD-4C36-4CD0-A589-B0BFB5A8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427C-8E1C-41FD-82A6-FA88AF6F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A8D7D-F242-4C3A-BB1C-CBB6C52E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08530-9364-4526-8361-A3716D7D8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FB283-308F-4A0E-AC83-59075081A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5B607-F3E4-4E59-84DB-FA54D1C8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5B19E-EE2F-462A-8F4E-2545A0F3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03517-9197-40F3-8326-B208245F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32F73-B711-45B0-BA7A-152A8F20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7DBB7-2EB4-4ABA-BE88-FD27CE18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6FB35-7CBC-4EED-B5D0-1339241B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93387-FB97-4C93-9ECA-50783F9A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2322-7A7D-40D3-9BB9-4271B915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E8427-7D23-4401-860D-91213DB5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92FCF-7CCB-4B71-B2E0-3B10CE2C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7FACC-58A9-40DC-B08C-61622093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9A825-2D4A-495D-9D21-63D2C7F9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632F5-D23C-4C1A-98B7-59280667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777E9-AAD2-4CEE-9266-D17B2851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2D6F4-9BED-4875-8A74-5C864AFF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A166E-CA56-4018-B2FE-BC2E970A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71E7F-B79A-498E-A26E-7B5F54C3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4755B-7C76-4521-A7EE-3E1009A9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FBD5-17CD-4089-A130-3F2166C7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08ABB-0D30-4888-B27D-BC9A64AD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DA74C-89C4-4CCE-AA2F-7C1E5428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6310A-D71C-451F-85D4-5D3086DE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ABD36-7BAE-4DA8-AC11-065D46D5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57EAB-3F27-4432-AF89-8620CBA2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2A02E-A594-4EB6-ABD6-68D6FE653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E7B64-74D1-416A-8E72-C3D1B6D03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E7AD1-FE97-4B8D-8330-0F0F56FF8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884E9-F124-4D2B-87CB-A61AE6EA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3AF6D-4E96-4605-BB8E-F1E345A6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2513-EBC9-4EAB-A12F-E24A142481A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01C5-3F1C-41E6-9863-489C0704D208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C20F-4624-4737-BE17-F42FDA74BD9A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4961-BB98-485A-825D-1203A410873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C39E-29F2-48D2-B455-4F5635ED1B86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1E90-B592-48B6-AD67-CC6086AC8974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4C5B-EC0A-4AB4-8CFC-D9566F864777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201B-C456-49A4-9526-86C0AED96F74}" type="slidenum">
              <a:rPr b="0" lang="zh-CN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386D-2E44-4F8E-B525-E721395DB0E6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81F2-2331-4823-8EDB-BD90465DF94D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3"/>
          <p:cNvSpPr/>
          <p:nvPr/>
        </p:nvSpPr>
        <p:spPr>
          <a:xfrm>
            <a:off x="4643280" y="2349360"/>
            <a:ext cx="30816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确定起跑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86" descr="女天使"/>
          <p:cNvPicPr/>
          <p:nvPr/>
        </p:nvPicPr>
        <p:blipFill>
          <a:blip r:embed="rId1"/>
          <a:stretch/>
        </p:blipFill>
        <p:spPr>
          <a:xfrm>
            <a:off x="7626240" y="1773360"/>
            <a:ext cx="1517760" cy="1274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57" descr="p4_1"/>
          <p:cNvPicPr/>
          <p:nvPr/>
        </p:nvPicPr>
        <p:blipFill>
          <a:blip r:embed="rId2"/>
          <a:stretch/>
        </p:blipFill>
        <p:spPr>
          <a:xfrm>
            <a:off x="0" y="4797360"/>
            <a:ext cx="1219320" cy="1752840"/>
          </a:xfrm>
          <a:prstGeom prst="rect">
            <a:avLst/>
          </a:prstGeom>
          <a:ln w="0">
            <a:noFill/>
          </a:ln>
        </p:spPr>
      </p:pic>
      <p:sp>
        <p:nvSpPr>
          <p:cNvPr id="486" name="标题 1"/>
          <p:cNvSpPr/>
          <p:nvPr/>
        </p:nvSpPr>
        <p:spPr>
          <a:xfrm>
            <a:off x="1258920" y="333360"/>
            <a:ext cx="7705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合作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468360" y="177336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方法三：先求弯道直径之差，再计算长度之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958680" y="2707560"/>
            <a:ext cx="618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5.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2.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×3.14159≈7.8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1187280" y="357336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7.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5.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×3.14159≈7.8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组合 3"/>
          <p:cNvGrpSpPr/>
          <p:nvPr/>
        </p:nvGrpSpPr>
        <p:grpSpPr>
          <a:xfrm>
            <a:off x="1187280" y="5229360"/>
            <a:ext cx="7128000" cy="520560"/>
            <a:chOff x="1187280" y="5229360"/>
            <a:chExt cx="7128000" cy="520560"/>
          </a:xfrm>
        </p:grpSpPr>
        <p:sp>
          <p:nvSpPr>
            <p:cNvPr id="491" name="Rectangle 9"/>
            <p:cNvSpPr/>
            <p:nvPr/>
          </p:nvSpPr>
          <p:spPr>
            <a:xfrm>
              <a:off x="1187280" y="5229360"/>
              <a:ext cx="712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1.25×2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）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92" name="对象 2"/>
            <p:cNvGraphicFramePr/>
            <p:nvPr/>
          </p:nvGraphicFramePr>
          <p:xfrm>
            <a:off x="3563640" y="5337360"/>
            <a:ext cx="360000" cy="3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3" name="对象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63640" y="5337360"/>
                      <a:ext cx="360000" cy="3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94" name="组合 2"/>
          <p:cNvGrpSpPr/>
          <p:nvPr/>
        </p:nvGrpSpPr>
        <p:grpSpPr>
          <a:xfrm>
            <a:off x="973080" y="4422600"/>
            <a:ext cx="7415280" cy="520560"/>
            <a:chOff x="973080" y="4422600"/>
            <a:chExt cx="7415280" cy="520560"/>
          </a:xfrm>
        </p:grpSpPr>
        <p:sp>
          <p:nvSpPr>
            <p:cNvPr id="495" name="Rectangle 7"/>
            <p:cNvSpPr/>
            <p:nvPr/>
          </p:nvSpPr>
          <p:spPr>
            <a:xfrm>
              <a:off x="973080" y="4422600"/>
              <a:ext cx="741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相邻跑道起跑线相差都是“跑道宽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×2×  ”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96" name="对象 9"/>
            <p:cNvGraphicFramePr/>
            <p:nvPr/>
          </p:nvGraphicFramePr>
          <p:xfrm>
            <a:off x="7308360" y="4565880"/>
            <a:ext cx="360000" cy="324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97" name="对象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308360" y="4565880"/>
                      <a:ext cx="360000" cy="3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标题 1"/>
          <p:cNvSpPr/>
          <p:nvPr/>
        </p:nvSpPr>
        <p:spPr>
          <a:xfrm>
            <a:off x="1258920" y="333360"/>
            <a:ext cx="7705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巩固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1260360" y="4005360"/>
            <a:ext cx="51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×2×3.14=6.2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1258920" y="494172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×2×3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.14≈7.5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8"/>
          <p:cNvSpPr/>
          <p:nvPr/>
        </p:nvSpPr>
        <p:spPr>
          <a:xfrm>
            <a:off x="684360" y="170532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．校园运动会的跑道宽比成人比赛的跑道宽要窄些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米的跑步比赛，跑道宽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米，你能帮裁判计算出相邻两条跑道的起跑线应该依次提前多少米吗？如果跑道宽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米呢？（圆周率取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1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7" descr="QQ图片20141015122358"/>
          <p:cNvPicPr/>
          <p:nvPr/>
        </p:nvPicPr>
        <p:blipFill>
          <a:blip r:embed="rId1"/>
          <a:stretch/>
        </p:blipFill>
        <p:spPr>
          <a:xfrm>
            <a:off x="826920" y="2695680"/>
            <a:ext cx="7490160" cy="2998800"/>
          </a:xfrm>
          <a:prstGeom prst="rect">
            <a:avLst/>
          </a:prstGeom>
          <a:ln w="0">
            <a:noFill/>
          </a:ln>
        </p:spPr>
      </p:pic>
      <p:sp>
        <p:nvSpPr>
          <p:cNvPr id="503" name="标题 1"/>
          <p:cNvSpPr/>
          <p:nvPr/>
        </p:nvSpPr>
        <p:spPr>
          <a:xfrm>
            <a:off x="1258920" y="333360"/>
            <a:ext cx="7705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巩固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900000" y="5732640"/>
            <a:ext cx="51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25×3.14≈3.9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611280" y="1334880"/>
            <a:ext cx="8426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运动场上还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米的比赛，跑道宽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2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米，起跑线应该依次提前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提示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米比赛有一圈吗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6"/>
          <p:cNvSpPr/>
          <p:nvPr/>
        </p:nvSpPr>
        <p:spPr>
          <a:xfrm>
            <a:off x="755640" y="16851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课外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标题 1"/>
          <p:cNvSpPr/>
          <p:nvPr/>
        </p:nvSpPr>
        <p:spPr>
          <a:xfrm>
            <a:off x="1258920" y="333360"/>
            <a:ext cx="7705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四、课外延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6"/>
          <p:cNvSpPr/>
          <p:nvPr/>
        </p:nvSpPr>
        <p:spPr>
          <a:xfrm>
            <a:off x="755640" y="2887560"/>
            <a:ext cx="7343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我们到操场上去实地试一试，确定一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米赛跑每一条跑道的起跑线在哪儿吧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bri Light"/>
              </a:rPr>
              <a:t>一、情景引入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2" name="Rectangle 9"/>
          <p:cNvSpPr/>
          <p:nvPr/>
        </p:nvSpPr>
        <p:spPr>
          <a:xfrm>
            <a:off x="5024520" y="2387520"/>
            <a:ext cx="380664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米比赛运动员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起跑情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2"/>
          <p:cNvSpPr/>
          <p:nvPr/>
        </p:nvSpPr>
        <p:spPr>
          <a:xfrm>
            <a:off x="5076720" y="5084640"/>
            <a:ext cx="380700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米比赛运动员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起跑情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20100613090352625"/>
          <p:cNvPicPr/>
          <p:nvPr/>
        </p:nvPicPr>
        <p:blipFill>
          <a:blip r:embed="rId1"/>
          <a:stretch/>
        </p:blipFill>
        <p:spPr>
          <a:xfrm>
            <a:off x="250920" y="1413000"/>
            <a:ext cx="4500360" cy="25304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0" descr="Mypsd_67366_201204071343520060B"/>
          <p:cNvPicPr/>
          <p:nvPr/>
        </p:nvPicPr>
        <p:blipFill>
          <a:blip r:embed="rId2"/>
          <a:stretch/>
        </p:blipFill>
        <p:spPr>
          <a:xfrm>
            <a:off x="247680" y="4005360"/>
            <a:ext cx="450540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标题 1"/>
          <p:cNvSpPr/>
          <p:nvPr/>
        </p:nvSpPr>
        <p:spPr>
          <a:xfrm>
            <a:off x="1258920" y="333360"/>
            <a:ext cx="7705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合作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6"/>
          <p:cNvSpPr/>
          <p:nvPr/>
        </p:nvSpPr>
        <p:spPr>
          <a:xfrm>
            <a:off x="1114560" y="4724280"/>
            <a:ext cx="76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每条跑道一圈的长度相等吗？差别在哪里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2326680" y="553068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比赛的时候，是怎样解决这个问题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7" descr="QQ图片20141015122358"/>
          <p:cNvPicPr/>
          <p:nvPr/>
        </p:nvPicPr>
        <p:blipFill>
          <a:blip r:embed="rId1"/>
          <a:stretch/>
        </p:blipFill>
        <p:spPr>
          <a:xfrm>
            <a:off x="468360" y="1341360"/>
            <a:ext cx="82677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10" descr="QQ图片20141015122358"/>
          <p:cNvPicPr/>
          <p:nvPr/>
        </p:nvPicPr>
        <p:blipFill>
          <a:blip r:embed="rId1"/>
          <a:stretch/>
        </p:blipFill>
        <p:spPr>
          <a:xfrm>
            <a:off x="468360" y="1341360"/>
            <a:ext cx="8267760" cy="3343320"/>
          </a:xfrm>
          <a:prstGeom prst="rect">
            <a:avLst/>
          </a:prstGeom>
          <a:ln w="0">
            <a:noFill/>
          </a:ln>
        </p:spPr>
      </p:pic>
      <p:sp>
        <p:nvSpPr>
          <p:cNvPr id="441" name="标题 1"/>
          <p:cNvSpPr/>
          <p:nvPr/>
        </p:nvSpPr>
        <p:spPr>
          <a:xfrm>
            <a:off x="1258920" y="333360"/>
            <a:ext cx="7705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合作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1042920" y="471636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每一条跑道具体是由哪几部分组成的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2811600" y="5530680"/>
            <a:ext cx="37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跑道一圈长度＝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条直道长度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圆的周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6"/>
          <p:cNvSpPr/>
          <p:nvPr/>
        </p:nvSpPr>
        <p:spPr>
          <a:xfrm>
            <a:off x="4019400" y="1459080"/>
            <a:ext cx="1800" cy="287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7"/>
          <p:cNvSpPr/>
          <p:nvPr/>
        </p:nvSpPr>
        <p:spPr>
          <a:xfrm>
            <a:off x="1878120" y="1454040"/>
            <a:ext cx="1440" cy="2880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标题 1"/>
          <p:cNvSpPr/>
          <p:nvPr/>
        </p:nvSpPr>
        <p:spPr>
          <a:xfrm>
            <a:off x="1258920" y="333360"/>
            <a:ext cx="7705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合作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1114560" y="471636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内外跑道长度的差异是怎样形成的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3396960" y="553068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因为内圆和外圆的周长不一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9" descr="QQ图片20141015122358"/>
          <p:cNvPicPr/>
          <p:nvPr/>
        </p:nvPicPr>
        <p:blipFill>
          <a:blip r:embed="rId1"/>
          <a:stretch/>
        </p:blipFill>
        <p:spPr>
          <a:xfrm>
            <a:off x="468360" y="1341360"/>
            <a:ext cx="8267760" cy="3343320"/>
          </a:xfrm>
          <a:prstGeom prst="rect">
            <a:avLst/>
          </a:prstGeom>
          <a:ln w="0">
            <a:noFill/>
          </a:ln>
        </p:spPr>
      </p:pic>
      <p:sp>
        <p:nvSpPr>
          <p:cNvPr id="450" name="Line 6"/>
          <p:cNvSpPr/>
          <p:nvPr/>
        </p:nvSpPr>
        <p:spPr>
          <a:xfrm>
            <a:off x="4019400" y="1459080"/>
            <a:ext cx="1800" cy="287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7"/>
          <p:cNvSpPr/>
          <p:nvPr/>
        </p:nvSpPr>
        <p:spPr>
          <a:xfrm>
            <a:off x="1878120" y="1454040"/>
            <a:ext cx="1440" cy="2880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标题 1"/>
          <p:cNvSpPr/>
          <p:nvPr/>
        </p:nvSpPr>
        <p:spPr>
          <a:xfrm>
            <a:off x="1258920" y="333360"/>
            <a:ext cx="7705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合作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971640" y="50706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怎样找出相邻两个跑道的长度之差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8" descr="QQ图片20141015122358"/>
          <p:cNvPicPr/>
          <p:nvPr/>
        </p:nvPicPr>
        <p:blipFill>
          <a:blip r:embed="rId1"/>
          <a:stretch/>
        </p:blipFill>
        <p:spPr>
          <a:xfrm>
            <a:off x="468360" y="1341360"/>
            <a:ext cx="8267760" cy="3343320"/>
          </a:xfrm>
          <a:prstGeom prst="rect">
            <a:avLst/>
          </a:prstGeom>
          <a:ln w="0">
            <a:noFill/>
          </a:ln>
        </p:spPr>
      </p:pic>
      <p:sp>
        <p:nvSpPr>
          <p:cNvPr id="455" name="Line 6"/>
          <p:cNvSpPr/>
          <p:nvPr/>
        </p:nvSpPr>
        <p:spPr>
          <a:xfrm>
            <a:off x="4019400" y="1459080"/>
            <a:ext cx="1800" cy="287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7"/>
          <p:cNvSpPr/>
          <p:nvPr/>
        </p:nvSpPr>
        <p:spPr>
          <a:xfrm>
            <a:off x="1878120" y="1454040"/>
            <a:ext cx="1440" cy="2880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10" descr="QQ图片20141015123001"/>
          <p:cNvPicPr/>
          <p:nvPr/>
        </p:nvPicPr>
        <p:blipFill>
          <a:blip r:embed="rId1"/>
          <a:stretch/>
        </p:blipFill>
        <p:spPr>
          <a:xfrm>
            <a:off x="395280" y="2349360"/>
            <a:ext cx="8280360" cy="23749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57" descr="p4_1"/>
          <p:cNvPicPr/>
          <p:nvPr/>
        </p:nvPicPr>
        <p:blipFill>
          <a:blip r:embed="rId2"/>
          <a:stretch/>
        </p:blipFill>
        <p:spPr>
          <a:xfrm>
            <a:off x="0" y="4797360"/>
            <a:ext cx="1219320" cy="1752840"/>
          </a:xfrm>
          <a:prstGeom prst="rect">
            <a:avLst/>
          </a:prstGeom>
          <a:ln w="0">
            <a:noFill/>
          </a:ln>
        </p:spPr>
      </p:pic>
      <p:sp>
        <p:nvSpPr>
          <p:cNvPr id="459" name="标题 1"/>
          <p:cNvSpPr/>
          <p:nvPr/>
        </p:nvSpPr>
        <p:spPr>
          <a:xfrm>
            <a:off x="1258920" y="333360"/>
            <a:ext cx="7705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合作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3"/>
          <p:cNvSpPr/>
          <p:nvPr/>
        </p:nvSpPr>
        <p:spPr>
          <a:xfrm>
            <a:off x="2628720" y="177336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方法一：计算每一条跑道的长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7"/>
          <p:cNvSpPr/>
          <p:nvPr/>
        </p:nvSpPr>
        <p:spPr>
          <a:xfrm>
            <a:off x="1927080" y="5132520"/>
            <a:ext cx="59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弯道周长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2.6×3.14159≈228.0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8"/>
          <p:cNvSpPr/>
          <p:nvPr/>
        </p:nvSpPr>
        <p:spPr>
          <a:xfrm>
            <a:off x="1842120" y="5805360"/>
            <a:ext cx="596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跑道全长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5.96×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28.08=4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186" descr="女天使"/>
          <p:cNvPicPr/>
          <p:nvPr/>
        </p:nvPicPr>
        <p:blipFill>
          <a:blip r:embed="rId3"/>
          <a:stretch/>
        </p:blipFill>
        <p:spPr>
          <a:xfrm>
            <a:off x="7626240" y="1773360"/>
            <a:ext cx="151776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86" descr="女天使"/>
          <p:cNvPicPr/>
          <p:nvPr/>
        </p:nvPicPr>
        <p:blipFill>
          <a:blip r:embed="rId1"/>
          <a:stretch/>
        </p:blipFill>
        <p:spPr>
          <a:xfrm>
            <a:off x="7626240" y="1773360"/>
            <a:ext cx="1517760" cy="127476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57" descr="p4_1"/>
          <p:cNvPicPr/>
          <p:nvPr/>
        </p:nvPicPr>
        <p:blipFill>
          <a:blip r:embed="rId2"/>
          <a:stretch/>
        </p:blipFill>
        <p:spPr>
          <a:xfrm>
            <a:off x="0" y="4797360"/>
            <a:ext cx="1219320" cy="1752840"/>
          </a:xfrm>
          <a:prstGeom prst="rect">
            <a:avLst/>
          </a:prstGeom>
          <a:ln w="0">
            <a:noFill/>
          </a:ln>
        </p:spPr>
      </p:pic>
      <p:sp>
        <p:nvSpPr>
          <p:cNvPr id="466" name="标题 1"/>
          <p:cNvSpPr/>
          <p:nvPr/>
        </p:nvSpPr>
        <p:spPr>
          <a:xfrm>
            <a:off x="1258920" y="333360"/>
            <a:ext cx="7705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合作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468360" y="1773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方法二：弯道长度相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891720" y="2851920"/>
            <a:ext cx="70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5.1×3.1415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2.6×3.14159≈7.8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1116000" y="3933720"/>
            <a:ext cx="71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7.6×3.1415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5.1×3.14159≈7.8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86" descr="女天使"/>
          <p:cNvPicPr/>
          <p:nvPr/>
        </p:nvPicPr>
        <p:blipFill>
          <a:blip r:embed="rId1"/>
          <a:stretch/>
        </p:blipFill>
        <p:spPr>
          <a:xfrm>
            <a:off x="7626240" y="1773360"/>
            <a:ext cx="1517760" cy="12747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57" descr="p4_1"/>
          <p:cNvPicPr/>
          <p:nvPr/>
        </p:nvPicPr>
        <p:blipFill>
          <a:blip r:embed="rId2"/>
          <a:stretch/>
        </p:blipFill>
        <p:spPr>
          <a:xfrm>
            <a:off x="0" y="4797360"/>
            <a:ext cx="1219320" cy="1752840"/>
          </a:xfrm>
          <a:prstGeom prst="rect">
            <a:avLst/>
          </a:prstGeom>
          <a:ln w="0">
            <a:noFill/>
          </a:ln>
        </p:spPr>
      </p:pic>
      <p:sp>
        <p:nvSpPr>
          <p:cNvPr id="472" name="标题 1"/>
          <p:cNvSpPr/>
          <p:nvPr/>
        </p:nvSpPr>
        <p:spPr>
          <a:xfrm>
            <a:off x="1258920" y="333360"/>
            <a:ext cx="7705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合作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468360" y="177336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方法三：先求弯道直径之差，再计算长度之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958680" y="2707560"/>
            <a:ext cx="618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5.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2.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×3.14159≈7.8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8"/>
          <p:cNvSpPr/>
          <p:nvPr/>
        </p:nvSpPr>
        <p:spPr>
          <a:xfrm>
            <a:off x="1187280" y="357336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7.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5.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×3.14159≈7.8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组合 3"/>
          <p:cNvGrpSpPr/>
          <p:nvPr/>
        </p:nvGrpSpPr>
        <p:grpSpPr>
          <a:xfrm>
            <a:off x="1187280" y="5229360"/>
            <a:ext cx="7128000" cy="520560"/>
            <a:chOff x="1187280" y="5229360"/>
            <a:chExt cx="7128000" cy="520560"/>
          </a:xfrm>
        </p:grpSpPr>
        <p:sp>
          <p:nvSpPr>
            <p:cNvPr id="477" name="Rectangle 9"/>
            <p:cNvSpPr/>
            <p:nvPr/>
          </p:nvSpPr>
          <p:spPr>
            <a:xfrm>
              <a:off x="1187280" y="5229360"/>
              <a:ext cx="712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1.25×2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）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78" name="对象 2"/>
            <p:cNvGraphicFramePr/>
            <p:nvPr/>
          </p:nvGraphicFramePr>
          <p:xfrm>
            <a:off x="3563640" y="5337360"/>
            <a:ext cx="360000" cy="3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9" name="对象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63640" y="5337360"/>
                      <a:ext cx="360000" cy="3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80" name="组合 3"/>
          <p:cNvGrpSpPr/>
          <p:nvPr/>
        </p:nvGrpSpPr>
        <p:grpSpPr>
          <a:xfrm>
            <a:off x="1187280" y="4437000"/>
            <a:ext cx="7128000" cy="520560"/>
            <a:chOff x="1187280" y="4437000"/>
            <a:chExt cx="7128000" cy="520560"/>
          </a:xfrm>
        </p:grpSpPr>
        <p:sp>
          <p:nvSpPr>
            <p:cNvPr id="481" name="Rectangle 9"/>
            <p:cNvSpPr/>
            <p:nvPr/>
          </p:nvSpPr>
          <p:spPr>
            <a:xfrm>
              <a:off x="1187280" y="4437000"/>
              <a:ext cx="712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2.5   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82" name="对象 2"/>
            <p:cNvGraphicFramePr/>
            <p:nvPr/>
          </p:nvGraphicFramePr>
          <p:xfrm>
            <a:off x="3563640" y="4545000"/>
            <a:ext cx="360000" cy="396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83" name="对象 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563640" y="4545000"/>
                      <a:ext cx="360000" cy="3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7:18:53Z</dcterms:created>
  <dc:creator>user</dc:creator>
  <dc:description/>
  <dc:language>en-US</dc:language>
  <cp:lastModifiedBy>陈 赫</cp:lastModifiedBy>
  <dcterms:modified xsi:type="dcterms:W3CDTF">2018-11-24T08:02:25Z</dcterms:modified>
  <cp:revision>294</cp:revision>
  <dc:subject/>
  <dc:title>幻灯片 1</dc:title>
</cp:coreProperties>
</file>