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461-0547-4A63-B7B8-C57DD144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BED-03D5-4009-9A7D-9A4527B3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40A-B4E8-4447-8425-081A12E0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AC8-5138-47FD-B926-D8990084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17A-950F-45A5-8AB4-EC4B300A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30B3-528E-490B-BE9A-649203C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CEDB-BBE3-45D1-9BE4-8862B982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045B-0CCC-473E-AC85-D3657C92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BC68-B012-4D09-8679-6A4E6D64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6638-8FCF-4AB6-B9DE-C66443B0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A2D-7424-4B2C-8740-5C2BA08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935-4717-4591-BC56-DA9EB35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88BA-5F5E-46AD-BD34-F31D5428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C403-6401-4945-A2C2-002EE98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E452-5FA6-4CF3-9443-693AEBAC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2EFF-B6E8-49D4-B209-375F2EB6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FFE-285E-4F00-85D4-6F9F76A5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E368-01FE-47B0-ABA9-4763805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4608-0D84-4A17-B3CA-9D55545F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4A86-FCC3-497C-B450-BCF3CCD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C144-032F-46FA-A4C5-EDC47673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DD92-30CB-4C3A-9EA7-19DBB47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676-00E0-4E4D-875F-FAC1B42E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2903-FF5E-4EB8-8125-E672F032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D198-0FED-43B5-BB61-E3AFCE2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74FC-F895-465C-9AC8-7E8AB1C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1351-9247-4CBE-AD69-38657B8E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00A1-2B12-4A6F-A765-6CBCFE85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A8A8-1FE6-4D5C-B635-9A160FDB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A4BC-EC2A-4356-9746-DDF5C987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7530-A25F-4BA1-98B7-1753FB6B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3060-C352-471A-9C1D-8AF12DC4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EFD8-A26F-440D-A4E7-11D0C2B9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299-3579-4F3B-9460-AF881639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88D5-E2D8-4053-BF47-954DAF30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01C1-10AD-4EAA-9395-54C19CA4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7B81-7749-4B66-8F50-FBD148F3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2AA5-B7E8-446E-ABD2-4074A8F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BE40-1F64-4939-B9C1-EC0CE7D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AC70-71C8-4A86-A6AA-FAA8D531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76B1-D639-42A6-8361-78426AD3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D5B6-3EA6-40B3-B422-3FC3C5A2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E2D1-C044-4877-8922-B8FB181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566B-014D-41B4-8744-D1C43ED6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D39-8B04-4B29-A5C4-A7FA57A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366A-7671-4232-896F-0FA40C0C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EB5C0-6483-4CB4-BB8B-E779A69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8DC2A-7427-43CD-8AA9-39D1712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5EFC-F91A-486E-8CE0-6EA4AAD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0C4E-0A9C-4C1A-8B6E-37294EC6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4915-1D34-4F3D-BBB9-13F1787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F616-274B-4FF6-9C61-7F25F32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CB46-3D25-4490-A7BB-12E2E37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7624-6FF5-4549-837B-6E14280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FB45-63F2-4423-96AB-5D312654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47C-738C-4697-B14C-3ADF9E4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A29AE-4901-4972-B5AC-2FF0F834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4313-9447-44B4-A0AE-CD3E169A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40D3-FBC9-48FF-99E4-8D32DB3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64AD-2D90-4008-BF09-C9BC6D62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C825-03FB-4C5A-BB15-14A6082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764D-69F4-4EE0-965F-81454927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CD2B-A03B-4CC8-8791-0B7EEF54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EC82-4BCF-44B1-B086-D003E2B7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52DB-B22B-49C0-8947-A84121B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6EB2-6E40-4D04-9C5F-9734B8E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68A-5187-4600-B64B-61B7A3A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48C2-2323-44AF-8A2D-3F14C86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1C9A-12D1-40A8-A916-B20ABB5F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AC06-9C4C-4180-AD22-36648DC3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8FF1-8056-4FF2-89F0-5D165A75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10A9-B3E7-4766-BBBE-24F8BC52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D2EB-1E9F-4D2D-8AF2-1A333B81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3B9A-9312-4866-8FB1-0F2D256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3D62F-BFF0-425F-BD18-CA4FA2F7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C540-8283-418E-A872-30FC87D9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22981-16CC-409E-86E2-A362E6D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83F-5E86-429B-B88D-0CF9BBF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3991-E1E6-4314-B6F6-797D1C5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08F64-6DB1-4073-9E3C-CA0CCE6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ADC1D-0B2B-4E88-8EFE-5DBAFAE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81C3-9BCB-46B6-B130-15C9A80C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BCA85-2F6B-417A-A334-D8A8C24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4F3-FCCB-4288-AB4E-4EAD78F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24A09-F539-4378-AED1-8CC7DC0EDFB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E42DF-70DB-4277-B369-50AD73F117D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68348-6792-4214-BC85-3C5A7483411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2890B-928E-47B8-9174-9A06A18FF99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9F6CF-3706-404C-8DDB-A4338103ABE2}" type="slidenum">
              <a:rPr b="0" lang="en-US" sz="1000" spc="-1" strike="noStrike">
                <a:solidFill>
                  <a:srgbClr val="637052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22013-24A4-4DE1-9917-4DD88F948B2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5E62E-9B5A-47F2-A949-90D3C839D96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8"/>
          <p:cNvSpPr txBox="1"/>
          <p:nvPr/>
        </p:nvSpPr>
        <p:spPr>
          <a:xfrm>
            <a:off x="1187280" y="1628640"/>
            <a:ext cx="7058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ea"/>
              </a:rPr>
              <a:t>百分数的认识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ea"/>
              <a:ea typeface="+mn-e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224b50"/>
                </a:solidFill>
                <a:latin typeface="方正姚体"/>
                <a:ea typeface="方正姚体"/>
              </a:rPr>
              <a:t>       </a:t>
            </a:r>
            <a:r>
              <a:rPr b="0" lang="zh-CN" sz="4200" spc="-1" strike="noStrike">
                <a:solidFill>
                  <a:srgbClr val="224b50"/>
                </a:solidFill>
                <a:latin typeface="方正姚体"/>
                <a:ea typeface="方正姚体"/>
              </a:rPr>
              <a:t>夏令营中的百分数</a:t>
            </a:r>
            <a:endParaRPr b="0" lang="en-US" sz="4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2055240" y="472428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3c8c93"/>
                </a:solidFill>
                <a:latin typeface="华文新魏"/>
                <a:ea typeface="华文新魏"/>
              </a:rPr>
              <a:t>暑假来临，学校组织同学参加夏令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3c8c93"/>
                </a:solidFill>
                <a:latin typeface="华文新魏"/>
                <a:ea typeface="华文新魏"/>
              </a:rPr>
              <a:t>夏令营中女生人数可能会是男生人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3c8c93"/>
                </a:solidFill>
                <a:latin typeface="华文新魏"/>
                <a:ea typeface="华文新魏"/>
              </a:rPr>
              <a:t>的（     ）</a:t>
            </a:r>
            <a:r>
              <a:rPr b="1" lang="en-US" sz="3600" spc="-1" strike="noStrike">
                <a:solidFill>
                  <a:srgbClr val="3c8c93"/>
                </a:solidFill>
                <a:latin typeface="华文新魏"/>
                <a:ea typeface="华文新魏"/>
              </a:rPr>
              <a:t>%</a:t>
            </a:r>
            <a:r>
              <a:rPr b="1" lang="zh-CN" sz="3600" spc="-1" strike="noStrike">
                <a:solidFill>
                  <a:srgbClr val="3c8c93"/>
                </a:solidFill>
                <a:latin typeface="华文新魏"/>
                <a:ea typeface="华文新魏"/>
              </a:rPr>
              <a:t>？可能会是哪个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6005520" y="17640"/>
            <a:ext cx="3114720" cy="4706640"/>
          </a:xfrm>
          <a:prstGeom prst="rect">
            <a:avLst/>
          </a:prstGeom>
          <a:ln w="0">
            <a:noFill/>
          </a:ln>
        </p:spPr>
      </p:pic>
      <p:sp>
        <p:nvSpPr>
          <p:cNvPr id="342" name="TextBox 6"/>
          <p:cNvSpPr/>
          <p:nvPr/>
        </p:nvSpPr>
        <p:spPr>
          <a:xfrm>
            <a:off x="1043280" y="1413000"/>
            <a:ext cx="24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A</a:t>
            </a:r>
            <a:r>
              <a:rPr b="1" lang="zh-CN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、</a:t>
            </a:r>
            <a:r>
              <a:rPr b="1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993960" y="2598840"/>
            <a:ext cx="27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B</a:t>
            </a:r>
            <a:r>
              <a:rPr b="1" lang="zh-CN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、</a:t>
            </a:r>
            <a:r>
              <a:rPr b="1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10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1109880" y="3789360"/>
            <a:ext cx="27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C</a:t>
            </a:r>
            <a:r>
              <a:rPr b="1" lang="zh-CN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、</a:t>
            </a:r>
            <a:r>
              <a:rPr b="1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20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00000"/>
                </a:solidFill>
                <a:latin typeface="方正姚体"/>
                <a:ea typeface="方正姚体"/>
              </a:rPr>
              <a:t>     </a:t>
            </a:r>
            <a:r>
              <a:rPr b="1" lang="zh-CN" sz="4200" spc="-1" strike="noStrike">
                <a:solidFill>
                  <a:srgbClr val="c00000"/>
                </a:solidFill>
                <a:latin typeface="方正姚体"/>
                <a:ea typeface="方正姚体"/>
              </a:rPr>
              <a:t>小于百分之一百的分数</a:t>
            </a:r>
            <a:endParaRPr b="0" lang="en-US" sz="4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5752440" y="2046240"/>
            <a:ext cx="15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大豆的出油率一般为</a:t>
            </a:r>
            <a:r>
              <a:rPr b="1" lang="en-US" sz="3200" spc="-1" strike="noStrike">
                <a:solidFill>
                  <a:srgbClr val="7030a0"/>
                </a:solidFill>
                <a:latin typeface="华文楷体"/>
                <a:ea typeface="华文楷体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1836360" y="5181480"/>
            <a:ext cx="15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花生的出油率一般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8" descr="花生"/>
          <p:cNvPicPr/>
          <p:nvPr/>
        </p:nvPicPr>
        <p:blipFill>
          <a:blip r:embed="rId1"/>
          <a:stretch/>
        </p:blipFill>
        <p:spPr>
          <a:xfrm>
            <a:off x="4932360" y="3357720"/>
            <a:ext cx="3998880" cy="301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dd"/>
          <p:cNvPicPr/>
          <p:nvPr/>
        </p:nvPicPr>
        <p:blipFill>
          <a:blip r:embed="rId2"/>
          <a:stretch/>
        </p:blipFill>
        <p:spPr>
          <a:xfrm>
            <a:off x="324000" y="1628640"/>
            <a:ext cx="3457440" cy="2311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方正姚体"/>
                <a:ea typeface="方正姚体"/>
              </a:rPr>
              <a:t>     </a:t>
            </a:r>
            <a:r>
              <a:rPr b="1" lang="zh-CN" sz="4800" spc="-1" strike="noStrike">
                <a:solidFill>
                  <a:srgbClr val="002060"/>
                </a:solidFill>
                <a:latin typeface="方正姚体"/>
                <a:ea typeface="方正姚体"/>
              </a:rPr>
              <a:t>大于百分之一百的分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484200" y="1387440"/>
            <a:ext cx="8175600" cy="39862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"/>
          <p:cNvSpPr/>
          <p:nvPr/>
        </p:nvSpPr>
        <p:spPr>
          <a:xfrm>
            <a:off x="1916640" y="5924520"/>
            <a:ext cx="62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车内乘坐人数竟达座位数的</a:t>
            </a:r>
            <a:r>
              <a:rPr b="1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300%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"/>
                <a:ea typeface="宋体"/>
              </a:rPr>
              <a:t>2012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  <a:ea typeface="宋体"/>
              </a:rPr>
              <a:t>年，我国工业生产缓中趋稳。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  <a:ea typeface="宋体"/>
              </a:rPr>
              <a:t>分季度看，一季度同比增长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  <a:ea typeface="宋体"/>
              </a:rPr>
              <a:t>11.6%,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  <a:ea typeface="宋体"/>
              </a:rPr>
              <a:t>二季度增长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  <a:ea typeface="宋体"/>
              </a:rPr>
              <a:t>9.5%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  <a:ea typeface="宋体"/>
              </a:rPr>
              <a:t>，三季度增长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  <a:ea typeface="宋体"/>
              </a:rPr>
              <a:t>9.1%,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  <a:ea typeface="宋体"/>
              </a:rPr>
              <a:t>四季度增长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  <a:ea typeface="宋体"/>
              </a:rPr>
              <a:t>10.0%</a:t>
            </a:r>
            <a:r>
              <a:rPr b="0" lang="zh-CN" sz="4000" spc="-1" strike="noStrike">
                <a:solidFill>
                  <a:srgbClr val="404040"/>
                </a:solidFill>
                <a:latin typeface="Calibri"/>
                <a:ea typeface="宋体"/>
              </a:rPr>
              <a:t>。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，我国工业生产缓中趋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季度看，一季度同比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1.6%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.5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三季度增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.1%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.0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7236000" y="2852640"/>
            <a:ext cx="1366560" cy="1060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2"/>
          <a:stretch/>
        </p:blipFill>
        <p:spPr>
          <a:xfrm>
            <a:off x="3564000" y="3716280"/>
            <a:ext cx="1227240" cy="75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1440000" cy="1109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1514520" cy="1182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324000" y="0"/>
            <a:ext cx="8820000" cy="3116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，我国工业生产缓中趋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季度看，一季度同比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1.6%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.5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三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.1%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.0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38040" y="3429000"/>
            <a:ext cx="8626680" cy="318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1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，我国工业生产缓中趋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季度看，一季度同比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1.6%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.5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三季度增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8312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.1%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季度增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.0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6804000" y="3935520"/>
            <a:ext cx="1368360" cy="1087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2"/>
          <a:stretch/>
        </p:blipFill>
        <p:spPr>
          <a:xfrm>
            <a:off x="3344760" y="4838760"/>
            <a:ext cx="1227240" cy="750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"/>
          <p:cNvPicPr/>
          <p:nvPr/>
        </p:nvPicPr>
        <p:blipFill>
          <a:blip r:embed="rId3"/>
          <a:stretch/>
        </p:blipFill>
        <p:spPr>
          <a:xfrm>
            <a:off x="611280" y="550872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"/>
          <p:cNvPicPr/>
          <p:nvPr/>
        </p:nvPicPr>
        <p:blipFill>
          <a:blip r:embed="rId4"/>
          <a:stretch/>
        </p:blipFill>
        <p:spPr>
          <a:xfrm>
            <a:off x="4572000" y="5472000"/>
            <a:ext cx="15145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1625040" y="2133720"/>
            <a:ext cx="562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在老师喊停之前，四人小组成员</a:t>
            </a:r>
            <a:r>
              <a:rPr b="1" lang="zh-CN" sz="3600" spc="-1" strike="noStrike">
                <a:solidFill>
                  <a:srgbClr val="ff3399"/>
                </a:solidFill>
                <a:latin typeface="华文中宋"/>
                <a:ea typeface="华文中宋"/>
              </a:rPr>
              <a:t>轮流说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每人每次只能交流一个百分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交流的同学把材料放在桌子上，</a:t>
            </a:r>
            <a:r>
              <a:rPr b="1" lang="zh-CN" sz="3600" spc="-1" strike="noStrike">
                <a:solidFill>
                  <a:srgbClr val="ff3399"/>
                </a:solidFill>
                <a:latin typeface="华文中宋"/>
                <a:ea typeface="华文中宋"/>
              </a:rPr>
              <a:t>用手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中宋"/>
                <a:ea typeface="华文中宋"/>
              </a:rPr>
              <a:t>着说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其它同学，认真听，</a:t>
            </a:r>
            <a:r>
              <a:rPr b="1" lang="zh-CN" sz="3600" spc="-1" strike="noStrike">
                <a:solidFill>
                  <a:srgbClr val="ff3399"/>
                </a:solidFill>
                <a:latin typeface="华文中宋"/>
                <a:ea typeface="华文中宋"/>
              </a:rPr>
              <a:t>发现问题，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华文中宋"/>
                <a:ea typeface="华文中宋"/>
              </a:rPr>
              <a:t>时提出，及时处理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5364000" y="5300640"/>
            <a:ext cx="3413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新魏"/>
              </a:rPr>
              <a:t>交流提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95-1311231GI90"/>
          <p:cNvPicPr/>
          <p:nvPr/>
        </p:nvPicPr>
        <p:blipFill>
          <a:blip r:embed="rId1"/>
          <a:stretch/>
        </p:blipFill>
        <p:spPr>
          <a:xfrm>
            <a:off x="115920" y="0"/>
            <a:ext cx="4479840" cy="6497640"/>
          </a:xfrm>
          <a:prstGeom prst="rect">
            <a:avLst/>
          </a:prstGeom>
          <a:ln w="0">
            <a:noFill/>
          </a:ln>
        </p:spPr>
      </p:pic>
      <p:sp>
        <p:nvSpPr>
          <p:cNvPr id="308" name="Oval 5"/>
          <p:cNvSpPr/>
          <p:nvPr/>
        </p:nvSpPr>
        <p:spPr>
          <a:xfrm>
            <a:off x="1619280" y="2708280"/>
            <a:ext cx="1297080" cy="1368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6948360" y="1341360"/>
            <a:ext cx="151128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7" descr="10"/>
          <p:cNvPicPr/>
          <p:nvPr/>
        </p:nvPicPr>
        <p:blipFill>
          <a:blip r:embed="rId2"/>
          <a:stretch/>
        </p:blipFill>
        <p:spPr>
          <a:xfrm>
            <a:off x="4067280" y="0"/>
            <a:ext cx="4833720" cy="6705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9826a513632762d06adcbc90a3ec08fa503dc60d"/>
          <p:cNvPicPr/>
          <p:nvPr/>
        </p:nvPicPr>
        <p:blipFill>
          <a:blip r:embed="rId1"/>
          <a:stretch/>
        </p:blipFill>
        <p:spPr>
          <a:xfrm>
            <a:off x="122400" y="0"/>
            <a:ext cx="42354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2-1211020ZU4J7"/>
          <p:cNvPicPr/>
          <p:nvPr/>
        </p:nvPicPr>
        <p:blipFill>
          <a:blip r:embed="rId2"/>
          <a:stretch/>
        </p:blipFill>
        <p:spPr>
          <a:xfrm>
            <a:off x="4427640" y="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13" name="Oval 6"/>
          <p:cNvSpPr/>
          <p:nvPr/>
        </p:nvSpPr>
        <p:spPr>
          <a:xfrm>
            <a:off x="1547640" y="1844640"/>
            <a:ext cx="151164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508720" y="692280"/>
            <a:ext cx="2195280" cy="21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8"/>
          <p:cNvSpPr/>
          <p:nvPr/>
        </p:nvSpPr>
        <p:spPr>
          <a:xfrm>
            <a:off x="7812000" y="4292640"/>
            <a:ext cx="151128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9" descr="20"/>
          <p:cNvPicPr/>
          <p:nvPr/>
        </p:nvPicPr>
        <p:blipFill>
          <a:blip r:embed="rId3"/>
          <a:stretch/>
        </p:blipFill>
        <p:spPr>
          <a:xfrm>
            <a:off x="4356000" y="4724280"/>
            <a:ext cx="478800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35bOOOPIC67_1024"/>
          <p:cNvPicPr/>
          <p:nvPr/>
        </p:nvPicPr>
        <p:blipFill>
          <a:blip r:embed="rId1"/>
          <a:stretch/>
        </p:blipFill>
        <p:spPr>
          <a:xfrm>
            <a:off x="3276720" y="3284640"/>
            <a:ext cx="5867280" cy="3798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9_140626105123_1"/>
          <p:cNvPicPr/>
          <p:nvPr/>
        </p:nvPicPr>
        <p:blipFill>
          <a:blip r:embed="rId2"/>
          <a:stretch/>
        </p:blipFill>
        <p:spPr>
          <a:xfrm>
            <a:off x="971640" y="0"/>
            <a:ext cx="5705280" cy="32274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4850640" y="13636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微软雅黑"/>
                <a:ea typeface="微软雅黑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4356000" y="981000"/>
            <a:ext cx="151128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5651640" y="3213000"/>
            <a:ext cx="151128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" descr="5554f94a57f203002803d748a43cc9dd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3780000" y="1844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35.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3419640" y="1052640"/>
            <a:ext cx="2592360" cy="2447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u=3499464156,4098108433&amp;fm=21&amp;gp=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900000" y="981000"/>
            <a:ext cx="302436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140360" y="476280"/>
            <a:ext cx="4829040" cy="4238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4608720" cy="3983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4"/>
          <p:cNvSpPr/>
          <p:nvPr/>
        </p:nvSpPr>
        <p:spPr>
          <a:xfrm>
            <a:off x="1625400" y="1268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  <a:ea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5153040" y="1197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  <a:ea typeface="华文新魏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4253040" y="4149720"/>
            <a:ext cx="61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  <a:ea typeface="宋体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404040"/>
                </a:solidFill>
                <a:latin typeface="方正姚体"/>
                <a:ea typeface="方正姚体"/>
              </a:rPr>
              <a:t>洗手中的百分数</a:t>
            </a:r>
            <a:endParaRPr b="0" lang="en-US" sz="4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376200" y="1916280"/>
            <a:ext cx="4195800" cy="3313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1488240" y="5398920"/>
            <a:ext cx="44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用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宋体"/>
              </a:rPr>
              <a:t>30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秒以上的流水和肥皂洗手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可以消除手上的大部分细菌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椭圆 2"/>
          <p:cNvSpPr/>
          <p:nvPr/>
        </p:nvSpPr>
        <p:spPr>
          <a:xfrm>
            <a:off x="3726000" y="5877000"/>
            <a:ext cx="1422360" cy="86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5614920" y="1700280"/>
            <a:ext cx="23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A</a:t>
            </a:r>
            <a:r>
              <a:rPr b="0" lang="zh-CN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、</a:t>
            </a:r>
            <a:r>
              <a:rPr b="0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9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5560560" y="2886120"/>
            <a:ext cx="235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B</a:t>
            </a:r>
            <a:r>
              <a:rPr b="0" lang="zh-CN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、</a:t>
            </a:r>
            <a:r>
              <a:rPr b="0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50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5675400" y="4076640"/>
            <a:ext cx="250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C</a:t>
            </a:r>
            <a:r>
              <a:rPr b="0" lang="zh-CN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、</a:t>
            </a:r>
            <a:r>
              <a:rPr b="0" lang="en-US" sz="4800" spc="-1" strike="noStrike">
                <a:solidFill>
                  <a:srgbClr val="7030a0"/>
                </a:solidFill>
                <a:latin typeface="华文细黑"/>
                <a:ea typeface="华文细黑"/>
              </a:rPr>
              <a:t>0.5%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2:32:28Z</dcterms:created>
  <dc:creator>MC SYSTEM</dc:creator>
  <dc:description/>
  <dc:language>en-US</dc:language>
  <cp:lastModifiedBy>陈 赫</cp:lastModifiedBy>
  <dcterms:modified xsi:type="dcterms:W3CDTF">2018-11-24T08:04:38Z</dcterms:modified>
  <cp:revision>19</cp:revision>
  <dc:subject/>
  <dc:title>幻灯片 1</dc:title>
</cp:coreProperties>
</file>