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357-5BD7-42D6-9E3C-EC67406F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B3F-C770-4655-89B8-DCA007E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836-BF3B-41E2-88DC-29656999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2BE-E844-4F46-A894-F7675B8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BB8-FA7F-4402-A773-B19C74E2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B3F-F13B-402F-8B70-F2D24949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CA0-2B30-4FFF-A293-C98EE8D0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384F-28B8-482F-A4B2-1FE8F41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0986-FE4E-44BC-97EF-978CA073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F171-2B61-4B46-9428-5B12DD0F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D301-515D-4278-8A83-4700834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8B6-6350-436B-A9CA-A51BBDE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AD61-1CC0-494A-9724-A257487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1EE5-7394-4A3C-A310-08791B4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B9A-F433-427A-90CC-CFA235F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8D12-C3E5-4757-94B8-F8A2233B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6FDE-C4A6-4CB2-8C8E-09986DA9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905-2DD3-46A7-A536-91F0D27C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EE1-A090-4F92-96EE-4774E3EC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793-F80E-431C-95F1-AF8EF54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455-FC1A-4BFF-863B-56DCE4E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1A2-32FE-4FF7-927E-59CAAB4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D3E-1087-4AA4-8C8D-90552CB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F30-A930-4BBB-9FC5-071AE75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1EA561B-BC5B-41B1-ABD1-F70EA64E94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70F82AB-431C-4637-8855-E1D699BC8A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040" cy="90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九年级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月月考化学试题答案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08000" y="1433520"/>
            <a:ext cx="950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-5. B B B D A        6-10. C B B A B      11-15. C A B D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395280" y="3029400"/>
            <a:ext cx="83530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说明：选择题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题分别选自资料《课时作业本》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题是在  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的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题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题是在 《同步经典学案第一单元测试卷》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的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题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474920" y="228240"/>
            <a:ext cx="8208720" cy="24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gO     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He       C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水硫酸铜   高锰酸钾   四氧化三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铝（铝元素或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铝原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-36360" y="2980440"/>
            <a:ext cx="972000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①；   ④；   ①；    ②；    ⑤；    化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835280" y="4041000"/>
            <a:ext cx="986436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⑴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=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⑵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=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700520" y="3933720"/>
            <a:ext cx="86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Arial"/>
              </a:rPr>
              <a:t>点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03760" y="5283360"/>
            <a:ext cx="86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Arial"/>
              </a:rPr>
              <a:t>点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1322640" y="765000"/>
            <a:ext cx="696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3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热            自己或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31640" y="2160360"/>
            <a:ext cx="8856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⑴ ①        ⑵ ④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⑶ ③        ⑷ 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31640" y="4649400"/>
            <a:ext cx="9216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 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        ⑵ d       ⑶ c        ⑷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01760" y="4207680"/>
            <a:ext cx="87134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坩埚钳         白光         热量        白      石棉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Mg + 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= 2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40040" y="4719600"/>
            <a:ext cx="115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Arial"/>
              </a:rPr>
              <a:t>点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646200" y="128520"/>
            <a:ext cx="849744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⑴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氮气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  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⑵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P + 5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 2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置漏气；红磷量不足；红磷熄灭后，未冷却到室温就打开止水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止生成的五氧化二磷污染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602080" y="907920"/>
            <a:ext cx="1393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Arial"/>
              </a:rPr>
              <a:t>点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0960" y="-10440"/>
            <a:ext cx="896436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⑴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2KCl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= 2KCl + 3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2KMn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 K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n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 Mn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 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↑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2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  2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+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①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酒精灯          ②长颈漏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⑵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燃烧（助燃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⑶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止水倒吸入试管，使试管炸裂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液面以下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止生 成的气体从长颈漏斗逸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914560" y="333360"/>
            <a:ext cx="864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Mn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203640" y="765000"/>
            <a:ext cx="50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346560" y="1268280"/>
            <a:ext cx="50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771640" y="2060640"/>
            <a:ext cx="863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Mn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619280" y="985320"/>
            <a:ext cx="698472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⑴浓氨水呈碱性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⑵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酚酞溶液逐渐变红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在不停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⑶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必要；在实验Ⅰ的步骤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已证明蒸馏水不能使酚酞变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ew picture"/>
          <p:cNvSpPr/>
          <p:nvPr/>
        </p:nvSpPr>
        <p:spPr>
          <a:xfrm>
            <a:off x="11912760" y="12611160"/>
            <a:ext cx="304560" cy="228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ragraphs>41</Paragraphs>
  <Company>学科网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6T16:41:00Z</dcterms:created>
  <dc:creator>rbm.xkw.com</dc:creator>
  <dc:description/>
  <dc:language>en-US</dc:language>
  <cp:lastModifiedBy/>
  <cp:lastPrinted>2020-10-26T16:41:00Z</cp:lastPrinted>
  <dcterms:modified xsi:type="dcterms:W3CDTF">2020-10-26T08:41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  <property fmtid="{D5CDD505-2E9C-101B-9397-08002B2CF9AE}" pid="4" name="album">
    <vt:lpwstr>rbm.xkw.com</vt:lpwstr>
  </property>
  <property fmtid="{D5CDD505-2E9C-101B-9397-08002B2CF9AE}" pid="5" name="author">
    <vt:lpwstr>rbm.xkw.com</vt:lpwstr>
  </property>
  <property fmtid="{D5CDD505-2E9C-101B-9397-08002B2CF9AE}" pid="6" name="company">
    <vt:lpwstr>学科网</vt:lpwstr>
  </property>
  <property fmtid="{D5CDD505-2E9C-101B-9397-08002B2CF9AE}" pid="7" name="copyright">
    <vt:lpwstr>学科网版权所有</vt:lpwstr>
  </property>
</Properties>
</file>