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D0E45-D79C-4FA7-B75A-D4DE58D0FDD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6602D-B183-4C48-BA05-B986A75ADA1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8770F-526B-4520-B5AA-4D5E250830E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349-F193-46AE-A3E6-17C6952A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D62F-05D4-41D5-BF8F-AA1FF95E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6832-6C6F-4655-A1D5-2C58AD59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9879-26E1-4C66-A5B9-1AFCD4C7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F015-D9E0-42DD-91D2-70BF262D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2BD4-4CEF-427B-AF18-75842F81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E710-C54D-46D7-A537-B66604EC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90DE-67E9-4FD4-AA51-9AD0A75C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9E33-D886-4DF8-858B-7B7AE15F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239E-2AA5-433F-BE19-35043040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A545-C53C-4938-ABDA-516C4D5A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42A-BA24-463A-B31B-07DC2686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CE5B-46D9-4518-B358-C59E7D8A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9467-C516-42C1-8B98-BCF17DA2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AE52-A51C-4729-AFE1-770B1B52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873C-CFE2-476D-A2C0-7C1DCC51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66B8-D128-4CD6-B7B3-30AF5E6C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1CCA4-F34A-498F-81E6-E72D771F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FE81C-B04D-449A-B474-C864C500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AB68B-287E-4F7A-BCD8-D466D548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93274-DD87-479C-B538-9D0884BA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53AE9-F742-4A9D-86E5-DB4F0D63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FDB-7EF9-4595-B92F-B01011C1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DE386-8E44-4616-9356-241E7789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B40AB-CC0E-447F-86E5-B4C9313B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CE75C-CF8B-45AE-B4F2-90220411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7C9D8-D121-425E-A0FD-3141A1EE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1CFBC-C9D9-4367-89A9-F9A699DB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0519C-0286-462F-BA53-12ADDC1C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F061C-B3B9-43AD-95F8-433A8594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3AAA-6722-40EA-B6FC-894DA931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C0E1-AEAB-44EA-A37A-C9AA3023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5D6-53A6-477D-9D43-E1B1DAF5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8416-2630-45AB-B725-166A9FDF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295B-03F8-4254-87AF-950020AB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2973-C485-4CDA-B620-83884596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25498-06A6-4D88-9F73-A0EB229DCD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"/>
          <p:cNvPicPr/>
          <p:nvPr/>
        </p:nvPicPr>
        <p:blipFill>
          <a:blip r:embed="rId3"/>
          <a:stretch/>
        </p:blipFill>
        <p:spPr>
          <a:xfrm>
            <a:off x="-34920" y="5095800"/>
            <a:ext cx="9178920" cy="1762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8EC1D-0E01-4C5F-9CBB-B50B486884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6"/>
          <p:cNvSpPr/>
          <p:nvPr/>
        </p:nvSpPr>
        <p:spPr>
          <a:xfrm>
            <a:off x="0" y="0"/>
            <a:ext cx="9144000" cy="21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3"/>
          <a:stretch/>
        </p:blipFill>
        <p:spPr>
          <a:xfrm>
            <a:off x="-34920" y="5095800"/>
            <a:ext cx="9178920" cy="1762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39A07-909F-4EC1-BE27-0F1EF3F4CA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6.xml"/><Relationship Id="rId4" Type="http://schemas.openxmlformats.org/officeDocument/2006/relationships/image" Target="../media/image5.png"/><Relationship Id="rId5" Type="http://schemas.openxmlformats.org/officeDocument/2006/relationships/slide" Target="slide21.xml"/><Relationship Id="rId6" Type="http://schemas.openxmlformats.org/officeDocument/2006/relationships/image" Target="../media/image6.png"/><Relationship Id="rId7" Type="http://schemas.openxmlformats.org/officeDocument/2006/relationships/slide" Target="slide23.xml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hyperlink" Target="http://www.kjzhan.com/mp3/2x/104906.html" TargetMode="External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kjzhan.com/mp3/2x/104906.html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136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137" name="任意多边形 3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9119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任意多边形 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736720" y="5640480"/>
              <a:ext cx="19119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任意多边形 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477680" y="5640480"/>
              <a:ext cx="19119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任意多边形 19" descr=""/>
            <p:cNvPicPr/>
            <p:nvPr/>
          </p:nvPicPr>
          <p:blipFill>
            <a:blip r:embed="rId9"/>
            <a:stretch/>
          </p:blipFill>
          <p:spPr>
            <a:xfrm>
              <a:off x="6230160" y="5640480"/>
              <a:ext cx="19119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流程图: 摘录 25"/>
            <p:cNvSpPr/>
            <p:nvPr/>
          </p:nvSpPr>
          <p:spPr>
            <a:xfrm rot="5400000">
              <a:off x="2750040" y="5913720"/>
              <a:ext cx="166320" cy="21492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流程图: 摘录 40"/>
            <p:cNvSpPr/>
            <p:nvPr/>
          </p:nvSpPr>
          <p:spPr>
            <a:xfrm rot="5400000">
              <a:off x="4477320" y="5913720"/>
              <a:ext cx="166320" cy="21492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流程图: 摘录 41"/>
            <p:cNvSpPr/>
            <p:nvPr/>
          </p:nvSpPr>
          <p:spPr>
            <a:xfrm rot="5400000">
              <a:off x="6238440" y="5913720"/>
              <a:ext cx="166320" cy="21492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组合 13338"/>
          <p:cNvGrpSpPr/>
          <p:nvPr/>
        </p:nvGrpSpPr>
        <p:grpSpPr>
          <a:xfrm>
            <a:off x="1403280" y="905040"/>
            <a:ext cx="6918480" cy="1180800"/>
            <a:chOff x="1403280" y="905040"/>
            <a:chExt cx="6918480" cy="1180800"/>
          </a:xfrm>
        </p:grpSpPr>
        <p:sp>
          <p:nvSpPr>
            <p:cNvPr id="145" name="Text Box 2"/>
            <p:cNvSpPr/>
            <p:nvPr/>
          </p:nvSpPr>
          <p:spPr>
            <a:xfrm>
              <a:off x="2689560" y="1057320"/>
              <a:ext cx="563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54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开满鲜花的小路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6" name="组合 13337"/>
            <p:cNvGrpSpPr/>
            <p:nvPr/>
          </p:nvGrpSpPr>
          <p:grpSpPr>
            <a:xfrm>
              <a:off x="1403280" y="905040"/>
              <a:ext cx="1181160" cy="1180800"/>
              <a:chOff x="1403280" y="905040"/>
              <a:chExt cx="1181160" cy="1180800"/>
            </a:xfrm>
          </p:grpSpPr>
          <p:sp>
            <p:nvSpPr>
              <p:cNvPr id="147" name="AutoShape 11"/>
              <p:cNvSpPr/>
              <p:nvPr/>
            </p:nvSpPr>
            <p:spPr>
              <a:xfrm>
                <a:off x="1403280" y="905040"/>
                <a:ext cx="118116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文本框 13"/>
              <p:cNvSpPr/>
              <p:nvPr/>
            </p:nvSpPr>
            <p:spPr>
              <a:xfrm>
                <a:off x="1697400" y="984960"/>
                <a:ext cx="6166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49" name="图片 22" descr=""/>
          <p:cNvPicPr/>
          <p:nvPr/>
        </p:nvPicPr>
        <p:blipFill>
          <a:blip r:embed="rId10"/>
          <a:stretch/>
        </p:blipFill>
        <p:spPr>
          <a:xfrm>
            <a:off x="2097000" y="2395440"/>
            <a:ext cx="4889520" cy="2908440"/>
          </a:xfrm>
          <a:prstGeom prst="rect">
            <a:avLst/>
          </a:prstGeom>
          <a:ln w="0">
            <a:noFill/>
          </a:ln>
        </p:spPr>
      </p:pic>
      <p:sp>
        <p:nvSpPr>
          <p:cNvPr id="150" name="圆角矩形 21"/>
          <p:cNvSpPr/>
          <p:nvPr/>
        </p:nvSpPr>
        <p:spPr>
          <a:xfrm>
            <a:off x="3092400" y="3295800"/>
            <a:ext cx="3133800" cy="839520"/>
          </a:xfrm>
          <a:prstGeom prst="roundRect">
            <a:avLst>
              <a:gd name="adj" fmla="val 16667"/>
            </a:avLst>
          </a:prstGeom>
          <a:solidFill>
            <a:srgbClr val="ffffff">
              <a:alpha val="76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图片 46" descr="枫叶副本"/>
          <p:cNvPicPr/>
          <p:nvPr/>
        </p:nvPicPr>
        <p:blipFill>
          <a:blip r:embed="rId11"/>
          <a:stretch/>
        </p:blipFill>
        <p:spPr>
          <a:xfrm>
            <a:off x="3879720" y="3247920"/>
            <a:ext cx="1059120" cy="1014480"/>
          </a:xfrm>
          <a:prstGeom prst="rect">
            <a:avLst/>
          </a:prstGeom>
          <a:ln w="0">
            <a:noFill/>
          </a:ln>
        </p:spPr>
      </p:pic>
      <p:pic>
        <p:nvPicPr>
          <p:cNvPr id="152" name="矩形 23" descr=""/>
          <p:cNvPicPr/>
          <p:nvPr/>
        </p:nvPicPr>
        <p:blipFill>
          <a:blip r:embed="rId12"/>
          <a:stretch/>
        </p:blipFill>
        <p:spPr>
          <a:xfrm>
            <a:off x="2828880" y="3181320"/>
            <a:ext cx="3700440" cy="8841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24" descr="2.pn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718400" y="985680"/>
            <a:ext cx="847800" cy="8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2"/>
          <p:cNvSpPr/>
          <p:nvPr/>
        </p:nvSpPr>
        <p:spPr>
          <a:xfrm>
            <a:off x="701640" y="1668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春天来了，鼹鼠先生要去松鼠太太家做客，啊，通往松鼠太太家的路，成了一条开满鲜花的小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1176480" y="3794040"/>
            <a:ext cx="701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条开满鲜花的小路”写出了小路的变化，为松鼠太太发现长颈鹿先生包裹的秘密做好了铺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任意多边形 7"/>
          <p:cNvSpPr/>
          <p:nvPr/>
        </p:nvSpPr>
        <p:spPr>
          <a:xfrm>
            <a:off x="731880" y="3029040"/>
            <a:ext cx="768348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条开满鲜花的小路”写出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2"/>
          <p:cNvSpPr/>
          <p:nvPr/>
        </p:nvSpPr>
        <p:spPr>
          <a:xfrm>
            <a:off x="801720" y="1424160"/>
            <a:ext cx="75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鼹鼠先生路过刺猬太太家，正巧，刺猬太太走出门。看到门前一大片绚丽多彩的鲜花，她惊奇地说：“这是谁在我家门前种的花？多美啊！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7"/>
          <p:cNvSpPr/>
          <p:nvPr/>
        </p:nvSpPr>
        <p:spPr>
          <a:xfrm>
            <a:off x="1152360" y="4124160"/>
            <a:ext cx="701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“绚丽多彩、惊奇”可以知道刺猬太太家门前的鲜花色彩灿烂美丽，她又惊又喜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任意多边形 8"/>
          <p:cNvSpPr/>
          <p:nvPr/>
        </p:nvSpPr>
        <p:spPr>
          <a:xfrm>
            <a:off x="731880" y="3348000"/>
            <a:ext cx="768348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从“绚丽多彩、惊奇”这些词体会出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2"/>
          <p:cNvSpPr/>
          <p:nvPr/>
        </p:nvSpPr>
        <p:spPr>
          <a:xfrm>
            <a:off x="690480" y="1440000"/>
            <a:ext cx="773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鼹鼠先生经过狐狸太太家，正巧，狐狸太太走出门，看见门前开着一大片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五颜六色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鲜花，她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奇怪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地问：“这是谁在我家门前种的花？真美啊！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1152360" y="4152960"/>
            <a:ext cx="72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五颜六色”“奇怪”写出狐狸太太看到家门前的鲜花各色各样，她很惊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任意多边形 5"/>
          <p:cNvSpPr/>
          <p:nvPr/>
        </p:nvSpPr>
        <p:spPr>
          <a:xfrm>
            <a:off x="731880" y="3376440"/>
            <a:ext cx="7683480" cy="559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五颜六色”“奇怪”说明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2"/>
          <p:cNvSpPr/>
          <p:nvPr/>
        </p:nvSpPr>
        <p:spPr>
          <a:xfrm>
            <a:off x="903240" y="1452600"/>
            <a:ext cx="750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鼹鼠先生来到松鼠太太门前，松鼠太太走出门，看见门前的小路上花朵簇簇，小松鼠、小刺猬和小狐狸在那里快活地蹦啊跳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1224000" y="409428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花朵簇簇”“快活”“蹦啊跳啊”描写出了美丽的环境中小动物们开心玩耍的场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任意多边形 8"/>
          <p:cNvSpPr/>
          <p:nvPr/>
        </p:nvSpPr>
        <p:spPr>
          <a:xfrm>
            <a:off x="878040" y="3362400"/>
            <a:ext cx="768348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从这段中体会出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2"/>
          <p:cNvSpPr/>
          <p:nvPr/>
        </p:nvSpPr>
        <p:spPr>
          <a:xfrm>
            <a:off x="704880" y="1353960"/>
            <a:ext cx="77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松鼠太太对鼹鼠先生说：“我知道了，去年长颈鹿大叔寄给你的是花籽。这是多么美好的礼物啊！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1209600" y="360036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长颈鹿大叔寄来的是花籽，也是快乐的种子，长颈鹿把快乐传递给鼹鼠，鼹鼠无意间把快乐传递给了大家。大家会对鼹鼠说“谢谢你给大家带来了花香和快乐，也谢谢长颈鹿大叔的美好礼物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任意多边形 7"/>
          <p:cNvSpPr/>
          <p:nvPr/>
        </p:nvSpPr>
        <p:spPr>
          <a:xfrm>
            <a:off x="746280" y="2517840"/>
            <a:ext cx="7683480" cy="1146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15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长颈鹿大叔寄来的是什么？大家明白事情的原委会对鼹鼠说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2"/>
          <p:cNvSpPr/>
          <p:nvPr/>
        </p:nvSpPr>
        <p:spPr>
          <a:xfrm>
            <a:off x="819000" y="2103480"/>
            <a:ext cx="753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学们刚才已经跟随老师走进文本，感受到了小动物之间和谐相处。让我们拿起金钥匙开启智慧之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"/>
          <p:cNvSpPr/>
          <p:nvPr/>
        </p:nvSpPr>
        <p:spPr>
          <a:xfrm>
            <a:off x="1160640" y="3913200"/>
            <a:ext cx="718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文中“美好的礼物”指的是长颈鹿寄给鼹鼠先生的花籽。因为花籽也是快乐的种子，它把快乐传递给了大家，所以说是“美好的礼物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1073160" y="2610000"/>
            <a:ext cx="73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中“美好的礼物”指的是什么？为什么称其为“美好的礼物”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1"/>
          <a:stretch/>
        </p:blipFill>
        <p:spPr>
          <a:xfrm>
            <a:off x="531720" y="1185840"/>
            <a:ext cx="55180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内容占位符 2"/>
          <p:cNvSpPr/>
          <p:nvPr/>
        </p:nvSpPr>
        <p:spPr>
          <a:xfrm>
            <a:off x="77148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想一想文中开满鲜花的小路在哪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"/>
          <p:cNvSpPr/>
          <p:nvPr/>
        </p:nvSpPr>
        <p:spPr>
          <a:xfrm>
            <a:off x="1211400" y="319716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开满鲜花的小路在鼹鼠先生通往松鼠太太家的路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内容占位符 2"/>
          <p:cNvSpPr/>
          <p:nvPr/>
        </p:nvSpPr>
        <p:spPr>
          <a:xfrm>
            <a:off x="839880" y="1766880"/>
            <a:ext cx="78469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二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出描写开满鲜花的小路特点的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1"/>
          <p:cNvSpPr/>
          <p:nvPr/>
        </p:nvSpPr>
        <p:spPr>
          <a:xfrm>
            <a:off x="1268280" y="2635200"/>
            <a:ext cx="706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楷体"/>
              </a:rPr>
              <a:t>看到门前开着一大片绚丽多彩的鲜花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楷体"/>
              </a:rPr>
              <a:t>看到门前开着一大片五颜六色的鲜花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楷体"/>
              </a:rPr>
              <a:t>看见门前的小路上花朵簇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内容占位符 2"/>
          <p:cNvSpPr/>
          <p:nvPr/>
        </p:nvSpPr>
        <p:spPr>
          <a:xfrm>
            <a:off x="804960" y="197640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三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说一说这条开满鲜花的小路是怎么来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1"/>
          <p:cNvSpPr/>
          <p:nvPr/>
        </p:nvSpPr>
        <p:spPr>
          <a:xfrm>
            <a:off x="1233360" y="2714760"/>
            <a:ext cx="682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去年长颈鹿大叔寄给鼹鼠先生的是花籽，鼹鼠先生拿着包裹，从自己家到松鼠太太家，一路上无意中把花籽漏在了路上，所以，这一路就开满了鲜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6"/>
          <p:cNvSpPr/>
          <p:nvPr/>
        </p:nvSpPr>
        <p:spPr>
          <a:xfrm>
            <a:off x="892080" y="2685960"/>
            <a:ext cx="743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感情地朗读课文。背诵自己喜欢的部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解课文内容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会出开满鲜花的小路给大家带来了快乐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图示 3" descr=""/>
          <p:cNvPicPr/>
          <p:nvPr/>
        </p:nvPicPr>
        <p:blipFill>
          <a:blip r:embed="rId1"/>
          <a:stretch/>
        </p:blipFill>
        <p:spPr>
          <a:xfrm>
            <a:off x="743040" y="1195560"/>
            <a:ext cx="3097080" cy="105408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内容占位符 2"/>
          <p:cNvSpPr/>
          <p:nvPr/>
        </p:nvSpPr>
        <p:spPr>
          <a:xfrm>
            <a:off x="920880" y="2011320"/>
            <a:ext cx="764532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四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条开满鲜花的小路给大家带来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"/>
          <p:cNvSpPr/>
          <p:nvPr/>
        </p:nvSpPr>
        <p:spPr>
          <a:xfrm>
            <a:off x="1441440" y="292248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条开满鲜花的小路给大家带来了快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文本框 26"/>
          <p:cNvSpPr/>
          <p:nvPr/>
        </p:nvSpPr>
        <p:spPr>
          <a:xfrm>
            <a:off x="801360" y="173844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开满鲜花的小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5"/>
          <p:cNvSpPr/>
          <p:nvPr/>
        </p:nvSpPr>
        <p:spPr>
          <a:xfrm>
            <a:off x="1617840" y="2459160"/>
            <a:ext cx="51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收到包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不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找松鼠太太看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空空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懊丧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左大括号 6"/>
          <p:cNvSpPr/>
          <p:nvPr/>
        </p:nvSpPr>
        <p:spPr>
          <a:xfrm>
            <a:off x="1473120" y="2527200"/>
            <a:ext cx="189000" cy="2880000"/>
          </a:xfrm>
          <a:custGeom>
            <a:avLst/>
            <a:gdLst>
              <a:gd name="textAreaLeft" fmla="*/ 120960 w 189000"/>
              <a:gd name="textAreaRight" fmla="*/ 189360 w 189000"/>
              <a:gd name="textAreaTop" fmla="*/ 4680 h 2880000"/>
              <a:gd name="textAreaBottom" fmla="*/ 2875320 h 28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8"/>
                </a:cubicBezTo>
                <a:lnTo>
                  <a:pt x="10800" y="10682"/>
                </a:lnTo>
                <a:cubicBezTo>
                  <a:pt x="10800" y="10741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8"/>
                </a:cubicBezTo>
                <a:lnTo>
                  <a:pt x="10800" y="21482"/>
                </a:lnTo>
                <a:cubicBezTo>
                  <a:pt x="10800" y="2154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左大括号 24"/>
          <p:cNvSpPr/>
          <p:nvPr/>
        </p:nvSpPr>
        <p:spPr>
          <a:xfrm flipH="1">
            <a:off x="7686720" y="2533680"/>
            <a:ext cx="193680" cy="2884320"/>
          </a:xfrm>
          <a:custGeom>
            <a:avLst/>
            <a:gdLst>
              <a:gd name="textAreaLeft" fmla="*/ 124200 w 193680"/>
              <a:gd name="textAreaRight" fmla="*/ 194400 w 193680"/>
              <a:gd name="textAreaTop" fmla="*/ 5040 h 2884320"/>
              <a:gd name="textAreaBottom" fmla="*/ 2879280 h 288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33"/>
          <p:cNvSpPr/>
          <p:nvPr/>
        </p:nvSpPr>
        <p:spPr>
          <a:xfrm>
            <a:off x="7907400" y="2708280"/>
            <a:ext cx="68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美好的礼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247920" y="279360"/>
            <a:ext cx="2648160" cy="695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14" name="组合 3"/>
          <p:cNvGrpSpPr/>
          <p:nvPr/>
        </p:nvGrpSpPr>
        <p:grpSpPr>
          <a:xfrm>
            <a:off x="558720" y="1165320"/>
            <a:ext cx="2594160" cy="666720"/>
            <a:chOff x="558720" y="1165320"/>
            <a:chExt cx="2594160" cy="666720"/>
          </a:xfrm>
        </p:grpSpPr>
        <p:sp>
          <p:nvSpPr>
            <p:cNvPr id="215" name="圆角矩形 16"/>
            <p:cNvSpPr/>
            <p:nvPr/>
          </p:nvSpPr>
          <p:spPr>
            <a:xfrm>
              <a:off x="1374840" y="13032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653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文本框 16"/>
            <p:cNvSpPr/>
            <p:nvPr/>
          </p:nvSpPr>
          <p:spPr>
            <a:xfrm>
              <a:off x="1634040" y="13222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矩形 19"/>
          <p:cNvSpPr/>
          <p:nvPr/>
        </p:nvSpPr>
        <p:spPr>
          <a:xfrm>
            <a:off x="1617840" y="42498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开满鲜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左大括号 20"/>
          <p:cNvSpPr/>
          <p:nvPr/>
        </p:nvSpPr>
        <p:spPr>
          <a:xfrm>
            <a:off x="3025800" y="3728880"/>
            <a:ext cx="189000" cy="1541520"/>
          </a:xfrm>
          <a:custGeom>
            <a:avLst/>
            <a:gdLst>
              <a:gd name="textAreaLeft" fmla="*/ 120960 w 189000"/>
              <a:gd name="textAreaRight" fmla="*/ 189360 w 189000"/>
              <a:gd name="textAreaTop" fmla="*/ 4680 h 1541520"/>
              <a:gd name="textAreaBottom" fmla="*/ 1536840 h 154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"/>
                  <a:pt x="10800" y="221"/>
                </a:cubicBezTo>
                <a:lnTo>
                  <a:pt x="10800" y="10579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1"/>
                  <a:pt x="10800" y="11021"/>
                </a:cubicBezTo>
                <a:lnTo>
                  <a:pt x="10800" y="21379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"/>
          <p:cNvSpPr/>
          <p:nvPr/>
        </p:nvSpPr>
        <p:spPr>
          <a:xfrm>
            <a:off x="3170160" y="3605040"/>
            <a:ext cx="499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刺猬太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绚丽多彩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惊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狐狸太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五颜六色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奇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松鼠太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花朵锦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内容占位符 2"/>
          <p:cNvSpPr/>
          <p:nvPr/>
        </p:nvSpPr>
        <p:spPr>
          <a:xfrm>
            <a:off x="982800" y="2486160"/>
            <a:ext cx="727524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写了长颈鹿大叔寄给鼹鼠先生的花籽，被他无心漏掉在路上，第二年春天，出现了一条开满鲜花的小路，给大家带来了花香和快乐的故事。 表现了小动物之间和谐相处的美好景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2" name="组合 3"/>
          <p:cNvGrpSpPr/>
          <p:nvPr/>
        </p:nvGrpSpPr>
        <p:grpSpPr>
          <a:xfrm>
            <a:off x="558720" y="1320840"/>
            <a:ext cx="2594160" cy="666720"/>
            <a:chOff x="558720" y="1320840"/>
            <a:chExt cx="2594160" cy="666720"/>
          </a:xfrm>
        </p:grpSpPr>
        <p:sp>
          <p:nvSpPr>
            <p:cNvPr id="223" name="圆角矩形 4"/>
            <p:cNvSpPr/>
            <p:nvPr/>
          </p:nvSpPr>
          <p:spPr>
            <a:xfrm>
              <a:off x="1374840" y="14587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4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32084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文本框 16"/>
            <p:cNvSpPr/>
            <p:nvPr/>
          </p:nvSpPr>
          <p:spPr>
            <a:xfrm>
              <a:off x="1634040" y="147780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"/>
          <p:cNvSpPr/>
          <p:nvPr/>
        </p:nvSpPr>
        <p:spPr>
          <a:xfrm>
            <a:off x="776160" y="2460600"/>
            <a:ext cx="794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今天是小松鼠的生日，她想把自己打扮得漂亮一些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小松鼠说：“我用小草编顶帽子，戴在头上一定很不错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小草说：“别摘我，别摘我，我会疼的呀！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小松鼠说：“摘一朵红玫瑰别在胸前，一定很好看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玫瑰说：“别摘我，别摘我，我会疼的呀！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小松鼠没摘小草，也没摘玫瑰花，空着手回家了。她想：没有草帽，没有胸花，我一定不漂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图片 16" descr=""/>
          <p:cNvPicPr/>
          <p:nvPr/>
        </p:nvPicPr>
        <p:blipFill>
          <a:blip r:embed="rId1"/>
          <a:stretch/>
        </p:blipFill>
        <p:spPr>
          <a:xfrm>
            <a:off x="3284640" y="311040"/>
            <a:ext cx="2585880" cy="601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28" name="组合 3"/>
          <p:cNvGrpSpPr/>
          <p:nvPr/>
        </p:nvGrpSpPr>
        <p:grpSpPr>
          <a:xfrm>
            <a:off x="515880" y="1089000"/>
            <a:ext cx="2594160" cy="666720"/>
            <a:chOff x="515880" y="1089000"/>
            <a:chExt cx="2594160" cy="666720"/>
          </a:xfrm>
        </p:grpSpPr>
        <p:sp>
          <p:nvSpPr>
            <p:cNvPr id="229" name="圆角矩形 7"/>
            <p:cNvSpPr/>
            <p:nvPr/>
          </p:nvSpPr>
          <p:spPr>
            <a:xfrm>
              <a:off x="1332000" y="122688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15880" y="108900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文本框 16"/>
            <p:cNvSpPr/>
            <p:nvPr/>
          </p:nvSpPr>
          <p:spPr>
            <a:xfrm>
              <a:off x="1591200" y="124596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矩形 2"/>
          <p:cNvSpPr/>
          <p:nvPr/>
        </p:nvSpPr>
        <p:spPr>
          <a:xfrm>
            <a:off x="3948120" y="1940040"/>
            <a:ext cx="1247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耳朵上的绿星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矩形 1"/>
          <p:cNvSpPr/>
          <p:nvPr/>
        </p:nvSpPr>
        <p:spPr>
          <a:xfrm>
            <a:off x="646200" y="1154160"/>
            <a:ext cx="7948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晚上，朋友们都来祝贺小松鼠的生日。大家一见到小松鼠，都叫起来：“啊！小松鼠今天真美丽！”小松鼠对着镜子一看，她惊讶地发现：在她的耳朵上，出现了两颗小小的绿星星，美极了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月亮出来了。小松鼠耳朵上的绿星星闪闪发光，没有比这更美丽的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朋友们走了，小松鼠耳朵上的绿星星飞了下来，原来他们是两只可爱的萤火虫。萤火虫说：“是小草和玫瑰花让我们来打扮你的，因为你是一个心地善良的好松鼠。”小松鼠听了，心里甜滋滋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3638520" y="4876920"/>
            <a:ext cx="18669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1"/>
          <p:cNvSpPr/>
          <p:nvPr/>
        </p:nvSpPr>
        <p:spPr>
          <a:xfrm>
            <a:off x="1509840" y="2197080"/>
            <a:ext cx="7234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草堂少花今欲栽，不问绿李与黄梅。石笋街中却归去，果园坊里为求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杜甫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诣徐卿觅果栽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半亩方塘一鉴开，天光云影共徘徊。问渠那得清如许，为有源头活水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朱熹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活水亭观书有感二首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•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其一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6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37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内容占位符 2"/>
          <p:cNvSpPr/>
          <p:nvPr/>
        </p:nvSpPr>
        <p:spPr>
          <a:xfrm>
            <a:off x="876240" y="2282760"/>
            <a:ext cx="77742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名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人类只有一个可生息的村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地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人类尊重自然、尊重生物是人类珍爱自己生命的需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爱护一切生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保护共同家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地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42" name="圆角矩形 11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拓展积累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0"/>
          <p:cNvSpPr/>
          <p:nvPr/>
        </p:nvSpPr>
        <p:spPr>
          <a:xfrm>
            <a:off x="824040" y="2617920"/>
            <a:ext cx="75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篇课文语言优美，充满儿童情趣和文学色彩。从我们的视角描写了初春像一个害羞的小姑娘，遮遮掩掩，躲躲藏藏。既写出了初春的特点，又激发了我们到大自然中寻找春天的强烈愿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图示 12" descr=""/>
          <p:cNvPicPr/>
          <p:nvPr/>
        </p:nvPicPr>
        <p:blipFill>
          <a:blip r:embed="rId1"/>
          <a:stretch/>
        </p:blipFill>
        <p:spPr>
          <a:xfrm>
            <a:off x="669960" y="1096920"/>
            <a:ext cx="309708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2"/>
          <p:cNvSpPr/>
          <p:nvPr/>
        </p:nvSpPr>
        <p:spPr>
          <a:xfrm>
            <a:off x="689040" y="2085840"/>
            <a:ext cx="75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角色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1019160" y="2819520"/>
            <a:ext cx="73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分角色朗读课文要在正确、流利朗读课文的基础上进行。朗读时边读边画出文中不同人物说的话，再把自己的情感融入到句子中完成分角色朗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7" descr=""/>
          <p:cNvPicPr/>
          <p:nvPr/>
        </p:nvPicPr>
        <p:blipFill>
          <a:blip r:embed="rId1"/>
          <a:stretch/>
        </p:blipFill>
        <p:spPr>
          <a:xfrm>
            <a:off x="-79200" y="822240"/>
            <a:ext cx="43336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12"/>
          <p:cNvSpPr/>
          <p:nvPr/>
        </p:nvSpPr>
        <p:spPr>
          <a:xfrm>
            <a:off x="619200" y="1211400"/>
            <a:ext cx="80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读一读，注意加点的部分。再看看课文插图，仿照例句说一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◇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门前开着一大片五颜六色的鲜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◇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房子旁边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◇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山坡上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◇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___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1052640" y="4595760"/>
            <a:ext cx="74070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有一条弯弯的小路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有一片郁郁葱葱的树林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村子外面有一条明亮的小河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2067840" y="25606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. . . . . . 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1"/>
          <p:cNvSpPr/>
          <p:nvPr/>
        </p:nvSpPr>
        <p:spPr>
          <a:xfrm>
            <a:off x="900000" y="1576440"/>
            <a:ext cx="757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通过上一节课的学习，我们已经初步理解了课文内容，为了更深入地理解课文，老师送给大家一把金钥匙，这就是核心问题和串珠问题。让我们带着这些问题理解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12"/>
          <p:cNvSpPr/>
          <p:nvPr/>
        </p:nvSpPr>
        <p:spPr>
          <a:xfrm>
            <a:off x="682560" y="1738440"/>
            <a:ext cx="770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课文中“美好的礼物”指的是什么？生活中还有什么也是美好的事物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990720" y="303516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课文中“美好的礼物”指的是长颈鹿大叔寄给鼹鼠先生的花籽。生活中美好的礼物还有：风雨中出现在头顶上的小花伞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7167"/>
          <p:cNvSpPr/>
          <p:nvPr/>
        </p:nvSpPr>
        <p:spPr>
          <a:xfrm>
            <a:off x="833400" y="1881360"/>
            <a:ext cx="739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一、下面加点字的拼音有四个是错误的，请找出来画上横线，并将正确的写在四线格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3880" indent="-6238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ɡuǒ        jì      duei       lì     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3880" indent="-6238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包裹　    邮寄　   一堆　    颗粒     漏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3880" indent="-6238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ào          wuì    xuàn       zhǐ     l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3880" indent="-6238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懊丧      刺猬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绚丽     花籽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礼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3880" indent="-6238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7168"/>
          <p:cNvSpPr/>
          <p:nvPr/>
        </p:nvSpPr>
        <p:spPr>
          <a:xfrm>
            <a:off x="244440" y="1049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58" name="文本框 17"/>
          <p:cNvSpPr/>
          <p:nvPr/>
        </p:nvSpPr>
        <p:spPr>
          <a:xfrm>
            <a:off x="3344040" y="1281240"/>
            <a:ext cx="2455920" cy="490680"/>
          </a:xfrm>
          <a:prstGeom prst="pie">
            <a:avLst/>
          </a:prstGeom>
          <a:solidFill>
            <a:srgbClr val="dce6f2"/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习题源于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典中点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的“基础练习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596960" y="5437080"/>
          <a:ext cx="5688000" cy="855720"/>
        </p:xfrm>
        <a:graphic>
          <a:graphicData uri="http://schemas.openxmlformats.org/drawingml/2006/table">
            <a:tbl>
              <a:tblPr/>
              <a:tblGrid>
                <a:gridCol w="1449360"/>
                <a:gridCol w="1268640"/>
                <a:gridCol w="1296720"/>
                <a:gridCol w="1673280"/>
              </a:tblGrid>
              <a:tr h="417600">
                <a:tc>
                  <a:txBody>
                    <a:bodyPr lIns="93960" rIns="93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960" rIns="93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960" rIns="93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960" rIns="93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3960" rIns="93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960" rIns="93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960" rIns="93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960" rIns="93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3960" rIns="93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960" rIns="93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960" rIns="93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960" rIns="93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矩形 4"/>
          <p:cNvSpPr/>
          <p:nvPr/>
        </p:nvSpPr>
        <p:spPr>
          <a:xfrm>
            <a:off x="1824120" y="5384880"/>
            <a:ext cx="6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</a:rPr>
              <a:t>du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5"/>
          <p:cNvSpPr/>
          <p:nvPr/>
        </p:nvSpPr>
        <p:spPr>
          <a:xfrm>
            <a:off x="3383640" y="538488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</a:rPr>
              <a:t>lò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6"/>
          <p:cNvSpPr/>
          <p:nvPr/>
        </p:nvSpPr>
        <p:spPr>
          <a:xfrm>
            <a:off x="4612680" y="5384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</a:rPr>
              <a:t>wè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7"/>
          <p:cNvSpPr/>
          <p:nvPr/>
        </p:nvSpPr>
        <p:spPr>
          <a:xfrm>
            <a:off x="6165720" y="529272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</a:rPr>
              <a:t>z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直接连接符 9"/>
          <p:cNvSpPr/>
          <p:nvPr/>
        </p:nvSpPr>
        <p:spPr>
          <a:xfrm>
            <a:off x="4714920" y="4089240"/>
            <a:ext cx="503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直接连接符 27"/>
          <p:cNvSpPr/>
          <p:nvPr/>
        </p:nvSpPr>
        <p:spPr>
          <a:xfrm>
            <a:off x="7321680" y="4089240"/>
            <a:ext cx="503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接连接符 28"/>
          <p:cNvSpPr/>
          <p:nvPr/>
        </p:nvSpPr>
        <p:spPr>
          <a:xfrm>
            <a:off x="3375000" y="5168880"/>
            <a:ext cx="504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直接连接符 29"/>
          <p:cNvSpPr/>
          <p:nvPr/>
        </p:nvSpPr>
        <p:spPr>
          <a:xfrm>
            <a:off x="6189840" y="5168880"/>
            <a:ext cx="504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1"/>
          <p:cNvSpPr/>
          <p:nvPr/>
        </p:nvSpPr>
        <p:spPr>
          <a:xfrm>
            <a:off x="1877760" y="375588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16"/>
          <p:cNvSpPr/>
          <p:nvPr/>
        </p:nvSpPr>
        <p:spPr>
          <a:xfrm>
            <a:off x="3438360" y="375588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17"/>
          <p:cNvSpPr/>
          <p:nvPr/>
        </p:nvSpPr>
        <p:spPr>
          <a:xfrm>
            <a:off x="4835880" y="372600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19"/>
          <p:cNvSpPr/>
          <p:nvPr/>
        </p:nvSpPr>
        <p:spPr>
          <a:xfrm>
            <a:off x="6243480" y="372600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20"/>
          <p:cNvSpPr/>
          <p:nvPr/>
        </p:nvSpPr>
        <p:spPr>
          <a:xfrm>
            <a:off x="7442280" y="3726000"/>
            <a:ext cx="2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21"/>
          <p:cNvSpPr/>
          <p:nvPr/>
        </p:nvSpPr>
        <p:spPr>
          <a:xfrm>
            <a:off x="1594440" y="486720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22"/>
          <p:cNvSpPr/>
          <p:nvPr/>
        </p:nvSpPr>
        <p:spPr>
          <a:xfrm>
            <a:off x="3493800" y="486720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23"/>
          <p:cNvSpPr/>
          <p:nvPr/>
        </p:nvSpPr>
        <p:spPr>
          <a:xfrm>
            <a:off x="4553640" y="483876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24"/>
          <p:cNvSpPr/>
          <p:nvPr/>
        </p:nvSpPr>
        <p:spPr>
          <a:xfrm>
            <a:off x="6243480" y="486108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25"/>
          <p:cNvSpPr/>
          <p:nvPr/>
        </p:nvSpPr>
        <p:spPr>
          <a:xfrm>
            <a:off x="7439400" y="486108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3"/>
          <p:cNvSpPr/>
          <p:nvPr/>
        </p:nvSpPr>
        <p:spPr>
          <a:xfrm>
            <a:off x="826920" y="1197000"/>
            <a:ext cx="736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二、读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yóu dì yuán(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　      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黄狗给鼹鼠先生送来了一个包裹单，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yuán lái(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　  　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是长颈鹿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dà shū( 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给鼹鼠先生寄来的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lǐ pǐn(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　　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。鼹鼠先生赶紧骑着车子到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yóu jú(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</a:rPr>
              <a:t>去领包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1"/>
          <p:cNvSpPr/>
          <p:nvPr/>
        </p:nvSpPr>
        <p:spPr>
          <a:xfrm>
            <a:off x="7324560" y="3516480"/>
            <a:ext cx="9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姚体"/>
              </a:rPr>
              <a:t>邮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2"/>
          <p:cNvSpPr/>
          <p:nvPr/>
        </p:nvSpPr>
        <p:spPr>
          <a:xfrm>
            <a:off x="4468320" y="1852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姚体"/>
              </a:rPr>
              <a:t>邮递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5"/>
          <p:cNvSpPr/>
          <p:nvPr/>
        </p:nvSpPr>
        <p:spPr>
          <a:xfrm>
            <a:off x="6092640" y="2397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姚体"/>
              </a:rPr>
              <a:t>原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6"/>
          <p:cNvSpPr/>
          <p:nvPr/>
        </p:nvSpPr>
        <p:spPr>
          <a:xfrm>
            <a:off x="3255480" y="294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姚体"/>
              </a:rPr>
              <a:t>大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8"/>
          <p:cNvSpPr/>
          <p:nvPr/>
        </p:nvSpPr>
        <p:spPr>
          <a:xfrm>
            <a:off x="1644480" y="3516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姚体"/>
              </a:rPr>
              <a:t>礼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图片 7" descr="2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85000" y="5021280"/>
            <a:ext cx="84744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矩形 3"/>
          <p:cNvSpPr/>
          <p:nvPr/>
        </p:nvSpPr>
        <p:spPr>
          <a:xfrm>
            <a:off x="900000" y="126828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比一比，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油（　    　）            员（　    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邮（　　    ）　          原（　    　）　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弟（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）            堆（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递（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）            准（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）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里（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）            局（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礼（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）            居（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1"/>
          <p:cNvSpPr/>
          <p:nvPr/>
        </p:nvSpPr>
        <p:spPr>
          <a:xfrm>
            <a:off x="6811920" y="4611600"/>
            <a:ext cx="80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居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左大括号 2"/>
          <p:cNvSpPr/>
          <p:nvPr/>
        </p:nvSpPr>
        <p:spPr>
          <a:xfrm>
            <a:off x="1763640" y="196380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左大括号 7"/>
          <p:cNvSpPr/>
          <p:nvPr/>
        </p:nvSpPr>
        <p:spPr>
          <a:xfrm>
            <a:off x="5796000" y="198900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左大括号 8"/>
          <p:cNvSpPr/>
          <p:nvPr/>
        </p:nvSpPr>
        <p:spPr>
          <a:xfrm>
            <a:off x="1763640" y="306864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左大括号 9"/>
          <p:cNvSpPr/>
          <p:nvPr/>
        </p:nvSpPr>
        <p:spPr>
          <a:xfrm>
            <a:off x="1763640" y="414972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左大括号 10"/>
          <p:cNvSpPr/>
          <p:nvPr/>
        </p:nvSpPr>
        <p:spPr>
          <a:xfrm>
            <a:off x="5821200" y="3068640"/>
            <a:ext cx="155880" cy="914400"/>
          </a:xfrm>
          <a:custGeom>
            <a:avLst/>
            <a:gdLst>
              <a:gd name="textAreaLeft" fmla="*/ 99720 w 155880"/>
              <a:gd name="textAreaRight" fmla="*/ 15624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左大括号 11"/>
          <p:cNvSpPr/>
          <p:nvPr/>
        </p:nvSpPr>
        <p:spPr>
          <a:xfrm>
            <a:off x="5835600" y="414972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5"/>
          <p:cNvSpPr/>
          <p:nvPr/>
        </p:nvSpPr>
        <p:spPr>
          <a:xfrm>
            <a:off x="2971440" y="191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加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 6"/>
          <p:cNvSpPr/>
          <p:nvPr/>
        </p:nvSpPr>
        <p:spPr>
          <a:xfrm>
            <a:off x="6945840" y="191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队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12"/>
          <p:cNvSpPr/>
          <p:nvPr/>
        </p:nvSpPr>
        <p:spPr>
          <a:xfrm>
            <a:off x="2971440" y="2463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邮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 13"/>
          <p:cNvSpPr/>
          <p:nvPr/>
        </p:nvSpPr>
        <p:spPr>
          <a:xfrm>
            <a:off x="6945840" y="2463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原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4"/>
          <p:cNvSpPr/>
          <p:nvPr/>
        </p:nvSpPr>
        <p:spPr>
          <a:xfrm>
            <a:off x="2971440" y="29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弟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15"/>
          <p:cNvSpPr/>
          <p:nvPr/>
        </p:nvSpPr>
        <p:spPr>
          <a:xfrm>
            <a:off x="6945120" y="29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土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16"/>
          <p:cNvSpPr/>
          <p:nvPr/>
        </p:nvSpPr>
        <p:spPr>
          <a:xfrm>
            <a:off x="2971440" y="35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递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17"/>
          <p:cNvSpPr/>
          <p:nvPr/>
        </p:nvSpPr>
        <p:spPr>
          <a:xfrm>
            <a:off x="6940080" y="35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18"/>
          <p:cNvSpPr/>
          <p:nvPr/>
        </p:nvSpPr>
        <p:spPr>
          <a:xfrm>
            <a:off x="2971440" y="4119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家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19"/>
          <p:cNvSpPr/>
          <p:nvPr/>
        </p:nvSpPr>
        <p:spPr>
          <a:xfrm>
            <a:off x="6945840" y="4119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邮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20"/>
          <p:cNvSpPr/>
          <p:nvPr/>
        </p:nvSpPr>
        <p:spPr>
          <a:xfrm>
            <a:off x="2968200" y="465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礼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矩形 5"/>
          <p:cNvSpPr/>
          <p:nvPr/>
        </p:nvSpPr>
        <p:spPr>
          <a:xfrm>
            <a:off x="755640" y="12589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选择恰当的量词填在括号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个　　堆　　条　　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鲜花　　　　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花籽        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包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1"/>
          <p:cNvSpPr/>
          <p:nvPr/>
        </p:nvSpPr>
        <p:spPr>
          <a:xfrm>
            <a:off x="5148360" y="3005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2"/>
          <p:cNvSpPr/>
          <p:nvPr/>
        </p:nvSpPr>
        <p:spPr>
          <a:xfrm>
            <a:off x="209232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7"/>
          <p:cNvSpPr/>
          <p:nvPr/>
        </p:nvSpPr>
        <p:spPr>
          <a:xfrm>
            <a:off x="5213160" y="242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8"/>
          <p:cNvSpPr/>
          <p:nvPr/>
        </p:nvSpPr>
        <p:spPr>
          <a:xfrm>
            <a:off x="2092320" y="3006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矩形 2"/>
          <p:cNvSpPr/>
          <p:nvPr/>
        </p:nvSpPr>
        <p:spPr>
          <a:xfrm>
            <a:off x="179280" y="141300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1807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读一读，连一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1304640" y="2492280"/>
            <a:ext cx="54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骑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走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收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12"/>
          <p:cNvSpPr/>
          <p:nvPr/>
        </p:nvSpPr>
        <p:spPr>
          <a:xfrm>
            <a:off x="3385800" y="2492280"/>
            <a:ext cx="72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礼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摩托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家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13"/>
          <p:cNvSpPr/>
          <p:nvPr/>
        </p:nvSpPr>
        <p:spPr>
          <a:xfrm>
            <a:off x="5033880" y="2446200"/>
            <a:ext cx="109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空空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五颜六色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懊丧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美好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14"/>
          <p:cNvSpPr/>
          <p:nvPr/>
        </p:nvSpPr>
        <p:spPr>
          <a:xfrm>
            <a:off x="7281720" y="2446200"/>
            <a:ext cx="54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礼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鲜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直接连接符 7"/>
          <p:cNvSpPr/>
          <p:nvPr/>
        </p:nvSpPr>
        <p:spPr>
          <a:xfrm>
            <a:off x="4307040" y="256536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直接连接符 16"/>
          <p:cNvSpPr/>
          <p:nvPr/>
        </p:nvSpPr>
        <p:spPr>
          <a:xfrm>
            <a:off x="1979640" y="2781360"/>
            <a:ext cx="1268280" cy="43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直接连接符 19"/>
          <p:cNvSpPr/>
          <p:nvPr/>
        </p:nvSpPr>
        <p:spPr>
          <a:xfrm>
            <a:off x="1925640" y="3357720"/>
            <a:ext cx="1268280" cy="502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直接连接符 21"/>
          <p:cNvSpPr/>
          <p:nvPr/>
        </p:nvSpPr>
        <p:spPr>
          <a:xfrm>
            <a:off x="1979640" y="3921120"/>
            <a:ext cx="126828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直接连接符 22"/>
          <p:cNvSpPr/>
          <p:nvPr/>
        </p:nvSpPr>
        <p:spPr>
          <a:xfrm flipV="1">
            <a:off x="1925640" y="2781360"/>
            <a:ext cx="1322280" cy="1720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直接连接符 25"/>
          <p:cNvSpPr/>
          <p:nvPr/>
        </p:nvSpPr>
        <p:spPr>
          <a:xfrm>
            <a:off x="5827680" y="2787480"/>
            <a:ext cx="140328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直接连接符 27"/>
          <p:cNvSpPr/>
          <p:nvPr/>
        </p:nvSpPr>
        <p:spPr>
          <a:xfrm>
            <a:off x="6388200" y="3425760"/>
            <a:ext cx="84276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接连接符 29"/>
          <p:cNvSpPr/>
          <p:nvPr/>
        </p:nvSpPr>
        <p:spPr>
          <a:xfrm>
            <a:off x="5775480" y="3921120"/>
            <a:ext cx="145548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接连接符 31"/>
          <p:cNvSpPr/>
          <p:nvPr/>
        </p:nvSpPr>
        <p:spPr>
          <a:xfrm flipV="1">
            <a:off x="5775480" y="2787120"/>
            <a:ext cx="1377720" cy="1629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组合 2"/>
          <p:cNvGrpSpPr/>
          <p:nvPr/>
        </p:nvGrpSpPr>
        <p:grpSpPr>
          <a:xfrm>
            <a:off x="890640" y="2506680"/>
            <a:ext cx="7748640" cy="1241280"/>
            <a:chOff x="890640" y="2506680"/>
            <a:chExt cx="7748640" cy="1241280"/>
          </a:xfrm>
        </p:grpSpPr>
        <p:sp>
          <p:nvSpPr>
            <p:cNvPr id="324" name="任意多边形 3"/>
            <p:cNvSpPr/>
            <p:nvPr/>
          </p:nvSpPr>
          <p:spPr>
            <a:xfrm>
              <a:off x="890640" y="2933640"/>
              <a:ext cx="7748640" cy="814320"/>
            </a:xfrm>
            <a:prstGeom prst="pie">
              <a:avLst/>
            </a:prstGeom>
            <a:solidFill>
              <a:srgbClr val="dbe1ed">
                <a:alpha val="90000"/>
              </a:srgbClr>
            </a:solidFill>
            <a:ln w="93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7920" rIns="637920" tIns="336960" bIns="216000" anchor="b">
              <a:noAutofit/>
            </a:bodyPr>
            <a:p>
              <a:pPr lvl="1" marL="343080" indent="-34308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完成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《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点拨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》</a:t>
              </a:r>
              <a:r>
                <a:rPr b="1" lang="zh-CN" sz="24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阅读方法练”“写作方法练”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5" name="任意多边形 4" descr=""/>
            <p:cNvPicPr/>
            <p:nvPr/>
          </p:nvPicPr>
          <p:blipFill>
            <a:blip r:embed="rId1"/>
            <a:stretch/>
          </p:blipFill>
          <p:spPr>
            <a:xfrm>
              <a:off x="1225080" y="2506680"/>
              <a:ext cx="2767680" cy="60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6" name="图示 6" descr=""/>
          <p:cNvPicPr/>
          <p:nvPr/>
        </p:nvPicPr>
        <p:blipFill>
          <a:blip r:embed="rId2"/>
          <a:stretch/>
        </p:blipFill>
        <p:spPr>
          <a:xfrm>
            <a:off x="871560" y="1103400"/>
            <a:ext cx="3090960" cy="1030320"/>
          </a:xfrm>
          <a:prstGeom prst="rect">
            <a:avLst/>
          </a:prstGeom>
          <a:ln w="0">
            <a:noFill/>
          </a:ln>
        </p:spPr>
      </p:pic>
      <p:grpSp>
        <p:nvGrpSpPr>
          <p:cNvPr id="327" name="组合 5"/>
          <p:cNvGrpSpPr/>
          <p:nvPr/>
        </p:nvGrpSpPr>
        <p:grpSpPr>
          <a:xfrm>
            <a:off x="903240" y="3951360"/>
            <a:ext cx="7736040" cy="1371600"/>
            <a:chOff x="903240" y="3951360"/>
            <a:chExt cx="7736040" cy="1371600"/>
          </a:xfrm>
        </p:grpSpPr>
        <p:sp>
          <p:nvSpPr>
            <p:cNvPr id="328" name="任意多边形 7"/>
            <p:cNvSpPr/>
            <p:nvPr/>
          </p:nvSpPr>
          <p:spPr>
            <a:xfrm>
              <a:off x="903240" y="4389840"/>
              <a:ext cx="7736040" cy="933120"/>
            </a:xfrm>
            <a:prstGeom prst="pie">
              <a:avLst/>
            </a:prstGeom>
            <a:solidFill>
              <a:srgbClr val="dbe1ed">
                <a:alpha val="90000"/>
              </a:srgbClr>
            </a:solidFill>
            <a:ln w="93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2600" rIns="642600" tIns="424800" bIns="220680" anchor="ctr">
              <a:noAutofit/>
            </a:bodyPr>
            <a:p>
              <a:pPr lvl="1" marL="343080" indent="-34308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完成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《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典中点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》</a:t>
              </a:r>
              <a:r>
                <a:rPr b="1" lang="en-US" sz="24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主题探究”“拓展提升”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9" name="任意多边形 11" descr=""/>
            <p:cNvPicPr/>
            <p:nvPr/>
          </p:nvPicPr>
          <p:blipFill>
            <a:blip r:embed="rId3"/>
            <a:stretch/>
          </p:blipFill>
          <p:spPr>
            <a:xfrm>
              <a:off x="1237320" y="3951360"/>
              <a:ext cx="2743200" cy="66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内容占位符 2"/>
          <p:cNvSpPr/>
          <p:nvPr/>
        </p:nvSpPr>
        <p:spPr>
          <a:xfrm>
            <a:off x="681120" y="1708200"/>
            <a:ext cx="779292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中“美好的礼物”指的是什么？为什么称其为“美好的礼物”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想一想文中开满鲜花的小路在哪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二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出描写开满鲜花的小路特点的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三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说一说这条开满鲜花的小路是怎么来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四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条开满鲜花的小路给大家带来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631800" y="1015920"/>
            <a:ext cx="3767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组合 31"/>
          <p:cNvGrpSpPr/>
          <p:nvPr/>
        </p:nvGrpSpPr>
        <p:grpSpPr>
          <a:xfrm>
            <a:off x="888840" y="4898880"/>
            <a:ext cx="7475760" cy="1236960"/>
            <a:chOff x="888840" y="4898880"/>
            <a:chExt cx="7475760" cy="1236960"/>
          </a:xfrm>
        </p:grpSpPr>
        <p:sp>
          <p:nvSpPr>
            <p:cNvPr id="161" name="单圆角矩形 33"/>
            <p:cNvSpPr/>
            <p:nvPr/>
          </p:nvSpPr>
          <p:spPr>
            <a:xfrm>
              <a:off x="1812600" y="5275080"/>
              <a:ext cx="6552000" cy="860760"/>
            </a:xfrm>
            <a:prstGeom prst="pie">
              <a:avLst/>
            </a:prstGeom>
            <a:noFill/>
            <a:ln w="2556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0600" rIns="120600" tIns="120600" bIns="120600" anchor="ctr">
              <a:noAutofit/>
            </a:bodyPr>
            <a:p>
              <a:pPr lvl="1" marL="17460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课文中美好的礼物指的是什么？为什么称为美好的礼物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任意多边形 32"/>
            <p:cNvSpPr/>
            <p:nvPr/>
          </p:nvSpPr>
          <p:spPr>
            <a:xfrm>
              <a:off x="888840" y="4898880"/>
              <a:ext cx="1170000" cy="1208520"/>
            </a:xfrm>
            <a:prstGeom prst="pie">
              <a:avLst/>
            </a:prstGeom>
            <a:solidFill>
              <a:srgbClr val="8eb4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920" rIns="187920" tIns="216000" bIns="23076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卡通简体"/>
                  <a:ea typeface="方正卡通简体"/>
                </a:rPr>
                <a:t>边听边想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图文框 38"/>
          <p:cNvSpPr/>
          <p:nvPr/>
        </p:nvSpPr>
        <p:spPr>
          <a:xfrm>
            <a:off x="2335320" y="1216080"/>
            <a:ext cx="4473360" cy="906480"/>
          </a:xfrm>
          <a:prstGeom prst="pie">
            <a:avLst/>
          </a:prstGeom>
          <a:solidFill>
            <a:srgbClr val="dce6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1440" rIns="181440" tIns="181440" bIns="18144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听录音回顾课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2664000" y="2130480"/>
            <a:ext cx="390348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2"/>
          <p:cNvSpPr/>
          <p:nvPr/>
        </p:nvSpPr>
        <p:spPr>
          <a:xfrm>
            <a:off x="752400" y="2108160"/>
            <a:ext cx="77392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邮递员黄狗在门口喊：“鼹鼠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先生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您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包裹单！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8260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7" name="任意多边形 7"/>
          <p:cNvSpPr/>
          <p:nvPr/>
        </p:nvSpPr>
        <p:spPr>
          <a:xfrm>
            <a:off x="819000" y="3000240"/>
            <a:ext cx="7683480" cy="559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2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“先生、您”可以体会出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8"/>
          <p:cNvSpPr/>
          <p:nvPr/>
        </p:nvSpPr>
        <p:spPr>
          <a:xfrm>
            <a:off x="819000" y="3835440"/>
            <a:ext cx="73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“先生、您”可以看出邮递员黄狗很有礼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2"/>
          <p:cNvSpPr/>
          <p:nvPr/>
        </p:nvSpPr>
        <p:spPr>
          <a:xfrm>
            <a:off x="888840" y="1874880"/>
            <a:ext cx="75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鼹鼠先生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赶紧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骑着摩托车，到邮局去领包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3"/>
          <p:cNvSpPr/>
          <p:nvPr/>
        </p:nvSpPr>
        <p:spPr>
          <a:xfrm>
            <a:off x="1176480" y="3373560"/>
            <a:ext cx="701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赶紧”说明鼹鼠先生急切地想知道包裹里是什么，然而打开后他却认不出来，为下文去松鼠太太家做好了铺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任意多边形 7"/>
          <p:cNvSpPr/>
          <p:nvPr/>
        </p:nvSpPr>
        <p:spPr>
          <a:xfrm>
            <a:off x="731880" y="2665440"/>
            <a:ext cx="768348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从“赶紧”这个词体会出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1"/>
          <p:cNvSpPr/>
          <p:nvPr/>
        </p:nvSpPr>
        <p:spPr>
          <a:xfrm>
            <a:off x="1092240" y="1841400"/>
            <a:ext cx="654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拓展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24" descr="花盆.png"/>
          <p:cNvPicPr/>
          <p:nvPr/>
        </p:nvPicPr>
        <p:blipFill>
          <a:blip r:embed="rId1"/>
          <a:stretch/>
        </p:blipFill>
        <p:spPr>
          <a:xfrm>
            <a:off x="860400" y="1969920"/>
            <a:ext cx="322200" cy="368640"/>
          </a:xfrm>
          <a:prstGeom prst="rect">
            <a:avLst/>
          </a:prstGeom>
          <a:ln w="0">
            <a:noFill/>
          </a:ln>
        </p:spPr>
      </p:pic>
      <p:sp>
        <p:nvSpPr>
          <p:cNvPr id="174" name="矩形 2"/>
          <p:cNvSpPr/>
          <p:nvPr/>
        </p:nvSpPr>
        <p:spPr>
          <a:xfrm>
            <a:off x="1784520" y="3570120"/>
            <a:ext cx="62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天要下雨了，张明赶紧把晒在阳台上的衣服收了进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"/>
          <p:cNvSpPr/>
          <p:nvPr/>
        </p:nvSpPr>
        <p:spPr>
          <a:xfrm>
            <a:off x="1727280" y="264492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“赶紧”写一句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2"/>
          <p:cNvSpPr/>
          <p:nvPr/>
        </p:nvSpPr>
        <p:spPr>
          <a:xfrm>
            <a:off x="719280" y="1643040"/>
            <a:ext cx="77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原来，包裹破了，里面的东西不见了，看来都漏在来时的路上啦！鼹鼠先生很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懊丧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4"/>
          <p:cNvSpPr/>
          <p:nvPr/>
        </p:nvSpPr>
        <p:spPr>
          <a:xfrm>
            <a:off x="1160640" y="3735360"/>
            <a:ext cx="70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懊丧”一词写出了鼹鼠先生心中的懊恼，他懊恼怎么会把东西都漏在路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任意多边形 5"/>
          <p:cNvSpPr/>
          <p:nvPr/>
        </p:nvSpPr>
        <p:spPr>
          <a:xfrm>
            <a:off x="731880" y="3000240"/>
            <a:ext cx="7683480" cy="559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懊丧”一词说明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03:01:09Z</dcterms:created>
  <dc:creator/>
  <dc:description/>
  <cp:keywords/>
  <dc:language>en-US</dc:language>
  <cp:lastModifiedBy/>
  <dcterms:modified xsi:type="dcterms:W3CDTF">2018-03-05T03:01:12Z</dcterms:modified>
  <cp:revision>1</cp:revision>
  <dc:subject/>
  <dc:title/>
</cp:coreProperties>
</file>