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7" descr=""/>
          <p:cNvPicPr/>
          <p:nvPr/>
        </p:nvPicPr>
        <p:blipFill>
          <a:blip r:embed="rId2"/>
          <a:stretch/>
        </p:blipFill>
        <p:spPr>
          <a:xfrm>
            <a:off x="415800" y="233280"/>
            <a:ext cx="8312400" cy="46767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3" descr=""/>
          <p:cNvPicPr/>
          <p:nvPr/>
        </p:nvPicPr>
        <p:blipFill>
          <a:blip r:embed="rId3"/>
          <a:stretch/>
        </p:blipFill>
        <p:spPr>
          <a:xfrm>
            <a:off x="0" y="4680"/>
            <a:ext cx="9144000" cy="51339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5" descr=""/>
          <p:cNvPicPr/>
          <p:nvPr/>
        </p:nvPicPr>
        <p:blipFill>
          <a:blip r:embed="rId4"/>
          <a:stretch/>
        </p:blipFill>
        <p:spPr>
          <a:xfrm>
            <a:off x="-36360" y="2449440"/>
            <a:ext cx="9172440" cy="26942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6" descr=""/>
          <p:cNvPicPr/>
          <p:nvPr/>
        </p:nvPicPr>
        <p:blipFill>
          <a:blip r:embed="rId5"/>
          <a:stretch/>
        </p:blipFill>
        <p:spPr>
          <a:xfrm>
            <a:off x="-36360" y="2449440"/>
            <a:ext cx="9172440" cy="26942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5" descr=""/>
          <p:cNvPicPr/>
          <p:nvPr/>
        </p:nvPicPr>
        <p:blipFill>
          <a:blip r:embed="rId6"/>
          <a:stretch/>
        </p:blipFill>
        <p:spPr>
          <a:xfrm>
            <a:off x="-108000" y="7920"/>
            <a:ext cx="1733760" cy="955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19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7" descr=""/>
          <p:cNvPicPr/>
          <p:nvPr/>
        </p:nvPicPr>
        <p:blipFill>
          <a:blip r:embed="rId2"/>
          <a:stretch/>
        </p:blipFill>
        <p:spPr>
          <a:xfrm>
            <a:off x="415800" y="233280"/>
            <a:ext cx="8312400" cy="46767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" descr=""/>
          <p:cNvPicPr/>
          <p:nvPr/>
        </p:nvPicPr>
        <p:blipFill>
          <a:blip r:embed="rId3"/>
          <a:stretch/>
        </p:blipFill>
        <p:spPr>
          <a:xfrm>
            <a:off x="0" y="4680"/>
            <a:ext cx="9144000" cy="513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矩形 2"/>
          <p:cNvSpPr/>
          <p:nvPr/>
        </p:nvSpPr>
        <p:spPr>
          <a:xfrm>
            <a:off x="1633680" y="1131840"/>
            <a:ext cx="618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97083"/>
                </a:solidFill>
                <a:latin typeface="楷体"/>
                <a:ea typeface="楷体"/>
              </a:rPr>
              <a:t>习作：有你，真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10"/>
          <p:cNvGrpSpPr/>
          <p:nvPr/>
        </p:nvGrpSpPr>
        <p:grpSpPr>
          <a:xfrm>
            <a:off x="3187800" y="2500200"/>
            <a:ext cx="2835000" cy="493920"/>
            <a:chOff x="3187800" y="2500200"/>
            <a:chExt cx="2835000" cy="493920"/>
          </a:xfrm>
        </p:grpSpPr>
        <p:sp>
          <p:nvSpPr>
            <p:cNvPr id="193" name="矩形 8"/>
            <p:cNvSpPr/>
            <p:nvPr/>
          </p:nvSpPr>
          <p:spPr>
            <a:xfrm>
              <a:off x="3187800" y="2506320"/>
              <a:ext cx="2835000" cy="487800"/>
            </a:xfrm>
            <a:prstGeom prst="rect">
              <a:avLst/>
            </a:prstGeom>
            <a:solidFill>
              <a:srgbClr val="1e52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图片 2" descr=""/>
            <p:cNvPicPr/>
            <p:nvPr/>
          </p:nvPicPr>
          <p:blipFill>
            <a:blip r:embed="rId1"/>
            <a:srcRect l="0" t="-2735" r="0" b="0"/>
            <a:stretch/>
          </p:blipFill>
          <p:spPr>
            <a:xfrm>
              <a:off x="3487680" y="2500200"/>
              <a:ext cx="2235240" cy="461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587520" y="276120"/>
            <a:ext cx="7358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优化选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646200" y="915840"/>
            <a:ext cx="788976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交流事例：小组内互评你所选的事例是否典型、有代表性，是否能打动其他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小结选材：根据课本中的典型事例和我们自己的选材，同学们认为我们在选材时要注意哪些要素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确定素材：请同学们根据选材的要求，再次筛选自己的材料，确定要写的素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1135080" y="2825640"/>
            <a:ext cx="74613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33cc"/>
                </a:solidFill>
                <a:latin typeface="楷体"/>
                <a:ea typeface="楷体"/>
              </a:rPr>
              <a:t>最能表现主题，最能打动人心，最有细节味，最具说服力，最能“以小见大”，最具震撼力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1" descr=""/>
          <p:cNvPicPr/>
          <p:nvPr/>
        </p:nvPicPr>
        <p:blipFill>
          <a:blip r:embed="rId1"/>
          <a:stretch/>
        </p:blipFill>
        <p:spPr>
          <a:xfrm>
            <a:off x="870120" y="909720"/>
            <a:ext cx="2698560" cy="3849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04" name="矩形 2"/>
          <p:cNvSpPr/>
          <p:nvPr/>
        </p:nvSpPr>
        <p:spPr>
          <a:xfrm>
            <a:off x="3959280" y="581040"/>
            <a:ext cx="4686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这次的习作最重要的要求是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"/>
          <p:cNvSpPr/>
          <p:nvPr/>
        </p:nvSpPr>
        <p:spPr>
          <a:xfrm>
            <a:off x="5494320" y="1308240"/>
            <a:ext cx="2006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"/>
                <a:ea typeface="楷体"/>
              </a:rPr>
              <a:t>真情实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4"/>
          <p:cNvSpPr/>
          <p:nvPr/>
        </p:nvSpPr>
        <p:spPr>
          <a:xfrm>
            <a:off x="3959280" y="2000160"/>
            <a:ext cx="4686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平时习作时，我们该如何表达自己的真实情感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5"/>
          <p:cNvSpPr/>
          <p:nvPr/>
        </p:nvSpPr>
        <p:spPr>
          <a:xfrm>
            <a:off x="3959280" y="3029040"/>
            <a:ext cx="4983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33cc"/>
                </a:solidFill>
                <a:latin typeface="楷体"/>
                <a:ea typeface="楷体"/>
              </a:rPr>
              <a:t>事例具体，综合运用描写人物的方法和抒发真情实感等方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3959280" y="4162320"/>
            <a:ext cx="5075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如何写出你的真挚情感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7"/>
          <p:cNvSpPr/>
          <p:nvPr/>
        </p:nvSpPr>
        <p:spPr>
          <a:xfrm>
            <a:off x="328680" y="201600"/>
            <a:ext cx="20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5597"/>
                </a:solidFill>
                <a:latin typeface="黑体"/>
                <a:ea typeface="黑体"/>
              </a:rPr>
              <a:t>自主写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矩形 1"/>
          <p:cNvSpPr/>
          <p:nvPr/>
        </p:nvSpPr>
        <p:spPr>
          <a:xfrm>
            <a:off x="901800" y="787320"/>
            <a:ext cx="7459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写写那个让我们感觉温暖的人。注意在习作中，要让人物的形象鲜明起来，让描写的场景鲜活起来，让真挚的情感流淌在我们的笔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"/>
          <p:cNvSpPr/>
          <p:nvPr/>
        </p:nvSpPr>
        <p:spPr>
          <a:xfrm>
            <a:off x="901800" y="2916360"/>
            <a:ext cx="7459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提示：假想这个“你”就在眼前，用文字和这个人对话，注意始终用第二人称来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3"/>
          <p:cNvSpPr/>
          <p:nvPr/>
        </p:nvSpPr>
        <p:spPr>
          <a:xfrm>
            <a:off x="3952080" y="60480"/>
            <a:ext cx="14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1"/>
          <p:cNvSpPr/>
          <p:nvPr/>
        </p:nvSpPr>
        <p:spPr>
          <a:xfrm>
            <a:off x="365040" y="820800"/>
            <a:ext cx="81774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回顾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少年闰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我的伯父鲁迅先生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两篇课文的写法，再看看自己的习作，有没有达到以下要求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6"/>
          <p:cNvSpPr/>
          <p:nvPr/>
        </p:nvSpPr>
        <p:spPr>
          <a:xfrm>
            <a:off x="438120" y="1994040"/>
            <a:ext cx="8526600" cy="2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这篇习作是向某一个人倾吐心声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这篇习作写出了这个人的“好”了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这篇习作是否选择了典型事例来体现这个人的“好”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典型事例中印象深刻的事例是否写具体了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是否流露出“我”的真情实感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7"/>
          <p:cNvSpPr/>
          <p:nvPr/>
        </p:nvSpPr>
        <p:spPr>
          <a:xfrm>
            <a:off x="328680" y="201600"/>
            <a:ext cx="20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5597"/>
                </a:solidFill>
                <a:latin typeface="黑体"/>
                <a:ea typeface="黑体"/>
              </a:rPr>
              <a:t>评价修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1"/>
          <p:cNvSpPr/>
          <p:nvPr/>
        </p:nvSpPr>
        <p:spPr>
          <a:xfrm>
            <a:off x="1096920" y="1300320"/>
            <a:ext cx="4419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学们在互读互评中，发现了自己的习作存在哪些问题？我们该怎么解决作文中出现的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图片 2" descr=""/>
          <p:cNvPicPr/>
          <p:nvPr/>
        </p:nvPicPr>
        <p:blipFill>
          <a:blip r:embed="rId1"/>
          <a:stretch/>
        </p:blipFill>
        <p:spPr>
          <a:xfrm>
            <a:off x="5830920" y="1127160"/>
            <a:ext cx="227808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"/>
          <p:cNvSpPr/>
          <p:nvPr/>
        </p:nvSpPr>
        <p:spPr>
          <a:xfrm>
            <a:off x="316080" y="131760"/>
            <a:ext cx="52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事例对比片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74760" y="792000"/>
          <a:ext cx="8451720" cy="3965400"/>
        </p:xfrm>
        <a:graphic>
          <a:graphicData uri="http://schemas.openxmlformats.org/drawingml/2006/table">
            <a:tbl>
              <a:tblPr/>
              <a:tblGrid>
                <a:gridCol w="1957320"/>
                <a:gridCol w="6494400"/>
              </a:tblGrid>
              <a:tr h="39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矩形 3"/>
          <p:cNvSpPr/>
          <p:nvPr/>
        </p:nvSpPr>
        <p:spPr>
          <a:xfrm>
            <a:off x="316080" y="1692360"/>
            <a:ext cx="2143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33cc"/>
                </a:solidFill>
                <a:latin typeface="楷体"/>
                <a:ea typeface="楷体"/>
              </a:rPr>
              <a:t>那次考试我没考好，非常难过。你安慰我，鼓励我，让我重新振作起来。同桌，有你真好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4"/>
          <p:cNvSpPr/>
          <p:nvPr/>
        </p:nvSpPr>
        <p:spPr>
          <a:xfrm>
            <a:off x="2384280" y="1036800"/>
            <a:ext cx="63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33cc"/>
                </a:solidFill>
                <a:latin typeface="楷体"/>
                <a:ea typeface="楷体"/>
              </a:rPr>
              <a:t>又一次的考试完毕，往日悦耳的铃声似乎成了刺耳的噪音，老师抱着试卷缓缓走上讲台，我的心怦怦跳着，这次考试我考得很差，所以当试卷发下来时，那一个个红色的叉刺痛了我的眼睛，心刹那间阴沉下来，我真的很没用！我不由得将头低下来。你轻轻地拍拍我的背，什么也没说，却一直握着我的手。课间休息时，我的课本里多了一张纸条：一次的失败不算什么，让我们一起努力！我一下子振作起来，没关系，没关系，我可以再努力一次！同桌，有你真好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1"/>
          <p:cNvSpPr/>
          <p:nvPr/>
        </p:nvSpPr>
        <p:spPr>
          <a:xfrm>
            <a:off x="365040" y="277920"/>
            <a:ext cx="521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抒情对比片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23800" y="925560"/>
          <a:ext cx="8083440" cy="3530520"/>
        </p:xfrm>
        <a:graphic>
          <a:graphicData uri="http://schemas.openxmlformats.org/drawingml/2006/table">
            <a:tbl>
              <a:tblPr/>
              <a:tblGrid>
                <a:gridCol w="1957320"/>
                <a:gridCol w="6126120"/>
              </a:tblGrid>
              <a:tr h="353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矩形 3"/>
          <p:cNvSpPr/>
          <p:nvPr/>
        </p:nvSpPr>
        <p:spPr>
          <a:xfrm>
            <a:off x="595440" y="1542960"/>
            <a:ext cx="18493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我非常感激你，同桌，有你真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"/>
          <p:cNvSpPr/>
          <p:nvPr/>
        </p:nvSpPr>
        <p:spPr>
          <a:xfrm>
            <a:off x="2705040" y="1305000"/>
            <a:ext cx="5832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你知道吗，你那一句鼓励的话，如同夹缝里的一缕阳光，照进我潮湿、灰暗的心房。我一下子振作起来，没关系，没关系，我可以再努力一次！同桌，有你真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811080" y="676440"/>
            <a:ext cx="8177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读两个片段，看看哪边写得好，再说说为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"/>
          <p:cNvSpPr/>
          <p:nvPr/>
        </p:nvSpPr>
        <p:spPr>
          <a:xfrm>
            <a:off x="811080" y="1504800"/>
            <a:ext cx="8021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抓住人物的语言、动作、神态、心理活动等方面进行细致的描写，把场景写具体，从而流露出真情实感；抒发感情时，如果能将所写对象的“好”加以提炼总结，让读者明白情感产生的原因，文章将更能打动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1"/>
          <p:cNvSpPr/>
          <p:nvPr/>
        </p:nvSpPr>
        <p:spPr>
          <a:xfrm>
            <a:off x="531720" y="1506600"/>
            <a:ext cx="4235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评价和修改方法，对照自己的习作二次创新行文，修改自己的习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2" descr=""/>
          <p:cNvPicPr/>
          <p:nvPr/>
        </p:nvPicPr>
        <p:blipFill>
          <a:blip r:embed="rId1"/>
          <a:stretch/>
        </p:blipFill>
        <p:spPr>
          <a:xfrm>
            <a:off x="5305320" y="1339920"/>
            <a:ext cx="3154320" cy="236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2"/>
          <p:cNvSpPr/>
          <p:nvPr/>
        </p:nvSpPr>
        <p:spPr>
          <a:xfrm>
            <a:off x="609480" y="888840"/>
            <a:ext cx="8217000" cy="27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有你，真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朋友一生一起走，那些日子不再有。一句话，一辈子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首歌，在我悲伤的时候你会为我唱起，在我失落的时候你会为我唱起，在我快乐的时候你也会为我唱起，使我无时无刻不感到温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7"/>
          <p:cNvSpPr/>
          <p:nvPr/>
        </p:nvSpPr>
        <p:spPr>
          <a:xfrm>
            <a:off x="328680" y="201600"/>
            <a:ext cx="20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5597"/>
                </a:solidFill>
                <a:latin typeface="黑体"/>
                <a:ea typeface="黑体"/>
              </a:rPr>
              <a:t>学生佳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13"/>
          <p:cNvGrpSpPr/>
          <p:nvPr/>
        </p:nvGrpSpPr>
        <p:grpSpPr>
          <a:xfrm>
            <a:off x="3049560" y="1574640"/>
            <a:ext cx="736560" cy="720720"/>
            <a:chOff x="3049560" y="1574640"/>
            <a:chExt cx="736560" cy="720720"/>
          </a:xfrm>
        </p:grpSpPr>
        <p:sp>
          <p:nvSpPr>
            <p:cNvPr id="196" name="矩形 6"/>
            <p:cNvSpPr/>
            <p:nvPr/>
          </p:nvSpPr>
          <p:spPr>
            <a:xfrm>
              <a:off x="3049560" y="1574640"/>
              <a:ext cx="736560" cy="72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7"/>
            <p:cNvSpPr/>
            <p:nvPr/>
          </p:nvSpPr>
          <p:spPr>
            <a:xfrm>
              <a:off x="3049560" y="1574640"/>
              <a:ext cx="736560" cy="72072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8"/>
            <p:cNvSpPr/>
            <p:nvPr/>
          </p:nvSpPr>
          <p:spPr>
            <a:xfrm flipH="1">
              <a:off x="3049560" y="1574640"/>
              <a:ext cx="736560" cy="72072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9"/>
            <p:cNvSpPr/>
            <p:nvPr/>
          </p:nvSpPr>
          <p:spPr>
            <a:xfrm>
              <a:off x="3417840" y="157464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10"/>
            <p:cNvSpPr/>
            <p:nvPr/>
          </p:nvSpPr>
          <p:spPr>
            <a:xfrm flipV="1">
              <a:off x="3049560" y="1936440"/>
              <a:ext cx="72864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13"/>
          <p:cNvGrpSpPr/>
          <p:nvPr/>
        </p:nvGrpSpPr>
        <p:grpSpPr>
          <a:xfrm>
            <a:off x="3908520" y="1574640"/>
            <a:ext cx="738000" cy="720720"/>
            <a:chOff x="3908520" y="1574640"/>
            <a:chExt cx="738000" cy="720720"/>
          </a:xfrm>
        </p:grpSpPr>
        <p:sp>
          <p:nvSpPr>
            <p:cNvPr id="202" name="矩形 13"/>
            <p:cNvSpPr/>
            <p:nvPr/>
          </p:nvSpPr>
          <p:spPr>
            <a:xfrm>
              <a:off x="3908520" y="1574640"/>
              <a:ext cx="738000" cy="72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14"/>
            <p:cNvSpPr/>
            <p:nvPr/>
          </p:nvSpPr>
          <p:spPr>
            <a:xfrm>
              <a:off x="3908520" y="1574640"/>
              <a:ext cx="738000" cy="72072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15"/>
            <p:cNvSpPr/>
            <p:nvPr/>
          </p:nvSpPr>
          <p:spPr>
            <a:xfrm flipH="1">
              <a:off x="3908520" y="1574640"/>
              <a:ext cx="738000" cy="72072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6"/>
            <p:cNvSpPr/>
            <p:nvPr/>
          </p:nvSpPr>
          <p:spPr>
            <a:xfrm>
              <a:off x="4278240" y="157464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17"/>
            <p:cNvSpPr/>
            <p:nvPr/>
          </p:nvSpPr>
          <p:spPr>
            <a:xfrm flipV="1">
              <a:off x="3908520" y="1936440"/>
              <a:ext cx="73008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13"/>
          <p:cNvGrpSpPr/>
          <p:nvPr/>
        </p:nvGrpSpPr>
        <p:grpSpPr>
          <a:xfrm>
            <a:off x="4768920" y="1574640"/>
            <a:ext cx="736560" cy="720720"/>
            <a:chOff x="4768920" y="1574640"/>
            <a:chExt cx="736560" cy="720720"/>
          </a:xfrm>
        </p:grpSpPr>
        <p:sp>
          <p:nvSpPr>
            <p:cNvPr id="208" name="矩形 19"/>
            <p:cNvSpPr/>
            <p:nvPr/>
          </p:nvSpPr>
          <p:spPr>
            <a:xfrm>
              <a:off x="4768920" y="1574640"/>
              <a:ext cx="736560" cy="72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20"/>
            <p:cNvSpPr/>
            <p:nvPr/>
          </p:nvSpPr>
          <p:spPr>
            <a:xfrm>
              <a:off x="4768920" y="1574640"/>
              <a:ext cx="736560" cy="72072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21"/>
            <p:cNvSpPr/>
            <p:nvPr/>
          </p:nvSpPr>
          <p:spPr>
            <a:xfrm flipH="1">
              <a:off x="4768920" y="1574640"/>
              <a:ext cx="736560" cy="72072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22"/>
            <p:cNvSpPr/>
            <p:nvPr/>
          </p:nvSpPr>
          <p:spPr>
            <a:xfrm>
              <a:off x="5137200" y="157464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23"/>
            <p:cNvSpPr/>
            <p:nvPr/>
          </p:nvSpPr>
          <p:spPr>
            <a:xfrm flipV="1">
              <a:off x="4768920" y="1936440"/>
              <a:ext cx="72864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3"/>
          <p:cNvGrpSpPr/>
          <p:nvPr/>
        </p:nvGrpSpPr>
        <p:grpSpPr>
          <a:xfrm>
            <a:off x="5627160" y="1574640"/>
            <a:ext cx="738720" cy="720720"/>
            <a:chOff x="5627160" y="1574640"/>
            <a:chExt cx="738720" cy="720720"/>
          </a:xfrm>
        </p:grpSpPr>
        <p:sp>
          <p:nvSpPr>
            <p:cNvPr id="214" name="矩形 25"/>
            <p:cNvSpPr/>
            <p:nvPr/>
          </p:nvSpPr>
          <p:spPr>
            <a:xfrm>
              <a:off x="5627520" y="1574640"/>
              <a:ext cx="738360" cy="72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26"/>
            <p:cNvSpPr/>
            <p:nvPr/>
          </p:nvSpPr>
          <p:spPr>
            <a:xfrm>
              <a:off x="5627520" y="1574640"/>
              <a:ext cx="738360" cy="72072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27"/>
            <p:cNvSpPr/>
            <p:nvPr/>
          </p:nvSpPr>
          <p:spPr>
            <a:xfrm flipH="1">
              <a:off x="5627160" y="1574640"/>
              <a:ext cx="738360" cy="72072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28"/>
            <p:cNvSpPr/>
            <p:nvPr/>
          </p:nvSpPr>
          <p:spPr>
            <a:xfrm>
              <a:off x="5997600" y="1574640"/>
              <a:ext cx="0" cy="72072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29"/>
            <p:cNvSpPr/>
            <p:nvPr/>
          </p:nvSpPr>
          <p:spPr>
            <a:xfrm flipV="1">
              <a:off x="5627520" y="1936440"/>
              <a:ext cx="730440" cy="144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13"/>
          <p:cNvGrpSpPr/>
          <p:nvPr/>
        </p:nvGrpSpPr>
        <p:grpSpPr>
          <a:xfrm>
            <a:off x="3049560" y="2833560"/>
            <a:ext cx="736560" cy="719280"/>
            <a:chOff x="3049560" y="2833560"/>
            <a:chExt cx="736560" cy="719280"/>
          </a:xfrm>
        </p:grpSpPr>
        <p:sp>
          <p:nvSpPr>
            <p:cNvPr id="220" name="矩形 31"/>
            <p:cNvSpPr/>
            <p:nvPr/>
          </p:nvSpPr>
          <p:spPr>
            <a:xfrm>
              <a:off x="3049560" y="2833560"/>
              <a:ext cx="736560" cy="71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32"/>
            <p:cNvSpPr/>
            <p:nvPr/>
          </p:nvSpPr>
          <p:spPr>
            <a:xfrm>
              <a:off x="3049560" y="2833560"/>
              <a:ext cx="736560" cy="7192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33"/>
            <p:cNvSpPr/>
            <p:nvPr/>
          </p:nvSpPr>
          <p:spPr>
            <a:xfrm flipH="1">
              <a:off x="3049560" y="2833560"/>
              <a:ext cx="736560" cy="7192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直接连接符 34"/>
            <p:cNvSpPr/>
            <p:nvPr/>
          </p:nvSpPr>
          <p:spPr>
            <a:xfrm>
              <a:off x="3417840" y="2833560"/>
              <a:ext cx="0" cy="7192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直接连接符 35"/>
            <p:cNvSpPr/>
            <p:nvPr/>
          </p:nvSpPr>
          <p:spPr>
            <a:xfrm flipV="1">
              <a:off x="3049560" y="3193920"/>
              <a:ext cx="728640" cy="28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13"/>
          <p:cNvGrpSpPr/>
          <p:nvPr/>
        </p:nvGrpSpPr>
        <p:grpSpPr>
          <a:xfrm>
            <a:off x="3908520" y="2833560"/>
            <a:ext cx="738000" cy="719280"/>
            <a:chOff x="3908520" y="2833560"/>
            <a:chExt cx="738000" cy="719280"/>
          </a:xfrm>
        </p:grpSpPr>
        <p:sp>
          <p:nvSpPr>
            <p:cNvPr id="226" name="矩形 37"/>
            <p:cNvSpPr/>
            <p:nvPr/>
          </p:nvSpPr>
          <p:spPr>
            <a:xfrm>
              <a:off x="3908520" y="2833560"/>
              <a:ext cx="738000" cy="71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38"/>
            <p:cNvSpPr/>
            <p:nvPr/>
          </p:nvSpPr>
          <p:spPr>
            <a:xfrm>
              <a:off x="3908520" y="2833560"/>
              <a:ext cx="738000" cy="7192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39"/>
            <p:cNvSpPr/>
            <p:nvPr/>
          </p:nvSpPr>
          <p:spPr>
            <a:xfrm flipH="1">
              <a:off x="3908520" y="2833560"/>
              <a:ext cx="738000" cy="7192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40"/>
            <p:cNvSpPr/>
            <p:nvPr/>
          </p:nvSpPr>
          <p:spPr>
            <a:xfrm>
              <a:off x="4278240" y="2833560"/>
              <a:ext cx="0" cy="7192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41"/>
            <p:cNvSpPr/>
            <p:nvPr/>
          </p:nvSpPr>
          <p:spPr>
            <a:xfrm flipV="1">
              <a:off x="3908520" y="3193920"/>
              <a:ext cx="730080" cy="28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3"/>
          <p:cNvGrpSpPr/>
          <p:nvPr/>
        </p:nvGrpSpPr>
        <p:grpSpPr>
          <a:xfrm>
            <a:off x="4768920" y="2833560"/>
            <a:ext cx="736560" cy="719280"/>
            <a:chOff x="4768920" y="2833560"/>
            <a:chExt cx="736560" cy="719280"/>
          </a:xfrm>
        </p:grpSpPr>
        <p:sp>
          <p:nvSpPr>
            <p:cNvPr id="232" name="矩形 43"/>
            <p:cNvSpPr/>
            <p:nvPr/>
          </p:nvSpPr>
          <p:spPr>
            <a:xfrm>
              <a:off x="4768920" y="2833560"/>
              <a:ext cx="736560" cy="71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44"/>
            <p:cNvSpPr/>
            <p:nvPr/>
          </p:nvSpPr>
          <p:spPr>
            <a:xfrm>
              <a:off x="4768920" y="2833560"/>
              <a:ext cx="736560" cy="7192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45"/>
            <p:cNvSpPr/>
            <p:nvPr/>
          </p:nvSpPr>
          <p:spPr>
            <a:xfrm flipH="1">
              <a:off x="4768920" y="2833560"/>
              <a:ext cx="736560" cy="7192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46"/>
            <p:cNvSpPr/>
            <p:nvPr/>
          </p:nvSpPr>
          <p:spPr>
            <a:xfrm>
              <a:off x="5137200" y="2833560"/>
              <a:ext cx="0" cy="7192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47"/>
            <p:cNvSpPr/>
            <p:nvPr/>
          </p:nvSpPr>
          <p:spPr>
            <a:xfrm flipV="1">
              <a:off x="4768920" y="3193920"/>
              <a:ext cx="728640" cy="28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3"/>
          <p:cNvGrpSpPr/>
          <p:nvPr/>
        </p:nvGrpSpPr>
        <p:grpSpPr>
          <a:xfrm>
            <a:off x="5627160" y="2833560"/>
            <a:ext cx="738720" cy="719280"/>
            <a:chOff x="5627160" y="2833560"/>
            <a:chExt cx="738720" cy="719280"/>
          </a:xfrm>
        </p:grpSpPr>
        <p:sp>
          <p:nvSpPr>
            <p:cNvPr id="238" name="矩形 49"/>
            <p:cNvSpPr/>
            <p:nvPr/>
          </p:nvSpPr>
          <p:spPr>
            <a:xfrm>
              <a:off x="5627520" y="2833560"/>
              <a:ext cx="738360" cy="719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50"/>
            <p:cNvSpPr/>
            <p:nvPr/>
          </p:nvSpPr>
          <p:spPr>
            <a:xfrm>
              <a:off x="5627520" y="2833560"/>
              <a:ext cx="738360" cy="7192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51"/>
            <p:cNvSpPr/>
            <p:nvPr/>
          </p:nvSpPr>
          <p:spPr>
            <a:xfrm flipH="1">
              <a:off x="5627160" y="2833560"/>
              <a:ext cx="738360" cy="7192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直接连接符 52"/>
            <p:cNvSpPr/>
            <p:nvPr/>
          </p:nvSpPr>
          <p:spPr>
            <a:xfrm>
              <a:off x="5997600" y="2833560"/>
              <a:ext cx="0" cy="7192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直接连接符 53"/>
            <p:cNvSpPr/>
            <p:nvPr/>
          </p:nvSpPr>
          <p:spPr>
            <a:xfrm flipV="1">
              <a:off x="5627520" y="3193920"/>
              <a:ext cx="730440" cy="2880"/>
            </a:xfrm>
            <a:prstGeom prst="line">
              <a:avLst/>
            </a:prstGeom>
            <a:ln w="6480">
              <a:solidFill>
                <a:srgbClr val="000000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3"/>
          <p:cNvSpPr/>
          <p:nvPr/>
        </p:nvSpPr>
        <p:spPr>
          <a:xfrm>
            <a:off x="3049560" y="1574640"/>
            <a:ext cx="33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7083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297083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297083"/>
                </a:solidFill>
                <a:latin typeface="黑体"/>
                <a:ea typeface="黑体"/>
              </a:rPr>
              <a:t>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3049560" y="2813040"/>
            <a:ext cx="33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97083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297083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297083"/>
                </a:solidFill>
                <a:latin typeface="黑体"/>
                <a:ea typeface="黑体"/>
              </a:rPr>
              <a:t>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矩形 2"/>
          <p:cNvSpPr/>
          <p:nvPr/>
        </p:nvSpPr>
        <p:spPr>
          <a:xfrm>
            <a:off x="404640" y="615960"/>
            <a:ext cx="847908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还记得半年前那场运动会吗？我们两个都参加了比赛。你的项目是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米和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米短跑。记得你那时脚崴了，疼得厉害，但你却强忍着疼痛一直到比赛结束，而且还获得了名次。当我去扶你的时候，你却“口是心非”地说自己没事，但我明明看到你已疼得流出了眼泪，我也只能用几句苍白无力的话语去安慰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那时我就想：有你这么坚强的朋友真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2"/>
          <p:cNvSpPr/>
          <p:nvPr/>
        </p:nvSpPr>
        <p:spPr>
          <a:xfrm>
            <a:off x="385920" y="590400"/>
            <a:ext cx="847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之后，轮到我去参加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米赛跑，是你忍着疼痛装作若无其事的样子站在跑道边为我加油，看你的样子比我还要紧张呢！砰的一声枪响，比赛开始了。由于我是新手，没有参加过训练，没有什么经验，所以当我拼尽全力跑完的那一刻，我感觉呼吸困难，一个踉跄险些栽倒在地。是你提前在终点等着我，及时搀扶了我。你把我扶到座位上，递水给我喝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看你那紧张的样子，我的心充满了无限的温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2"/>
          <p:cNvSpPr/>
          <p:nvPr/>
        </p:nvSpPr>
        <p:spPr>
          <a:xfrm>
            <a:off x="404640" y="452520"/>
            <a:ext cx="84790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那时我想：有你这样体贴的朋友真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下午的运动会，我还有一个项目是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米赛跑。记得来学校的路上，你千叮咛万嘱咐，告诉我跑步的技巧与要领。果然，在你的指导下，我获得了第一名的好成绩。这个好成绩可是有你的一半功劳哟！如果不是你的鼓励，我哪来的好成绩？朋友，有你真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矩形 2"/>
          <p:cNvSpPr/>
          <p:nvPr/>
        </p:nvSpPr>
        <p:spPr>
          <a:xfrm>
            <a:off x="544680" y="630360"/>
            <a:ext cx="818172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朋友，我要深情地感谢你！因为有你，我的童年才多姿多彩、有滋有味。我们的友情虽不及李白和汪伦的“桃花潭水深千尺，不及汪伦送我情”的轰轰烈烈，也不及王观、鲍浩然“才始送春归，又送君归去”的缠缠绵绵，但你却不再让我孤独，如阳光般温暖着我的心房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朋友，有你真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"/>
          <p:cNvSpPr/>
          <p:nvPr/>
        </p:nvSpPr>
        <p:spPr>
          <a:xfrm>
            <a:off x="887400" y="1198440"/>
            <a:ext cx="8178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点评：文章哪些地方写得好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猜猜：文中描写的是在座的哪位同学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话：请“你”说说听完后的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"/>
          <p:cNvSpPr/>
          <p:nvPr/>
        </p:nvSpPr>
        <p:spPr>
          <a:xfrm>
            <a:off x="866880" y="1022400"/>
            <a:ext cx="747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你，真好”是相对的，我们接受关爱，也应付出关爱。所以，这次习作引发我们去关注身边事、身边人，希望我们也能成为别人身边的那个温暖的人，这样，我们的生活将会充满更多爱和更多美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7"/>
          <p:cNvSpPr/>
          <p:nvPr/>
        </p:nvSpPr>
        <p:spPr>
          <a:xfrm>
            <a:off x="328680" y="201600"/>
            <a:ext cx="20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5597"/>
                </a:solidFill>
                <a:latin typeface="黑体"/>
                <a:ea typeface="黑体"/>
              </a:rPr>
              <a:t>换位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1"/>
          <p:cNvSpPr/>
          <p:nvPr/>
        </p:nvSpPr>
        <p:spPr>
          <a:xfrm>
            <a:off x="1009800" y="865080"/>
            <a:ext cx="7457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习作题目中的“你”除了是人，还可以是什么？不仅仅是人能带给我们感动，一处风景、一本书、一种精神、一种品质都能带给我们感动。而这些，都可以是我们笔下的“你”。当然，本次习作主要是写人、写事，但是在课余可以发散思维，选取不同的角度来思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328680" y="201600"/>
            <a:ext cx="20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5597"/>
                </a:solidFill>
                <a:latin typeface="黑体"/>
                <a:ea typeface="黑体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1"/>
          <p:cNvSpPr/>
          <p:nvPr/>
        </p:nvSpPr>
        <p:spPr>
          <a:xfrm>
            <a:off x="542880" y="1539720"/>
            <a:ext cx="8177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习作：有你，真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2"/>
          <p:cNvSpPr/>
          <p:nvPr/>
        </p:nvSpPr>
        <p:spPr>
          <a:xfrm>
            <a:off x="2031840" y="2671920"/>
            <a:ext cx="2578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典型事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3"/>
          <p:cNvSpPr/>
          <p:nvPr/>
        </p:nvSpPr>
        <p:spPr>
          <a:xfrm>
            <a:off x="4915080" y="2671920"/>
            <a:ext cx="2577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"/>
                <a:ea typeface="楷体"/>
              </a:rPr>
              <a:t>真情实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7"/>
          <p:cNvSpPr/>
          <p:nvPr/>
        </p:nvSpPr>
        <p:spPr>
          <a:xfrm>
            <a:off x="328680" y="201600"/>
            <a:ext cx="20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5597"/>
                </a:solidFill>
                <a:latin typeface="黑体"/>
                <a:ea typeface="黑体"/>
              </a:rPr>
              <a:t>板书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New picture" descr=""/>
          <p:cNvPicPr/>
          <p:nvPr/>
        </p:nvPicPr>
        <p:blipFill>
          <a:blip r:embed="rId1"/>
          <a:stretch/>
        </p:blipFill>
        <p:spPr>
          <a:xfrm>
            <a:off x="10312560" y="10769760"/>
            <a:ext cx="355320" cy="26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933480" y="2486160"/>
            <a:ext cx="74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大家呱呱坠地，到今天成长为一个十一二岁的少年，这一成长的路上，我们遇到了许许多多的人，有的人一直陪伴着我们，有的人只是偶尔见，有的人仅有一面之缘，在这形形色色的人当中，有没有人让你觉得特别温暖，让你从心底想说一声：有你，真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3"/>
          <p:cNvSpPr/>
          <p:nvPr/>
        </p:nvSpPr>
        <p:spPr>
          <a:xfrm>
            <a:off x="3955320" y="281160"/>
            <a:ext cx="14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课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7"/>
          <p:cNvSpPr/>
          <p:nvPr/>
        </p:nvSpPr>
        <p:spPr>
          <a:xfrm>
            <a:off x="328680" y="201600"/>
            <a:ext cx="20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5597"/>
                </a:solidFill>
                <a:latin typeface="黑体"/>
                <a:ea typeface="黑体"/>
              </a:rPr>
              <a:t>新课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1"/>
          <p:cNvSpPr/>
          <p:nvPr/>
        </p:nvSpPr>
        <p:spPr>
          <a:xfrm>
            <a:off x="914400" y="835200"/>
            <a:ext cx="79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你觉得题目中哪个词最重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1509840" y="2573280"/>
            <a:ext cx="88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"/>
          <p:cNvSpPr/>
          <p:nvPr/>
        </p:nvSpPr>
        <p:spPr>
          <a:xfrm>
            <a:off x="2635200" y="1496880"/>
            <a:ext cx="36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积极向上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2635200" y="2097000"/>
            <a:ext cx="36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温暖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5"/>
          <p:cNvSpPr/>
          <p:nvPr/>
        </p:nvSpPr>
        <p:spPr>
          <a:xfrm>
            <a:off x="2635200" y="2697120"/>
            <a:ext cx="36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对自己有影响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2635200" y="3297240"/>
            <a:ext cx="362448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帮助过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左大括号 7"/>
          <p:cNvSpPr/>
          <p:nvPr/>
        </p:nvSpPr>
        <p:spPr>
          <a:xfrm>
            <a:off x="2382840" y="1704960"/>
            <a:ext cx="252360" cy="2473200"/>
          </a:xfrm>
          <a:custGeom>
            <a:avLst/>
            <a:gdLst>
              <a:gd name="textAreaLeft" fmla="*/ 161280 w 252360"/>
              <a:gd name="textAreaRight" fmla="*/ 252720 w 252360"/>
              <a:gd name="textAreaTop" fmla="*/ 40320 h 2473200"/>
              <a:gd name="textAreaBottom" fmla="*/ 2432880 h 247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4"/>
                  <a:pt x="10800" y="1127"/>
                </a:cubicBezTo>
                <a:lnTo>
                  <a:pt x="10800" y="9673"/>
                </a:lnTo>
                <a:cubicBezTo>
                  <a:pt x="10800" y="10237"/>
                  <a:pt x="5400" y="10800"/>
                  <a:pt x="0" y="10800"/>
                </a:cubicBezTo>
                <a:cubicBezTo>
                  <a:pt x="5400" y="10800"/>
                  <a:pt x="10800" y="11364"/>
                  <a:pt x="10800" y="11927"/>
                </a:cubicBezTo>
                <a:lnTo>
                  <a:pt x="10800" y="20473"/>
                </a:lnTo>
                <a:cubicBezTo>
                  <a:pt x="10800" y="2103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484200" y="769320"/>
            <a:ext cx="8286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看到“有你，真好”这句话，你想到了谁？为什么觉得有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她“真好”？看看下面的思维导图，你还会想到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"/>
          <p:cNvPicPr/>
          <p:nvPr/>
        </p:nvPicPr>
        <p:blipFill>
          <a:blip r:embed="rId1"/>
          <a:stretch/>
        </p:blipFill>
        <p:spPr>
          <a:xfrm>
            <a:off x="2646360" y="2798640"/>
            <a:ext cx="1285920" cy="142740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19"/>
          <p:cNvGrpSpPr/>
          <p:nvPr/>
        </p:nvGrpSpPr>
        <p:grpSpPr>
          <a:xfrm>
            <a:off x="4073400" y="1760400"/>
            <a:ext cx="717840" cy="555840"/>
            <a:chOff x="4073400" y="1760400"/>
            <a:chExt cx="717840" cy="555840"/>
          </a:xfrm>
        </p:grpSpPr>
        <p:sp>
          <p:nvSpPr>
            <p:cNvPr id="258" name="文本框 5"/>
            <p:cNvSpPr/>
            <p:nvPr/>
          </p:nvSpPr>
          <p:spPr>
            <a:xfrm>
              <a:off x="4073400" y="1874160"/>
              <a:ext cx="71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开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6"/>
            <p:cNvSpPr/>
            <p:nvPr/>
          </p:nvSpPr>
          <p:spPr>
            <a:xfrm>
              <a:off x="4073400" y="1760400"/>
              <a:ext cx="554400" cy="55584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7"/>
          <p:cNvSpPr/>
          <p:nvPr/>
        </p:nvSpPr>
        <p:spPr>
          <a:xfrm>
            <a:off x="4719600" y="1655640"/>
            <a:ext cx="14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一起玩游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（分享快乐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20"/>
          <p:cNvGrpSpPr/>
          <p:nvPr/>
        </p:nvGrpSpPr>
        <p:grpSpPr>
          <a:xfrm>
            <a:off x="4556160" y="2422440"/>
            <a:ext cx="719280" cy="555840"/>
            <a:chOff x="4556160" y="2422440"/>
            <a:chExt cx="719280" cy="555840"/>
          </a:xfrm>
        </p:grpSpPr>
        <p:sp>
          <p:nvSpPr>
            <p:cNvPr id="262" name="文本框 8"/>
            <p:cNvSpPr/>
            <p:nvPr/>
          </p:nvSpPr>
          <p:spPr>
            <a:xfrm>
              <a:off x="4556160" y="25228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难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9"/>
            <p:cNvSpPr/>
            <p:nvPr/>
          </p:nvSpPr>
          <p:spPr>
            <a:xfrm>
              <a:off x="4556160" y="2422440"/>
              <a:ext cx="555840" cy="55584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10"/>
          <p:cNvSpPr/>
          <p:nvPr/>
        </p:nvSpPr>
        <p:spPr>
          <a:xfrm>
            <a:off x="5181480" y="2220840"/>
            <a:ext cx="143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亲人离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爸妈吵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（安慰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21"/>
          <p:cNvGrpSpPr/>
          <p:nvPr/>
        </p:nvGrpSpPr>
        <p:grpSpPr>
          <a:xfrm>
            <a:off x="4719600" y="3084480"/>
            <a:ext cx="719280" cy="574560"/>
            <a:chOff x="4719600" y="3084480"/>
            <a:chExt cx="719280" cy="574560"/>
          </a:xfrm>
        </p:grpSpPr>
        <p:sp>
          <p:nvSpPr>
            <p:cNvPr id="266" name="文本框 11"/>
            <p:cNvSpPr/>
            <p:nvPr/>
          </p:nvSpPr>
          <p:spPr>
            <a:xfrm>
              <a:off x="4719600" y="30844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烦躁不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12"/>
            <p:cNvSpPr/>
            <p:nvPr/>
          </p:nvSpPr>
          <p:spPr>
            <a:xfrm>
              <a:off x="4719600" y="3103200"/>
              <a:ext cx="555840" cy="55584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文本框 13"/>
          <p:cNvSpPr/>
          <p:nvPr/>
        </p:nvSpPr>
        <p:spPr>
          <a:xfrm>
            <a:off x="5508720" y="3017880"/>
            <a:ext cx="192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运动会上失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喜欢的东西丢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（开导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22"/>
          <p:cNvGrpSpPr/>
          <p:nvPr/>
        </p:nvGrpSpPr>
        <p:grpSpPr>
          <a:xfrm>
            <a:off x="4556160" y="3776760"/>
            <a:ext cx="719280" cy="574560"/>
            <a:chOff x="4556160" y="3776760"/>
            <a:chExt cx="719280" cy="574560"/>
          </a:xfrm>
        </p:grpSpPr>
        <p:sp>
          <p:nvSpPr>
            <p:cNvPr id="270" name="文本框 14"/>
            <p:cNvSpPr/>
            <p:nvPr/>
          </p:nvSpPr>
          <p:spPr>
            <a:xfrm>
              <a:off x="4556160" y="37767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骄傲自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15"/>
            <p:cNvSpPr/>
            <p:nvPr/>
          </p:nvSpPr>
          <p:spPr>
            <a:xfrm>
              <a:off x="4556160" y="3795480"/>
              <a:ext cx="555840" cy="55584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16"/>
          <p:cNvSpPr/>
          <p:nvPr/>
        </p:nvSpPr>
        <p:spPr>
          <a:xfrm>
            <a:off x="5273640" y="3809880"/>
            <a:ext cx="192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作文得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拟考全班第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（点醒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23"/>
          <p:cNvGrpSpPr/>
          <p:nvPr/>
        </p:nvGrpSpPr>
        <p:grpSpPr>
          <a:xfrm>
            <a:off x="4154400" y="4359240"/>
            <a:ext cx="717480" cy="555840"/>
            <a:chOff x="4154400" y="4359240"/>
            <a:chExt cx="717480" cy="555840"/>
          </a:xfrm>
        </p:grpSpPr>
        <p:sp>
          <p:nvSpPr>
            <p:cNvPr id="274" name="文本框 17"/>
            <p:cNvSpPr/>
            <p:nvPr/>
          </p:nvSpPr>
          <p:spPr>
            <a:xfrm>
              <a:off x="4154400" y="4467240"/>
              <a:ext cx="7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18"/>
            <p:cNvSpPr/>
            <p:nvPr/>
          </p:nvSpPr>
          <p:spPr>
            <a:xfrm>
              <a:off x="4154400" y="4359240"/>
              <a:ext cx="554040" cy="555840"/>
            </a:xfrm>
            <a:prstGeom prst="ellipse">
              <a:avLst/>
            </a:prstGeom>
            <a:noFill/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直接连接符 25"/>
          <p:cNvSpPr/>
          <p:nvPr/>
        </p:nvSpPr>
        <p:spPr>
          <a:xfrm flipV="1">
            <a:off x="3610080" y="2234880"/>
            <a:ext cx="544320" cy="563400"/>
          </a:xfrm>
          <a:prstGeom prst="line">
            <a:avLst/>
          </a:prstGeom>
          <a:ln w="64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27"/>
          <p:cNvSpPr/>
          <p:nvPr/>
        </p:nvSpPr>
        <p:spPr>
          <a:xfrm flipV="1">
            <a:off x="3890880" y="2897280"/>
            <a:ext cx="747720" cy="117360"/>
          </a:xfrm>
          <a:prstGeom prst="line">
            <a:avLst/>
          </a:prstGeom>
          <a:ln w="64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29"/>
          <p:cNvSpPr/>
          <p:nvPr/>
        </p:nvSpPr>
        <p:spPr>
          <a:xfrm>
            <a:off x="3906720" y="3362400"/>
            <a:ext cx="812880" cy="19080"/>
          </a:xfrm>
          <a:prstGeom prst="line">
            <a:avLst/>
          </a:prstGeom>
          <a:ln w="64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31"/>
          <p:cNvSpPr/>
          <p:nvPr/>
        </p:nvSpPr>
        <p:spPr>
          <a:xfrm>
            <a:off x="3878280" y="3633840"/>
            <a:ext cx="677880" cy="439560"/>
          </a:xfrm>
          <a:prstGeom prst="line">
            <a:avLst/>
          </a:prstGeom>
          <a:ln w="64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33"/>
          <p:cNvSpPr/>
          <p:nvPr/>
        </p:nvSpPr>
        <p:spPr>
          <a:xfrm>
            <a:off x="3792600" y="3902040"/>
            <a:ext cx="442800" cy="538200"/>
          </a:xfrm>
          <a:prstGeom prst="line">
            <a:avLst/>
          </a:prstGeom>
          <a:ln w="648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7"/>
          <p:cNvSpPr/>
          <p:nvPr/>
        </p:nvSpPr>
        <p:spPr>
          <a:xfrm>
            <a:off x="328680" y="201600"/>
            <a:ext cx="20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5597"/>
                </a:solidFill>
                <a:latin typeface="黑体"/>
                <a:ea typeface="黑体"/>
              </a:rPr>
              <a:t>打开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776160" y="540360"/>
            <a:ext cx="800424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在你最难过的时候，是同桌安慰了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在你烦躁不安的时候，是（    ）开导了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在你（      ）的时候，是（    ）点醒了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在你（      ）的时候，是（    ）鼓舞了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在你（        ）的时候，是（    ）帮助了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"/>
          <p:cNvSpPr/>
          <p:nvPr/>
        </p:nvSpPr>
        <p:spPr>
          <a:xfrm>
            <a:off x="5102280" y="1754280"/>
            <a:ext cx="10954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"/>
                <a:ea typeface="楷体"/>
              </a:rPr>
              <a:t>妈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2260440" y="2349360"/>
            <a:ext cx="10972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"/>
                <a:ea typeface="楷体"/>
              </a:rPr>
              <a:t>迷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4"/>
          <p:cNvSpPr/>
          <p:nvPr/>
        </p:nvSpPr>
        <p:spPr>
          <a:xfrm>
            <a:off x="5402160" y="2349360"/>
            <a:ext cx="1096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"/>
                <a:ea typeface="楷体"/>
              </a:rPr>
              <a:t>老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5"/>
          <p:cNvSpPr/>
          <p:nvPr/>
        </p:nvSpPr>
        <p:spPr>
          <a:xfrm>
            <a:off x="2260440" y="2948040"/>
            <a:ext cx="10972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"/>
                <a:ea typeface="楷体"/>
              </a:rPr>
              <a:t>沮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6"/>
          <p:cNvSpPr/>
          <p:nvPr/>
        </p:nvSpPr>
        <p:spPr>
          <a:xfrm>
            <a:off x="5402160" y="2948040"/>
            <a:ext cx="1096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"/>
                <a:ea typeface="楷体"/>
              </a:rPr>
              <a:t>爸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7"/>
          <p:cNvSpPr/>
          <p:nvPr/>
        </p:nvSpPr>
        <p:spPr>
          <a:xfrm>
            <a:off x="2130480" y="3567240"/>
            <a:ext cx="16714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"/>
                <a:ea typeface="楷体"/>
              </a:rPr>
              <a:t>遇到困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8"/>
          <p:cNvSpPr/>
          <p:nvPr/>
        </p:nvSpPr>
        <p:spPr>
          <a:xfrm>
            <a:off x="5769000" y="3548160"/>
            <a:ext cx="952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楷体"/>
                <a:ea typeface="楷体"/>
              </a:rPr>
              <a:t>朋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1"/>
          <p:cNvSpPr/>
          <p:nvPr/>
        </p:nvSpPr>
        <p:spPr>
          <a:xfrm>
            <a:off x="911160" y="923760"/>
            <a:ext cx="76262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如何体现“有你，真好”中的“你”带给自己的种种感动和温暖？这当然离不开</a:t>
            </a:r>
            <a:r>
              <a:rPr b="1" lang="zh-CN" sz="3000" spc="-1" strike="noStrike">
                <a:solidFill>
                  <a:srgbClr val="ff0000"/>
                </a:solidFill>
                <a:latin typeface="宋体"/>
                <a:ea typeface="宋体"/>
              </a:rPr>
              <a:t>典型事例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，写人主要是通过写事来展现的。通过一件件事，一个个场景，我们能看出人物的性格、品质等特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7"/>
          <p:cNvSpPr/>
          <p:nvPr/>
        </p:nvSpPr>
        <p:spPr>
          <a:xfrm>
            <a:off x="328680" y="201600"/>
            <a:ext cx="20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5597"/>
                </a:solidFill>
                <a:latin typeface="黑体"/>
                <a:ea typeface="黑体"/>
              </a:rPr>
              <a:t>细化选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1"/>
          <p:cNvSpPr/>
          <p:nvPr/>
        </p:nvSpPr>
        <p:spPr>
          <a:xfrm>
            <a:off x="587520" y="276120"/>
            <a:ext cx="7358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哪件事或哪几件事让你印象深刻？当时的场景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3480" y="1446120"/>
          <a:ext cx="7773840" cy="3257640"/>
        </p:xfrm>
        <a:graphic>
          <a:graphicData uri="http://schemas.openxmlformats.org/drawingml/2006/table">
            <a:tbl>
              <a:tblPr/>
              <a:tblGrid>
                <a:gridCol w="1738440"/>
                <a:gridCol w="2993760"/>
                <a:gridCol w="3041640"/>
              </a:tblGrid>
              <a:tr h="814320">
                <a:tc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你，真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印象深刻的事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当时的场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430200" y="84240"/>
            <a:ext cx="7358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年闰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的伯父鲁迅先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两篇文章用了哪些事例来突出人物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80880" y="1154160"/>
          <a:ext cx="8410680" cy="3611520"/>
        </p:xfrm>
        <a:graphic>
          <a:graphicData uri="http://schemas.openxmlformats.org/drawingml/2006/table">
            <a:tbl>
              <a:tblPr/>
              <a:tblGrid>
                <a:gridCol w="1747800"/>
                <a:gridCol w="2371680"/>
                <a:gridCol w="4291200"/>
              </a:tblGrid>
              <a:tr h="538200">
                <a:tc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你，真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印象深刻的事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当时的场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矩形 3"/>
          <p:cNvSpPr/>
          <p:nvPr/>
        </p:nvSpPr>
        <p:spPr>
          <a:xfrm>
            <a:off x="2325600" y="1949400"/>
            <a:ext cx="2076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闰土给“我”讲新鲜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"/>
          <p:cNvSpPr/>
          <p:nvPr/>
        </p:nvSpPr>
        <p:spPr>
          <a:xfrm>
            <a:off x="4525920" y="1608120"/>
            <a:ext cx="426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闰土依次介绍了雪地捕鸟、海边拾贝、看瓜刺猹和看跳鱼儿等新鲜事，其中雪地捕鸟和看瓜刺猹介绍得尤为详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5"/>
          <p:cNvSpPr/>
          <p:nvPr/>
        </p:nvSpPr>
        <p:spPr>
          <a:xfrm>
            <a:off x="2254320" y="3697200"/>
            <a:ext cx="2076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伯父受人爱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6"/>
          <p:cNvSpPr/>
          <p:nvPr/>
        </p:nvSpPr>
        <p:spPr>
          <a:xfrm>
            <a:off x="4525920" y="3187800"/>
            <a:ext cx="4265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回忆了伯父生前的几件事：谈</a:t>
            </a:r>
            <a:r>
              <a:rPr b="1" lang="en-US" sz="2400" spc="-1" strike="noStrike">
                <a:solidFill>
                  <a:srgbClr val="0033cc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水浒传</a:t>
            </a:r>
            <a:r>
              <a:rPr b="1" lang="en-US" sz="2400" spc="-1" strike="noStrike">
                <a:solidFill>
                  <a:srgbClr val="0033cc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楷体"/>
                <a:ea typeface="楷体"/>
              </a:rPr>
              <a:t>、笑谈“碰壁”、除夕放花筒、救助车夫、关心女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28T07:54:30Z</dcterms:created>
  <dc:creator>第一PPT模板网-WWW.1PPT.COM</dc:creator>
  <dc:description/>
  <dc:language>en-US</dc:language>
  <cp:lastModifiedBy>罗</cp:lastModifiedBy>
  <cp:lastPrinted>2021-05-28T07:54:30Z</cp:lastPrinted>
  <dcterms:modified xsi:type="dcterms:W3CDTF">2023-10-26T03:03:51Z</dcterms:modified>
  <cp:revision>4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89DB9B512EA46BDAC988E4112FFAB4B_12</vt:lpwstr>
  </property>
  <property fmtid="{D5CDD505-2E9C-101B-9397-08002B2CF9AE}" pid="3" name="KSOProductBuildVer">
    <vt:lpwstr>2052-12.1.0.15712</vt:lpwstr>
  </property>
  <property fmtid="{D5CDD505-2E9C-101B-9397-08002B2CF9AE}" pid="4" name="album">
    <vt:lpwstr>rbm.xkw.com</vt:lpwstr>
  </property>
  <property fmtid="{D5CDD505-2E9C-101B-9397-08002B2CF9AE}" pid="5" name="author">
    <vt:lpwstr>rbm.xkw.com</vt:lpwstr>
  </property>
  <property fmtid="{D5CDD505-2E9C-101B-9397-08002B2CF9AE}" pid="6" name="company">
    <vt:lpwstr>学科网</vt:lpwstr>
  </property>
  <property fmtid="{D5CDD505-2E9C-101B-9397-08002B2CF9AE}" pid="7" name="copyright">
    <vt:lpwstr>学科网版权所有</vt:lpwstr>
  </property>
</Properties>
</file>